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98C-C56A-4219-8BEE-C90703E0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E0D-4A0B-47B8-B661-5830C3A4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715-76C7-419A-88F8-63254EF5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39B-5B8C-45E8-B455-DEB7E3DC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E97-8244-4D12-A9C6-5CC22DC4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9D2-2E54-4AAF-B178-75BD247F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0BE-6F4B-4B7F-A307-8B6C1D25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300-E9C8-4D80-A6ED-3C45CEB2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504-D455-4E28-952C-A436D219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21B-0396-45EF-9391-213D6EE8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99A-2E5D-4D04-B47D-24C1F418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B54-5FD3-4672-BAB8-02B68D9A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0731-0B32-48FC-9BB6-D680E676F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197000"/>
            <a:ext cx="3384720" cy="194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 produtor de soro – 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orrentes importam 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rcado exte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1197000"/>
            <a:ext cx="3384360" cy="1944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raqu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50% do faturamento da linh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dutrial corresponde ao s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uita dependênci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penas um produ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3284640"/>
            <a:ext cx="3384720" cy="19447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aç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itas empresas que produz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ijo estão começand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zir soro em pó – núm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concorrentes com custo mai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ixo irá aument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3284640"/>
            <a:ext cx="3384360" cy="194472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portun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a demanda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gredientes funcionais – Parce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empresa que produ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anoencapsul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26360" y="54144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álise SWOT - Al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16000" y="1773360"/>
            <a:ext cx="1440" cy="4608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163440" y="221904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116000" y="6381720"/>
            <a:ext cx="669600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6720" y="6373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sempen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547640" y="2205000"/>
            <a:ext cx="5040360" cy="2448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92360" y="2637000"/>
            <a:ext cx="6335640" cy="72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92360" y="3716280"/>
            <a:ext cx="6335640" cy="72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1146400">
            <a:off x="5724360" y="233208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erformance demandada cliente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high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1146400">
            <a:off x="5796000" y="341136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erformance demandada cliente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low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0071800">
            <a:off x="1402200" y="43574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odut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4365720"/>
            <a:ext cx="43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635280" y="4365360"/>
            <a:ext cx="136836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071800">
            <a:off x="3562560" y="47178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Produt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003640" y="2997000"/>
            <a:ext cx="2881440" cy="1368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464652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erformance X Desempe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22:29:41Z</dcterms:created>
  <dc:creator>3M</dc:creator>
  <dc:description/>
  <dc:language>en-US</dc:language>
  <cp:lastModifiedBy>3M</cp:lastModifiedBy>
  <dcterms:modified xsi:type="dcterms:W3CDTF">2010-03-04T22:34:35Z</dcterms:modified>
  <cp:revision>4</cp:revision>
  <dc:subject/>
  <dc:title>Slide 1</dc:title>
</cp:coreProperties>
</file>