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523-0800-41D8-9ECF-CCCCFF74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B1-FFD9-4D8C-B744-5E466108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751-0B84-437F-B82C-29732A2F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1EA-FBDF-4A74-B569-2A549B1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D77-7E3A-4361-A0A3-12FCCA6F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2A1-5C6B-4A82-B6BC-BAA502A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8F8-3F20-4ABD-A7D6-13A8A2C0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A60-439A-4A76-886D-F21C967E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5A9-F5D5-4FC0-A0A8-7D02AA8D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BDD-6F51-4861-A82E-DB3B874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210-1568-4C49-98C1-4B27D19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D0E-0170-4257-A0B3-E44DF85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DEEB-8992-4F74-AB83-8B7A5415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9700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produtor de soro –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orrentes importam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ad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119700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a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% do faturamento da lin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dutrial corresponde ao s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ita dependênci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enas um produ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464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a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itas empresas que produz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ijo estão começan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zir soro em pó –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oncorrentes com custo ma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 irá aumen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284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portun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a demanda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gredientes funcionais – Parc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mpresa que produ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noencapsul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541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SWOT - Al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773360"/>
            <a:ext cx="1440" cy="46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63440" y="22190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6381720"/>
            <a:ext cx="66960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6373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47640" y="2205000"/>
            <a:ext cx="504036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263700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92360" y="371628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146400">
            <a:off x="5724360" y="23320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high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46400">
            <a:off x="5796000" y="3411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ow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071800">
            <a:off x="1402200" y="43574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odu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365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4365360"/>
            <a:ext cx="136836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071800">
            <a:off x="3562560" y="471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du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2997000"/>
            <a:ext cx="288144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6465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2:29:41Z</dcterms:created>
  <dc:creator>3M</dc:creator>
  <dc:description/>
  <dc:language>en-US</dc:language>
  <cp:lastModifiedBy>3M</cp:lastModifiedBy>
  <dcterms:modified xsi:type="dcterms:W3CDTF">2010-03-04T22:34:35Z</dcterms:modified>
  <cp:revision>4</cp:revision>
  <dc:subject/>
  <dc:title>Slide 1</dc:title>
</cp:coreProperties>
</file>