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25C-F936-42BD-8610-0560AE4C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48A-7F6D-40EF-9C69-04F8863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255-B682-4FE3-991F-C09ADFE7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644-8760-4989-987C-F6A6002C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79C-204E-4B76-AB85-A8EAE72A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B30-EECE-43EA-B670-B8A7F6C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AD8-847D-481F-BD97-1BB9780F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72D-81C3-4C38-B17A-11127FB2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3EC-47C8-4563-B30F-B9E5CFF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436-F947-4D26-BA5F-15CD3CB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A04-BCA2-407A-B0B4-BC99BDF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FA9-C835-4F85-9167-94B1200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D65-6F78-44A0-8394-4BD9C11C6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9700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produtor de soro –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orrentes importam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ad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119700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a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% do faturamento da lin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dutrial corresponde ao s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ita dependênci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enas um produ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464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a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itas empresas que produz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ijo estão começan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zir soro em pó –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oncorrentes com custo ma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 irá aumen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284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portun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a demanda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gredientes funcionais – Parc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mpresa que produ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noencapsul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541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SWOT - Al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773360"/>
            <a:ext cx="1440" cy="46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63440" y="22190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6381720"/>
            <a:ext cx="66960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6373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47640" y="2205000"/>
            <a:ext cx="504036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263700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92360" y="371628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146400">
            <a:off x="5724360" y="23320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high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46400">
            <a:off x="5796000" y="3411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ow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071800">
            <a:off x="1402200" y="43574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odu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365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4365360"/>
            <a:ext cx="136836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071800">
            <a:off x="3562560" y="471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du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2997000"/>
            <a:ext cx="288144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6465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2:29:41Z</dcterms:created>
  <dc:creator>3M</dc:creator>
  <dc:description/>
  <dc:language>en-US</dc:language>
  <cp:lastModifiedBy>3M</cp:lastModifiedBy>
  <dcterms:modified xsi:type="dcterms:W3CDTF">2010-03-04T22:34:35Z</dcterms:modified>
  <cp:revision>4</cp:revision>
  <dc:subject/>
  <dc:title>Slide 1</dc:title>
</cp:coreProperties>
</file>