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3D7-4639-4C4C-BF42-6C76DDCC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046-D51A-47B2-A06E-DD6D99EB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24D-12CC-4B4B-B60B-DDC40AEE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983-232B-4E97-A6A6-1BAF0260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F75-6726-464C-8383-B3E6157D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D10-6980-4E8B-933C-84D14A70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474-E585-4231-BF06-5C1623C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A6B-910D-47D4-A96D-A2CBC67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BEC-80C6-460B-85B4-66217542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1A5-2A80-4993-8B59-8E7A7E5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E48-8C88-4BCC-9BD7-FF3FE80F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CFB-A019-4D31-A870-00B53A3C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1F16-4408-45C7-B2A6-E055B10DC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9700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produtor de soro –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orrentes importam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ad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119700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a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% do faturamento da lin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dutrial corresponde ao s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ita dependênci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enas um produ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464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a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itas empresas que produz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ijo estão começan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zir soro em pó –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oncorrentes com custo ma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 irá aumen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284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portun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a demanda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gredientes funcionais – Parc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mpresa que produ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noencapsul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541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SWOT - Al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773360"/>
            <a:ext cx="1440" cy="46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63440" y="22190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6381720"/>
            <a:ext cx="66960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6373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47640" y="2205000"/>
            <a:ext cx="504036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263700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92360" y="371628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146400">
            <a:off x="5724360" y="23320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high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46400">
            <a:off x="5796000" y="3411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ow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071800">
            <a:off x="1402200" y="43574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odu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365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4365360"/>
            <a:ext cx="136836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071800">
            <a:off x="3562560" y="471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du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2997000"/>
            <a:ext cx="288144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6465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2:29:41Z</dcterms:created>
  <dc:creator>3M</dc:creator>
  <dc:description/>
  <dc:language>en-US</dc:language>
  <cp:lastModifiedBy>3M</cp:lastModifiedBy>
  <dcterms:modified xsi:type="dcterms:W3CDTF">2010-03-04T22:34:35Z</dcterms:modified>
  <cp:revision>4</cp:revision>
  <dc:subject/>
  <dc:title>Slide 1</dc:title>
</cp:coreProperties>
</file>