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5F97-7450-4A08-8F81-9712775EA13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EFCF-7D29-4354-A3B3-7611A1DFF60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9418-9D7C-4866-94F6-B3D0419D2BD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CF86-0976-47E9-B5E8-C3AB529573C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91B7-3AFB-4FD1-910C-2B27106CCAC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5F4F-94A8-40D6-A785-CB68BE0E1FF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85E0-4099-418F-A170-CA7519784EF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35B9-A58A-496F-A8DC-65A52BE5720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160D-34FE-4817-A870-779595BAEF9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5964-9301-4BBD-AA48-A9B326E1934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DCBD-4D88-4735-AB2E-8FD649E3A8B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2779-A061-4578-8089-3383AA17DAB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B704-011E-4B8A-922C-4CBC08BECAE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E26F-5BD1-496C-AB7C-9CC6BB6698B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A9E7-D5EA-4DA9-8529-2391CAC1A4A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6019-F119-46F9-8108-29872C64F25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90FF-B0B2-4EB9-857A-039FBBDD38C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EADB-BB46-4FB4-BA27-709E08BCC89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C1D29-FED4-44D9-A470-BFAC4BEF3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B278-6475-4E59-83F2-C8E813B67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1AB43-C1F7-4E76-BE5F-590813D84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8BF26-F203-49F0-AEFC-F632F876D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6CDC-58EE-404E-A45F-703D47F6A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90B1-85AF-452D-B56B-8DC96C6C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A04CC-E78E-46DA-9AE0-67C91EB2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04812-9B94-400B-9B0B-77F557D4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E1268-7D80-4713-AFE4-C5866502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20D34-F5C1-4A76-B748-BC89D3C0C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D542C-C16E-421A-9881-DC60A4AA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93B7D-669F-4F2E-81D7-B3F21823B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2DEE-98D3-4BE8-8E27-CD696C71F364}"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arteiras Administradas</a:t>
            </a:r>
            <a:r>
              <a:rPr b="0" lang="pt-BR"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V</a:t>
            </a:r>
            <a:r>
              <a:rPr b="0" lang="pt-BR"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nos</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Qualificador</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Importante</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custGeom>
            <a:avLst/>
            <a:gdLst/>
            <a:ahLst/>
            <a:rect l="l" t="t" r="r" b="b"/>
            <a:pathLst>
              <a:path w="1310326" h="1423447">
                <a:moveTo>
                  <a:pt x="0" y="1423447"/>
                </a:moveTo>
                <a:cubicBezTo>
                  <a:pt x="215245" y="1366886"/>
                  <a:pt x="430491" y="1310326"/>
                  <a:pt x="593889" y="1216058"/>
                </a:cubicBezTo>
                <a:cubicBezTo>
                  <a:pt x="757287" y="1121790"/>
                  <a:pt x="873551" y="1011810"/>
                  <a:pt x="980388" y="857839"/>
                </a:cubicBezTo>
                <a:cubicBezTo>
                  <a:pt x="1087225" y="703868"/>
                  <a:pt x="1179921" y="435204"/>
                  <a:pt x="1234911" y="292231"/>
                </a:cubicBezTo>
                <a:cubicBezTo>
                  <a:pt x="1289901" y="149258"/>
                  <a:pt x="1300113" y="74629"/>
                  <a:pt x="1310326" y="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custGeom>
            <a:avLst/>
            <a:gdLst/>
            <a:ahLst/>
            <a:rect l="l" t="t" r="r" b="b"/>
            <a:pathLst>
              <a:path w="4185501" h="2347274">
                <a:moveTo>
                  <a:pt x="4185501" y="0"/>
                </a:moveTo>
                <a:lnTo>
                  <a:pt x="4091233" y="9427"/>
                </a:lnTo>
                <a:cubicBezTo>
                  <a:pt x="3967114" y="17283"/>
                  <a:pt x="3662314" y="23567"/>
                  <a:pt x="3440784" y="47134"/>
                </a:cubicBezTo>
                <a:cubicBezTo>
                  <a:pt x="3219254" y="70701"/>
                  <a:pt x="2971015" y="103695"/>
                  <a:pt x="2762054" y="150829"/>
                </a:cubicBezTo>
                <a:cubicBezTo>
                  <a:pt x="2553093" y="197963"/>
                  <a:pt x="2347275" y="278091"/>
                  <a:pt x="2187019" y="329938"/>
                </a:cubicBezTo>
                <a:cubicBezTo>
                  <a:pt x="2026763" y="381785"/>
                  <a:pt x="1934067" y="406923"/>
                  <a:pt x="1800520" y="461913"/>
                </a:cubicBezTo>
                <a:cubicBezTo>
                  <a:pt x="1666973" y="516903"/>
                  <a:pt x="1500433" y="600173"/>
                  <a:pt x="1385740" y="659876"/>
                </a:cubicBezTo>
                <a:cubicBezTo>
                  <a:pt x="1271047" y="719579"/>
                  <a:pt x="1190920" y="772998"/>
                  <a:pt x="1112363" y="820132"/>
                </a:cubicBezTo>
                <a:cubicBezTo>
                  <a:pt x="1033806" y="867266"/>
                  <a:pt x="986672" y="886119"/>
                  <a:pt x="914400" y="942680"/>
                </a:cubicBezTo>
                <a:cubicBezTo>
                  <a:pt x="842128" y="999241"/>
                  <a:pt x="755715" y="1087225"/>
                  <a:pt x="678730" y="1159497"/>
                </a:cubicBezTo>
                <a:cubicBezTo>
                  <a:pt x="601745" y="1231769"/>
                  <a:pt x="521617" y="1271047"/>
                  <a:pt x="452487" y="1376313"/>
                </a:cubicBezTo>
                <a:cubicBezTo>
                  <a:pt x="383357" y="1481579"/>
                  <a:pt x="326796" y="1654404"/>
                  <a:pt x="263951" y="1791093"/>
                </a:cubicBezTo>
                <a:cubicBezTo>
                  <a:pt x="201106" y="1927782"/>
                  <a:pt x="119407" y="2103748"/>
                  <a:pt x="75415" y="2196445"/>
                </a:cubicBezTo>
                <a:cubicBezTo>
                  <a:pt x="31423" y="2289142"/>
                  <a:pt x="14140" y="2320565"/>
                  <a:pt x="0" y="2347274"/>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77720"/>
            <a:ext cx="8229600" cy="6237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guns setores com os quais o setor financeiro se relaciona sã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mmodit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arejo em Gera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ergétic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elecomunicaçõ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strução Civi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ranspor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urismo.</a:t>
            </a:r>
            <a:endParaRPr b="0" lang="en-US" sz="18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umindo, o setor financeiro está diretamente ligado à movimentação de capital em todos os se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56"/>
          <p:cNvSpPr/>
          <p:nvPr/>
        </p:nvSpPr>
        <p:spPr>
          <a:xfrm>
            <a:off x="142920" y="2549520"/>
            <a:ext cx="8856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1f497d"/>
                </a:solidFill>
                <a:latin typeface="Arial"/>
              </a:rPr>
              <a:t>Obrigado!</a:t>
            </a: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Clima</a:t>
            </a:r>
            <a:r>
              <a:rPr b="0" lang="pt-BR"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Logística</a:t>
            </a:r>
            <a:r>
              <a:rPr b="0" lang="pt-BR"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Economia </a:t>
            </a:r>
            <a:r>
              <a:rPr b="0" lang="pt-BR" sz="1400" spc="-1" strike="noStrike">
                <a:solidFill>
                  <a:srgbClr val="000000"/>
                </a:solidFill>
                <a:latin typeface="Arial"/>
              </a:rPr>
              <a:t>– O cenário econômico está diretamente relacionado com o setor,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Mercado Externo </a:t>
            </a:r>
            <a:r>
              <a:rPr b="0" lang="pt-BR"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Hábitos do Consumidor</a:t>
            </a:r>
            <a:r>
              <a:rPr b="0" lang="pt-BR"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Poder de Barganha  </a:t>
            </a:r>
            <a:r>
              <a:rPr b="0" lang="pt-BR"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Preocupação Ambiental  </a:t>
            </a:r>
            <a:r>
              <a:rPr b="0" lang="pt-BR"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Custo</a:t>
            </a:r>
            <a:r>
              <a:rPr b="0" lang="pt-BR"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K: Inovação</a:t>
            </a:r>
            <a:r>
              <a:rPr b="0" lang="pt-BR"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Concorrência </a:t>
            </a:r>
            <a:r>
              <a:rPr b="0" lang="pt-BR"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Qualidade </a:t>
            </a:r>
            <a:r>
              <a:rPr b="0" lang="pt-BR"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 Geração Futuro oferece um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FIA</a:t>
            </a:r>
            <a:r>
              <a:rPr b="0" lang="pt-BR"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abertos</a:t>
            </a:r>
            <a:r>
              <a:rPr b="0" lang="pt-BR"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exclusivos</a:t>
            </a:r>
            <a:r>
              <a:rPr b="0" lang="pt-BR"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Elektro</cp:lastModifiedBy>
  <dcterms:modified xsi:type="dcterms:W3CDTF">2010-04-07T13:55:17Z</dcterms:modified>
  <cp:revision>35</cp:revision>
  <dc:subject/>
  <dc:title>Slide 1</dc:title>
</cp:coreProperties>
</file>