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6026-45EB-4268-A4F7-9D7F9C72606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C174-53A1-46E1-8116-5FCC6566BFB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4FFA-974B-4961-858F-9415C5C75B9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17A0-4B4E-4CB5-AA7F-70B1B5743CD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D7AC-A617-499C-A195-119A22AE695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D89F-CEA7-4928-BD17-0221410433C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33F7-D599-47B9-8B5D-A75C2CDD41C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B55B-A673-4BF9-A3B1-E78F7133B57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B77A-E758-4FF4-A89D-7558819000E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4090-D074-4525-9758-1306CF79936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04A9-DD57-4536-96D9-9EFFD9755B3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8E3F-9436-49B4-9C10-93272B36350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4DEF-CEBA-41B3-AACA-90FDAE78B46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C2ED-D2A3-4AB7-BD31-A6390540656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A739-8E1A-4CD4-B721-D18B5557D39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182D-D659-4F75-833E-FC032A524D1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F03C-1460-49F2-AA33-6B444060346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BCDA-A1ED-4F8D-A157-9AE27715C8F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B4C36-91E7-4278-A95E-EB9C38AAC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E3D89-D925-44D7-9537-A6C3B0544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99438-3645-4A5C-9561-C0D0597AC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E294A-9DEB-41CF-916B-730B7B0B9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6891-16AD-4012-828A-0536607E6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B571-CC08-4106-86A5-13699D8F8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4401-F2DE-4DE5-AC7A-D4FC9DDFE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7BC1-DC9D-4D97-87B1-7F5F435F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7EB3D-EC3F-4392-8F10-0875D6F5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A366E-8C6D-4A1F-8DA4-0799A79D6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BE6B-876F-4D95-8E18-A2201BDD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452A-80D4-4FF0-80CE-5066344F7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8C76-DE34-4A18-ACEF-90D6217BA2B3}"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arteiras Administradas</a:t>
            </a:r>
            <a:r>
              <a:rPr b="0" lang="pt-BR"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AV</a:t>
            </a:r>
            <a:r>
              <a:rPr b="0" lang="pt-BR"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nos</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Qualificador</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Importante</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custGeom>
            <a:avLst/>
            <a:gdLst/>
            <a:ahLst/>
            <a:rect l="l" t="t" r="r" b="b"/>
            <a:pathLst>
              <a:path w="1310326" h="1423447">
                <a:moveTo>
                  <a:pt x="0" y="1423447"/>
                </a:moveTo>
                <a:cubicBezTo>
                  <a:pt x="215245" y="1366886"/>
                  <a:pt x="430491" y="1310326"/>
                  <a:pt x="593889" y="1216058"/>
                </a:cubicBezTo>
                <a:cubicBezTo>
                  <a:pt x="757287" y="1121790"/>
                  <a:pt x="873551" y="1011810"/>
                  <a:pt x="980388" y="857839"/>
                </a:cubicBezTo>
                <a:cubicBezTo>
                  <a:pt x="1087225" y="703868"/>
                  <a:pt x="1179921" y="435204"/>
                  <a:pt x="1234911" y="292231"/>
                </a:cubicBezTo>
                <a:cubicBezTo>
                  <a:pt x="1289901" y="149258"/>
                  <a:pt x="1300113" y="74629"/>
                  <a:pt x="1310326" y="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custGeom>
            <a:avLst/>
            <a:gdLst/>
            <a:ahLst/>
            <a:rect l="l" t="t" r="r" b="b"/>
            <a:pathLst>
              <a:path w="4185501" h="2347274">
                <a:moveTo>
                  <a:pt x="4185501" y="0"/>
                </a:moveTo>
                <a:lnTo>
                  <a:pt x="4091233" y="9427"/>
                </a:lnTo>
                <a:cubicBezTo>
                  <a:pt x="3967114" y="17283"/>
                  <a:pt x="3662314" y="23567"/>
                  <a:pt x="3440784" y="47134"/>
                </a:cubicBezTo>
                <a:cubicBezTo>
                  <a:pt x="3219254" y="70701"/>
                  <a:pt x="2971015" y="103695"/>
                  <a:pt x="2762054" y="150829"/>
                </a:cubicBezTo>
                <a:cubicBezTo>
                  <a:pt x="2553093" y="197963"/>
                  <a:pt x="2347275" y="278091"/>
                  <a:pt x="2187019" y="329938"/>
                </a:cubicBezTo>
                <a:cubicBezTo>
                  <a:pt x="2026763" y="381785"/>
                  <a:pt x="1934067" y="406923"/>
                  <a:pt x="1800520" y="461913"/>
                </a:cubicBezTo>
                <a:cubicBezTo>
                  <a:pt x="1666973" y="516903"/>
                  <a:pt x="1500433" y="600173"/>
                  <a:pt x="1385740" y="659876"/>
                </a:cubicBezTo>
                <a:cubicBezTo>
                  <a:pt x="1271047" y="719579"/>
                  <a:pt x="1190920" y="772998"/>
                  <a:pt x="1112363" y="820132"/>
                </a:cubicBezTo>
                <a:cubicBezTo>
                  <a:pt x="1033806" y="867266"/>
                  <a:pt x="986672" y="886119"/>
                  <a:pt x="914400" y="942680"/>
                </a:cubicBezTo>
                <a:cubicBezTo>
                  <a:pt x="842128" y="999241"/>
                  <a:pt x="755715" y="1087225"/>
                  <a:pt x="678730" y="1159497"/>
                </a:cubicBezTo>
                <a:cubicBezTo>
                  <a:pt x="601745" y="1231769"/>
                  <a:pt x="521617" y="1271047"/>
                  <a:pt x="452487" y="1376313"/>
                </a:cubicBezTo>
                <a:cubicBezTo>
                  <a:pt x="383357" y="1481579"/>
                  <a:pt x="326796" y="1654404"/>
                  <a:pt x="263951" y="1791093"/>
                </a:cubicBezTo>
                <a:cubicBezTo>
                  <a:pt x="201106" y="1927782"/>
                  <a:pt x="119407" y="2103748"/>
                  <a:pt x="75415" y="2196445"/>
                </a:cubicBezTo>
                <a:cubicBezTo>
                  <a:pt x="31423" y="2289142"/>
                  <a:pt x="14140" y="2320565"/>
                  <a:pt x="0" y="2347274"/>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77720"/>
            <a:ext cx="8229600" cy="6237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guns setores com os quais o setor financeiro se relaciona sã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mmoditi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arejo em Gera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ergétic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elecomunicaçõ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strução Civi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ranspor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urismo.</a:t>
            </a:r>
            <a:endParaRPr b="0" lang="en-US" sz="18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umindo, o setor financeiro está diretamente ligado à movimentação de capital em todos os se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56"/>
          <p:cNvSpPr/>
          <p:nvPr/>
        </p:nvSpPr>
        <p:spPr>
          <a:xfrm>
            <a:off x="142920" y="2549520"/>
            <a:ext cx="8856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1f497d"/>
                </a:solidFill>
                <a:latin typeface="Arial"/>
              </a:rPr>
              <a:t>Obrigado!</a:t>
            </a: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Clima</a:t>
            </a:r>
            <a:r>
              <a:rPr b="0" lang="pt-BR"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Logística</a:t>
            </a:r>
            <a:r>
              <a:rPr b="0" lang="pt-BR"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Economia </a:t>
            </a:r>
            <a:r>
              <a:rPr b="0" lang="pt-BR" sz="1400" spc="-1" strike="noStrike">
                <a:solidFill>
                  <a:srgbClr val="000000"/>
                </a:solidFill>
                <a:latin typeface="Arial"/>
              </a:rPr>
              <a:t>– O cenário econômico está diretamente relacionado com o setor,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Mercado Externo </a:t>
            </a:r>
            <a:r>
              <a:rPr b="0" lang="pt-BR"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Hábitos do Consumidor</a:t>
            </a:r>
            <a:r>
              <a:rPr b="0" lang="pt-BR"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Poder de Barganha  </a:t>
            </a:r>
            <a:r>
              <a:rPr b="0" lang="pt-BR"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Preocupação Ambiental  </a:t>
            </a:r>
            <a:r>
              <a:rPr b="0" lang="pt-BR"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Custo</a:t>
            </a:r>
            <a:r>
              <a:rPr b="0" lang="pt-BR"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K: Inovação</a:t>
            </a:r>
            <a:r>
              <a:rPr b="0" lang="pt-BR"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J: Concorrência </a:t>
            </a:r>
            <a:r>
              <a:rPr b="0" lang="pt-BR"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Qualidade </a:t>
            </a:r>
            <a:r>
              <a:rPr b="0" lang="pt-BR"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 Geração Futuro oferece um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FIA</a:t>
            </a:r>
            <a:r>
              <a:rPr b="0" lang="pt-BR"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abertos</a:t>
            </a:r>
            <a:r>
              <a:rPr b="0" lang="pt-BR"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exclusivos</a:t>
            </a:r>
            <a:r>
              <a:rPr b="0" lang="pt-BR"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Elektro</cp:lastModifiedBy>
  <dcterms:modified xsi:type="dcterms:W3CDTF">2010-04-07T13:55:17Z</dcterms:modified>
  <cp:revision>35</cp:revision>
  <dc:subject/>
  <dc:title>Slide 1</dc:title>
</cp:coreProperties>
</file>