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9ECB-D662-4519-9E25-F4FE5462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F8AC-C2DC-4DFE-B944-771D77B8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F361-A182-47CD-86A5-19F00C58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0AC-28E4-4502-A620-B2B87294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41B3-0F5E-4C32-BB10-E6D82FE7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529-264E-49E8-8BA3-7FE716F4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781F-7E13-4C83-ADDE-5ECF11CB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F8D6-C659-4E86-A22F-180A7001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2F6-EA68-4F2C-9D2D-93A69688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3A6-3306-414D-9DB9-F5FEC833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1BE6-D133-4CF4-8071-1000796F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8358-A948-4613-B720-DA5DDE0B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880A-F160-4CAB-8198-21733711A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- C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 - Log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- Cu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 - Mercado ex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- Hábitos do consum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- Ec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 - Poder de bargan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 - Preocupação 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 - Qu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 - Concor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K - Ino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 - Ambiente Polí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5724360" y="1484280"/>
            <a:ext cx="3095640" cy="2975760"/>
            <a:chOff x="5724360" y="1484280"/>
            <a:chExt cx="3095640" cy="2975760"/>
          </a:xfrm>
        </p:grpSpPr>
        <p:sp>
          <p:nvSpPr>
            <p:cNvPr id="43" name=""/>
            <p:cNvSpPr/>
            <p:nvPr/>
          </p:nvSpPr>
          <p:spPr>
            <a:xfrm>
              <a:off x="5724360" y="1484280"/>
              <a:ext cx="2376720" cy="2736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867280" y="1484280"/>
              <a:ext cx="2952720" cy="29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A - Cli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B - Logís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C- Cu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D - Mercado ext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E - Hábitos do consumi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F- Econo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G - Poder de barganh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H - Preocupação  Ambi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I - Qualid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J - Concorrê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K - Inov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L - Ambiente Polí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 rot="16200000">
            <a:off x="130680" y="263736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Imp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0680" y="436572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Grau de Incert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00000" y="1317600"/>
            <a:ext cx="4494240" cy="2906640"/>
            <a:chOff x="900000" y="1317600"/>
            <a:chExt cx="4494240" cy="2906640"/>
          </a:xfrm>
        </p:grpSpPr>
        <p:sp>
          <p:nvSpPr>
            <p:cNvPr id="48" name=""/>
            <p:cNvSpPr/>
            <p:nvPr/>
          </p:nvSpPr>
          <p:spPr>
            <a:xfrm>
              <a:off x="900000" y="1341360"/>
              <a:ext cx="2232000" cy="144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32000" y="1341360"/>
              <a:ext cx="2232000" cy="14414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00000" y="2782800"/>
              <a:ext cx="2232000" cy="14414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32000" y="2782800"/>
              <a:ext cx="2232000" cy="144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27640" y="170028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70480" y="17226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17520" y="1533600"/>
              <a:ext cx="43200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60720" y="155592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09880" y="1389240"/>
              <a:ext cx="432000" cy="433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53080" y="14112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62600" y="131760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05440" y="133992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6240" y="213372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89080" y="215568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9880" y="1892160"/>
              <a:ext cx="40176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52720" y="1914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93880" y="160488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37080" y="16272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46240" y="2900520"/>
              <a:ext cx="431640" cy="433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89080" y="292248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46240" y="333360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89080" y="3355920"/>
              <a:ext cx="22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46240" y="2181240"/>
              <a:ext cx="43200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88720" y="2203560"/>
              <a:ext cx="27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09880" y="3044880"/>
              <a:ext cx="43164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52720" y="3067200"/>
              <a:ext cx="30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06600" y="1892160"/>
              <a:ext cx="432000" cy="433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49440" y="1914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25080" y="134136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60720" y="4292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98560" y="4221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Ba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160" y="39337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Arial Narrow"/>
              </a:rPr>
              <a:t>Ba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0:20:34Z</dcterms:created>
  <dc:creator>IST</dc:creator>
  <dc:description/>
  <dc:language>en-US</dc:language>
  <cp:lastModifiedBy>IST</cp:lastModifiedBy>
  <dcterms:modified xsi:type="dcterms:W3CDTF">2010-02-23T01:11:06Z</dcterms:modified>
  <cp:revision>5</cp:revision>
  <dc:subject/>
  <dc:title>Slide 1</dc:title>
</cp:coreProperties>
</file>