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BE7-24A9-4973-B1EE-0321571B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C8D-372D-40CB-86FB-BF0747D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661-B14F-468C-BA8B-FFD83978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AF6-651A-4DFC-8772-B14B93A7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0B7-2A80-4AA5-A8FB-E1EA75A4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4BA-1AED-4E6D-83DB-587D61B7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5BB-1C2E-412C-9956-E71F5276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C54-8612-4E2B-B15D-83F3C25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344-FA78-4FDC-8973-DF3B45AE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482-C381-4F54-8B2B-63E37F2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A46-488A-4ADD-A41D-8ABDAB22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1DC-9973-40D6-A58D-317CC52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6916-1D01-44DD-A4C2-95B82968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- C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-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- C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 - Mercado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- Hábitos do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-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 - Poder de barga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 - Preocupação 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-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 - 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 - 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- Ambiente Po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724360" y="1484280"/>
            <a:ext cx="3095640" cy="2975760"/>
            <a:chOff x="5724360" y="1484280"/>
            <a:chExt cx="3095640" cy="2975760"/>
          </a:xfrm>
        </p:grpSpPr>
        <p:sp>
          <p:nvSpPr>
            <p:cNvPr id="43" name=""/>
            <p:cNvSpPr/>
            <p:nvPr/>
          </p:nvSpPr>
          <p:spPr>
            <a:xfrm>
              <a:off x="5724360" y="148428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67280" y="148428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 rot="16200000">
            <a:off x="130680" y="26373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0680" y="43657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00000" y="1317600"/>
            <a:ext cx="4494240" cy="2906640"/>
            <a:chOff x="900000" y="1317600"/>
            <a:chExt cx="4494240" cy="2906640"/>
          </a:xfrm>
        </p:grpSpPr>
        <p:sp>
          <p:nvSpPr>
            <p:cNvPr id="48" name=""/>
            <p:cNvSpPr/>
            <p:nvPr/>
          </p:nvSpPr>
          <p:spPr>
            <a:xfrm>
              <a:off x="900000" y="1341360"/>
              <a:ext cx="2232000" cy="144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1341360"/>
              <a:ext cx="2232000" cy="1441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00000" y="2782800"/>
              <a:ext cx="2232000" cy="1441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2000" y="2782800"/>
              <a:ext cx="2232000" cy="144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27640" y="17002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70480" y="17226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7520" y="153360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60720" y="1555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9880" y="1389240"/>
              <a:ext cx="432000" cy="43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53080" y="1411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62600" y="131760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05440" y="1339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6240" y="213372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89080" y="21556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1892160"/>
              <a:ext cx="40176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52720" y="1914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93880" y="16048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37080" y="16272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6240" y="2900520"/>
              <a:ext cx="431640" cy="43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9080" y="29224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6240" y="333360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9080" y="3355920"/>
              <a:ext cx="2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46240" y="218124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88720" y="220356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09880" y="30448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52720" y="3067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6600" y="189216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49440" y="1914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5080" y="134136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0720" y="429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856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160" y="3933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0:20:34Z</dcterms:created>
  <dc:creator>IST</dc:creator>
  <dc:description/>
  <dc:language>en-US</dc:language>
  <cp:lastModifiedBy>IST</cp:lastModifiedBy>
  <dcterms:modified xsi:type="dcterms:W3CDTF">2010-02-23T01:11:06Z</dcterms:modified>
  <cp:revision>5</cp:revision>
  <dc:subject/>
  <dc:title>Slide 1</dc:title>
</cp:coreProperties>
</file>