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7AF9-D140-4F87-8958-C0600C6A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A20D-FE81-4F4D-8140-16FBD275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3B21-A0EB-4464-AD9B-C3E0D959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AE6E-1ED2-49BA-8336-9B200F89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1D46-F4D4-44DC-B903-FC92583F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E8DA-E497-4D3E-BF10-0D7F127F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FF12-34D5-4F95-94C0-AA6F5A10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A75B-F2F5-48AA-AA82-CB72E6E5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BEA2-C151-4DC2-B8AE-B30830F2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4B60-2087-4374-A8EF-52F7FC63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720B-1F70-451F-B873-8DBBBC49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5A31-A54F-435B-98B7-82E993EF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F0CB-144A-45DE-B05D-0222B1605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62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- Cl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 - Log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- Cu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 - Mercado ex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- Hábitos do consum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- Econo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 - Poder de bargan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 - Preocupação 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 - Qu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 - Concor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K - Inov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 - Ambiente Polí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5724360" y="1484280"/>
            <a:ext cx="3095640" cy="2975760"/>
            <a:chOff x="5724360" y="1484280"/>
            <a:chExt cx="3095640" cy="2975760"/>
          </a:xfrm>
        </p:grpSpPr>
        <p:sp>
          <p:nvSpPr>
            <p:cNvPr id="43" name=""/>
            <p:cNvSpPr/>
            <p:nvPr/>
          </p:nvSpPr>
          <p:spPr>
            <a:xfrm>
              <a:off x="5724360" y="1484280"/>
              <a:ext cx="2376720" cy="2736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867280" y="1484280"/>
              <a:ext cx="2952720" cy="29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A - Cli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B - Logís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C- Cus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D - Mercado exter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E - Hábitos do consumi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F- Econom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G - Poder de barganh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H - Preocupação  Ambi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I - Qualid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J - Concorrê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K - Inov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L - Ambiente Polít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 rot="16200000">
            <a:off x="130680" y="263736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Imp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0680" y="436572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Grau de Incert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00000" y="1317600"/>
            <a:ext cx="4494240" cy="2906640"/>
            <a:chOff x="900000" y="1317600"/>
            <a:chExt cx="4494240" cy="2906640"/>
          </a:xfrm>
        </p:grpSpPr>
        <p:sp>
          <p:nvSpPr>
            <p:cNvPr id="48" name=""/>
            <p:cNvSpPr/>
            <p:nvPr/>
          </p:nvSpPr>
          <p:spPr>
            <a:xfrm>
              <a:off x="900000" y="1341360"/>
              <a:ext cx="2232000" cy="1441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32000" y="1341360"/>
              <a:ext cx="2232000" cy="14414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00000" y="2782800"/>
              <a:ext cx="2232000" cy="14414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32000" y="2782800"/>
              <a:ext cx="2232000" cy="1441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427640" y="1700280"/>
              <a:ext cx="43164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70480" y="172260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17520" y="1533600"/>
              <a:ext cx="43200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60720" y="155592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09880" y="1389240"/>
              <a:ext cx="432000" cy="433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53080" y="141120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62600" y="1317600"/>
              <a:ext cx="43164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05440" y="133992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6240" y="2133720"/>
              <a:ext cx="43164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89080" y="215568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09880" y="1892160"/>
              <a:ext cx="40176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52720" y="1914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93880" y="1604880"/>
              <a:ext cx="43164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37080" y="16272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46240" y="2900520"/>
              <a:ext cx="431640" cy="433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89080" y="292248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46240" y="3333600"/>
              <a:ext cx="43164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89080" y="3355920"/>
              <a:ext cx="22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46240" y="2181240"/>
              <a:ext cx="43200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88720" y="2203560"/>
              <a:ext cx="27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09880" y="3044880"/>
              <a:ext cx="43164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52720" y="306720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06600" y="1892160"/>
              <a:ext cx="43200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49440" y="1914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25080" y="134136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60720" y="42926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98560" y="4221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Ba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160" y="39337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Ba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00:20:34Z</dcterms:created>
  <dc:creator>IST</dc:creator>
  <dc:description/>
  <dc:language>en-US</dc:language>
  <cp:lastModifiedBy>IST</cp:lastModifiedBy>
  <dcterms:modified xsi:type="dcterms:W3CDTF">2010-02-23T01:11:06Z</dcterms:modified>
  <cp:revision>5</cp:revision>
  <dc:subject/>
  <dc:title>Slide 1</dc:title>
</cp:coreProperties>
</file>