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6A53-57B0-44BA-A3BD-F9F9FFA41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C2A4-5E9C-4803-B136-13D968864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F55B-B063-4E87-9854-F62F56C90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202C-22A9-4509-BFCD-43E8190F7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BCC1-A9E0-4A17-96C4-FDF7AA4D0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1A5D-8248-4ABE-A648-3A0E40AC2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7DBE-F561-49CC-96E3-9A803286F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E532-278E-4581-93F8-2A48A69E6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9387-65F5-402E-B520-27255A36E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B772-3432-4CB1-9786-72F031B4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A13C-3C69-4D70-A970-2C1FAFDE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B2CE-C21C-4611-8C81-CD06EF7D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0B895-54C1-49A1-899C-34553CB671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362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- Cl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 - Logí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- Cu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 - Mercado ext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 - Hábitos do consumi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- Econo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 - Poder de bargan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 - Preocupação  Ambi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 - Qual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J - Concorr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K - Inov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 - Ambiente Polí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5724360" y="1484280"/>
            <a:ext cx="3095640" cy="2975760"/>
            <a:chOff x="5724360" y="1484280"/>
            <a:chExt cx="3095640" cy="2975760"/>
          </a:xfrm>
        </p:grpSpPr>
        <p:sp>
          <p:nvSpPr>
            <p:cNvPr id="43" name=""/>
            <p:cNvSpPr/>
            <p:nvPr/>
          </p:nvSpPr>
          <p:spPr>
            <a:xfrm>
              <a:off x="5724360" y="1484280"/>
              <a:ext cx="2376720" cy="2736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867280" y="1484280"/>
              <a:ext cx="2952720" cy="29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A - Clim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B - Logíst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C- Cus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D - Mercado exter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E - Hábitos do consumid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F- Econom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G - Poder de barganh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H - Preocupação  Ambien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I - Qualida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J - Concorrênc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K - Inovaçã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L - Ambiente Políti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"/>
          <p:cNvSpPr/>
          <p:nvPr/>
        </p:nvSpPr>
        <p:spPr>
          <a:xfrm rot="16200000">
            <a:off x="130680" y="263736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Impa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0680" y="4365720"/>
            <a:ext cx="17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Grau de Incert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900000" y="1317600"/>
            <a:ext cx="4494240" cy="2906640"/>
            <a:chOff x="900000" y="1317600"/>
            <a:chExt cx="4494240" cy="2906640"/>
          </a:xfrm>
        </p:grpSpPr>
        <p:sp>
          <p:nvSpPr>
            <p:cNvPr id="48" name=""/>
            <p:cNvSpPr/>
            <p:nvPr/>
          </p:nvSpPr>
          <p:spPr>
            <a:xfrm>
              <a:off x="900000" y="1341360"/>
              <a:ext cx="2232000" cy="14414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132000" y="1341360"/>
              <a:ext cx="2232000" cy="14414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00000" y="2782800"/>
              <a:ext cx="2232000" cy="14414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132000" y="2782800"/>
              <a:ext cx="2232000" cy="14414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427640" y="1700280"/>
              <a:ext cx="431640" cy="433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70480" y="1722600"/>
              <a:ext cx="30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 Narrow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217520" y="1533600"/>
              <a:ext cx="432000" cy="433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260720" y="1555920"/>
              <a:ext cx="30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 Narrow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809880" y="1389240"/>
              <a:ext cx="432000" cy="4330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853080" y="1411200"/>
              <a:ext cx="30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 Narrow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962600" y="1317600"/>
              <a:ext cx="431640" cy="433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05440" y="1339920"/>
              <a:ext cx="30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 Narrow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146240" y="2133720"/>
              <a:ext cx="431640" cy="433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189080" y="215568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 Narrow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809880" y="1892160"/>
              <a:ext cx="401760" cy="433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52720" y="19144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 Narrow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793880" y="1604880"/>
              <a:ext cx="431640" cy="433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837080" y="162720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 Narrow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146240" y="2900520"/>
              <a:ext cx="431640" cy="4330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189080" y="2922480"/>
              <a:ext cx="30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 Narrow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146240" y="3333600"/>
              <a:ext cx="431640" cy="433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189080" y="3355920"/>
              <a:ext cx="22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 Narrow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946240" y="2181240"/>
              <a:ext cx="432000" cy="433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988720" y="2203560"/>
              <a:ext cx="27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 Narro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009880" y="3044880"/>
              <a:ext cx="431640" cy="433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52720" y="3067200"/>
              <a:ext cx="30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 Narrow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306600" y="1892160"/>
              <a:ext cx="432000" cy="433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349440" y="19144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 Narrow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325080" y="134136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Arial Narrow"/>
              </a:rPr>
              <a:t>A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60720" y="429264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Arial Narrow"/>
              </a:rPr>
              <a:t>A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98560" y="4221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Arial Narrow"/>
              </a:rPr>
              <a:t>Baix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2160" y="393372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Arial Narrow"/>
              </a:rPr>
              <a:t>Baix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3T00:20:34Z</dcterms:created>
  <dc:creator>IST</dc:creator>
  <dc:description/>
  <dc:language>en-US</dc:language>
  <cp:lastModifiedBy>IST</cp:lastModifiedBy>
  <dcterms:modified xsi:type="dcterms:W3CDTF">2010-02-23T01:11:06Z</dcterms:modified>
  <cp:revision>5</cp:revision>
  <dc:subject/>
  <dc:title>Slide 1</dc:title>
</cp:coreProperties>
</file>