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AB7-FB55-4FFB-B474-DFC01711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7E0-D889-4395-800C-5E960E52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C59-6D4E-44B9-837D-35B932C8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215-3F97-46E8-A4D2-3D9BD385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ED2-95CF-4215-BF56-C7C65EF0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364-2E1A-436B-A2A8-D2FCA3C9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8A6-C769-4FEA-B0F2-FF0D8EA8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21D-615C-4EC1-BC09-A82F7D47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AF8-20A8-4E7B-9B6C-4635A6E1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E71-95B1-4EB2-8E9B-87908AAC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DEE-2A6A-4150-967A-2D37579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723-97B2-4E0E-A3F9-689E50F2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4C7B-78E0-4EEF-B760-4B66B2A9D625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7467480" y="99072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05120" y="9907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1752480" y="464832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438280" y="243828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4952880" y="1066680"/>
            <a:ext cx="381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905120" y="160020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114800" y="1905120"/>
            <a:ext cx="380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ustific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ENTELA (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Para o  setor de transportes, quanto maior a clientela, maior o impacto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SOCIAL 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social não afeta o setor de transpor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TECNOLÓGICO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tecnológico tem um impacto razoável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JURÍDICO (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jurídico afeta razoavelmente o impacto e grau de incert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NCORRÊNCIA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concorrência gera um grande impacto e um grande grau de incert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ECONÔMICO (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econômico gera um grande impacto e um razoável grau de incerte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POLÍTICO (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político tem um impacto razoável, mas o grau de incerteza não é afet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AMBIENTE FÍSICO (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mbiente físico tem um grande impacto, mas o grau de incerteza razo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is fatores chaves do Se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990360"/>
            <a:ext cx="8229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Nos últimos anos a economia mundial e a economia brasileira têm sofrido mudanças importantes, apresentando nos últimos 10 anos taxas de expansão de 46 %, enquanto o Brasil acumulou no mesmo período uma taxa de 25 %. A infra-estrutura de transportes é muito importante para o desenvolvimento do país. O transporte rodoviário representa cerca de 60% de tudo que é transportado no Brasil, acarretando no custo país, tornando o menos competitivo no mercado internacional que chegou-se a conclusão de que é extremamente necessário maiores investimento no sistema de transportes, proporcionando manutenção as rodovias, restaurando as ferrovias e principalmente investimento na criação de vias navegáveis. Desta maneira adequando melhor a matriz de transportes brasileira, melhorando a qualidade de escoamento da produção e assim, torna-se mais competitivo no mercado mundial.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ransporte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01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4:26:22Z</dcterms:created>
  <dc:creator>602782885</dc:creator>
  <dc:description/>
  <dc:language>en-US</dc:language>
  <cp:lastModifiedBy>agv logistica</cp:lastModifiedBy>
  <dcterms:modified xsi:type="dcterms:W3CDTF">2010-02-25T20:44:39Z</dcterms:modified>
  <cp:revision>18</cp:revision>
  <dc:subject/>
  <dc:title>Slide 1</dc:title>
</cp:coreProperties>
</file>