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5B5-47B2-4F5D-9D4D-A6490EB8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BCC-22D3-4F95-9F15-F5D46B39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09C-C29E-49CA-A41D-7FF85BCE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24B-4FB1-4C56-B79D-BA3F10A2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011-EB73-4671-AE2A-1D5785CC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EE6-EB2B-48FE-A8AF-1BC2477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B9D-5465-4EF3-B0FB-D44BB2E1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0F2-59FC-435F-BD4D-A2335156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385-A87F-4AA0-999A-7EC25B0D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1AC-925F-4FE0-BE3F-8BCFF50A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4E0-2C8E-4AC2-AF8B-2A555F9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84F-0E6B-4715-ADA5-966CF2F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DCA-967A-420F-82DA-0481144D418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467480" y="9907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05120" y="9907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752480" y="46483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438280" y="24382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952880" y="10666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905120" y="16002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114800" y="19051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st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ENTELA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ra o  setor de transportes, quanto maior a clientela, maior o impacto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SOCIAL 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social não afeta o setor de transpor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TECNOLÓGICO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tecnológ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JURÍDICO 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jurídico afeta razoavelmente o impacto e grau de incert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CORRÊNCIA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concorrência gera um grande impacto e um grande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ECONÔMICO (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econômico gera um grande impacto e um razoável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POLÍTICO (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polít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FÍSICO (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físico tem um grande impacto, mas o grau de incerteza razo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is fatores chaves do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9036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s últimos anos a economia mundial e a economia brasileira têm sofrido mudanças importantes, apresentando nos últimos 10 anos taxas de expansão de 46 %, enquanto o Brasil acumulou no mesmo período uma taxa de 25 %. A infra-estrutura de transportes é muito importante para o desenvolvimento do país. O transporte rodoviário representa cerca de 60% de tudo que é transportado no Brasil, acarretando no custo país, tornando o menos competitivo no mercado internacional que chegou-se a conclusão de que é extremamente necessário maiores investimento no sistema de transportes, proporcionando manutenção as rodovias, restaurando as ferrovias e principalmente investimento na criação de vias navegáveis. Desta maneira adequando melhor a matriz de transportes brasileira, melhorando a qualidade de escoamento da produção e assim, torna-se mais competitivo no mercado mundial.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ransporte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1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26:22Z</dcterms:created>
  <dc:creator>602782885</dc:creator>
  <dc:description/>
  <dc:language>en-US</dc:language>
  <cp:lastModifiedBy>agv logistica</cp:lastModifiedBy>
  <dcterms:modified xsi:type="dcterms:W3CDTF">2010-02-25T20:44:39Z</dcterms:modified>
  <cp:revision>18</cp:revision>
  <dc:subject/>
  <dc:title>Slide 1</dc:title>
</cp:coreProperties>
</file>