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434-3792-486D-BAC6-A35B650B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68E-2BA3-48E2-B9AA-B8B9913E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597-0FB3-4A9B-9F06-FAC6FA92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917-7256-4A6D-AD0E-79F0F0DF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D08F-8028-4E71-86B6-F31860FF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0BD-BF1A-49FD-A74A-A07E91FD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17B-0D45-44C8-83FF-9B7551A7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923-2AAD-4D5F-A84C-C7E666CE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646-C695-47D1-BAE6-4BD2E1D7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6BC-9762-46D2-821A-84794E22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14B-4BC7-44C2-BD46-3999A259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2A1-F95A-4F48-AFC5-424804AE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E82E-D68E-4C84-B6FE-4FE91C4FEDB1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7467480" y="99072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05120" y="9907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752480" y="464832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438280" y="243828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029200" y="243828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4952880" y="106668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1905120" y="160020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4114800" y="19051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ust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ENTELA 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ra o  setor de transportes, quanto maior a clientela, maior o impacto, mas o grau de incerteza não é afe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SOCIAL 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social não afeta o setor de transpor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TECNOLÓGICO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tecnológico tem um impacto razoável, mas o grau de incerteza não é afe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JURÍDICO (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jurídico afeta razoavelmente o impacto e grau de incert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ONCORRÊNCIA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concorrência gera um grande impacto e um grande grau de incert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ECONÔMICO (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econômico gera um grande impacto e um razoável grau de incert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POLÍTICO (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político tem um impacto razoável, mas o grau de incerteza não é afe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FÍSICO (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físico tem um grande impacto, mas o grau de incerteza razoá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is fatores chaves do Se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990360"/>
            <a:ext cx="8229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os últimos anos a economia mundial e a economia brasileira têm sofrido mudanças importantes, apresentando nos últimos 10 anos taxas de expansão de 46 %, enquanto o Brasil acumulou no mesmo período uma taxa de 25 %. A infra-estrutura de transportes é muito importante para o desenvolvimento do país. O transporte rodoviário representa cerca de 60% de tudo que é transportado no Brasil, acarretando no custo país, tornando o menos competitivo no mercado internacional que chegou-se a conclusão de que é extremamente necessário maiores investimento no sistema de transportes, proporcionando manutenção as rodovias, restaurando as ferrovias e principalmente investimento na criação de vias navegáveis. Desta maneira adequando melhor a matriz de transportes brasileira, melhorando a qualidade de escoamento da produção e assim, torna-se mais competitivo no mercado mundial.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ransporte n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018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4:26:22Z</dcterms:created>
  <dc:creator>602782885</dc:creator>
  <dc:description/>
  <dc:language>en-US</dc:language>
  <cp:lastModifiedBy>agv logistica</cp:lastModifiedBy>
  <dcterms:modified xsi:type="dcterms:W3CDTF">2010-02-25T20:44:39Z</dcterms:modified>
  <cp:revision>18</cp:revision>
  <dc:subject/>
  <dc:title>Slide 1</dc:title>
</cp:coreProperties>
</file>