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A3F3-11F2-44D3-BAC9-0C23C8463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AA1B-7410-472F-8AA1-777D72EF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EE06-90DD-4010-845E-CFC6B915F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3F92-3E6E-4F48-A515-9458AE674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B735-4880-469C-B5E3-3900B5C1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2E6B-C5AC-4524-8D35-4A573D9A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4498-873A-4FDB-82D8-432744B7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3805-432A-4C27-9AC3-98D7512C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4005-6473-4A3F-9D20-A1093B84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1C08-5A98-42AD-996F-52CD6155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930F-F55F-4351-966E-9B8FA165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5E9D-D4F2-4492-A85E-2BB17664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4E5A-617C-4470-B4AA-4EF223859279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458200" cy="56386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7467480" y="990720"/>
            <a:ext cx="381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05120" y="990720"/>
            <a:ext cx="380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1752480" y="4648320"/>
            <a:ext cx="381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2438280" y="2438280"/>
            <a:ext cx="381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5029200" y="2438280"/>
            <a:ext cx="380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4952880" y="1066680"/>
            <a:ext cx="381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1905120" y="1600200"/>
            <a:ext cx="380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5"/>
          <p:cNvSpPr/>
          <p:nvPr/>
        </p:nvSpPr>
        <p:spPr>
          <a:xfrm>
            <a:off x="4114800" y="1905120"/>
            <a:ext cx="380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Justific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CLIENTELA (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ara o  setor de transportes, quanto maior a clientela, maior o impacto, mas o grau de incerteza não é afet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AMBIENTE SOCIAL 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 ambiente social não afeta o setor de transpor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AMBIENTE TECNOLÓGICO 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 ambiente tecnológico tem um impacto razoável, mas o grau de incerteza não é afet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AMBIENTE JURÍDICO (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 ambiente jurídico afeta razoavelmente o impacto e grau de incerte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CONCORRÊNCIA (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 concorrência gera um grande impacto e um grande grau de incertez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AMBIENTE ECONÔMICO (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 ambiente econômico gera um grande impacto e um razoável grau de incertez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AMBIENTE POLÍTICO (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 ambiente político tem um impacto razoável, mas o grau de incerteza não é afet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AMBIENTE FÍSICO (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 ambiente físico tem um grande impacto, mas o grau de incerteza razoá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incipais fatores chaves do Se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990360"/>
            <a:ext cx="8229600" cy="51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Nos últimos anos a economia mundial e a economia brasileira têm sofrido mudanças importantes, apresentando nos últimos 10 anos taxas de expansão de 46 %, enquanto o Brasil acumulou no mesmo período uma taxa de 25 %. A infra-estrutura de transportes é muito importante para o desenvolvimento do país. O transporte rodoviário representa cerca de 60% de tudo que é transportado no Brasil, acarretando no custo país, tornando o menos competitivo no mercado internacional que chegou-se a conclusão de que é extremamente necessário maiores investimento no sistema de transportes, proporcionando manutenção as rodovias, restaurando as ferrovias e principalmente investimento na criação de vias navegáveis. Desta maneira adequando melhor a matriz de transportes brasileira, melhorando a qualidade de escoamento da produção e assim, torna-se mais competitivo no mercado mundial.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transporte no 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600200" y="2133720"/>
            <a:ext cx="60181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4:26:22Z</dcterms:created>
  <dc:creator>602782885</dc:creator>
  <dc:description/>
  <dc:language>en-US</dc:language>
  <cp:lastModifiedBy>agv logistica</cp:lastModifiedBy>
  <dcterms:modified xsi:type="dcterms:W3CDTF">2010-02-25T20:44:39Z</dcterms:modified>
  <cp:revision>18</cp:revision>
  <dc:subject/>
  <dc:title>Slide 1</dc:title>
</cp:coreProperties>
</file>