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2A9-549C-413B-BEBE-031633F0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4CE-187C-46BA-B243-77CA87F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F25-7C0D-4F66-8772-5785C692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7BE-3A21-41C4-A3D0-6A9363A3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AFBA-12C8-4CB7-BF01-522574BC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E4D3-C929-410D-8822-26841899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60EE-FECB-4712-B1F2-E071AE1A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CCF0-212F-4FD7-A516-86EC5C7E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89D0-2413-4CCD-9BFF-FD72A6F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7C01-BFEA-462B-B56C-30228374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2388-C05B-4F61-8478-B6CE90DF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A25B-DDFA-4700-ADDC-47DDC83B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3337-5012-4ECD-9644-324CD6B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F247-8824-4243-BFF1-46EFFD7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589A-9872-4450-A773-80159B14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E43A-85FD-48FE-AD3B-79FD4507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55BA-FC18-4C99-B378-F561772F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660C0-9538-4D28-A8D8-89A9CA45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A565-BBAC-4201-A294-DD7E7A74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CF022-7896-48AE-BB54-6C2E05B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A081F-49DC-4C1D-8109-709D7CED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5B7F54-8DA5-47C6-A447-5324E00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5AE-E36B-4700-BEFB-C7F0AA3F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060E9-27CE-4BA2-B470-4E46EBF6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61118-7F75-4EAA-9934-D36F903B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F07B6-4027-4BB3-996F-6A7B4A36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67AD4-0AA7-400A-9D6F-1CFEDB05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4AA02-466E-46B9-AE6F-49912DF7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E4742-1362-475A-878F-99F7A714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DE87C-3E33-4B74-BF7A-6811B4BC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CF77-F887-4490-B96E-56DCC56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0697-E370-4F49-B655-5CB1AF67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120C-8E4B-4CDA-8013-53437D92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516-C8EE-4BE6-8891-D93B47D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EEE0-B7AC-4144-A9AA-E4C28D7F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EF07-1141-45FB-8522-8BD0701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CEE80-68C3-42B3-97FE-A782C1C5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D2B47-CBE2-466F-9B5A-04FA7288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7AAF-C9AA-4660-85A5-3386EE8A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BBDE-3986-4989-BF04-636E4D1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5EF4-9568-467A-BDE7-CAA2C116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0877-4D04-4C3F-AF19-07F8064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FFA4A-50B9-450B-B233-C09209D3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810BB-3D48-485D-BFB6-7C6259BD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D9E-C9E1-4EDC-A751-23FCE2C5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502DD-F4F2-49F7-88A3-AB1AF0FA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E9DE2-92D1-4FF9-BE67-620F50BE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70490-E49A-43F8-B755-99B6B5C9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6A836-C321-4601-A6F3-6E9560F7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3519A-44A8-4DD1-A1BE-8C02DF9F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8DF745-AD3A-45CA-BA93-1A77DF6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8D952-F93B-431E-8504-6AFFC4A0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4FB496-809E-4FE5-8F2F-591725D0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BA054-7DB5-46DB-A154-89D4B8E9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6BE06-9E31-464D-9B92-9F73A2FE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627-7CF6-4CB7-9456-60ECC434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A1FCA-9AD3-4075-A939-84B3A0DD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3DBFE-DF62-44A0-AFD7-264ADC5B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4726AA-1E99-4196-A065-9E4B88A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22552-BAB0-4009-9298-471E1973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F20CBF-6CEB-434C-98E2-944D5F0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529A8-3EDE-4374-9858-716207B7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09172-939A-4D1F-BEB0-F00CE72D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F05D1-057F-4D6B-A7ED-B05C687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1B764-CE72-4CE3-9A09-3BF7ADF2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AD66B-F2E5-4B4C-B26E-91E9DE8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074-9294-430C-B6FB-6607647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4817A-68B0-4AD3-9601-F5FF92EB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D2F03-F89D-4E41-8B37-E5F6AA0C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1FFC0-BD58-48DF-93D2-F452DF91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2F449-A701-44A1-B9FA-CE8889CB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69FEC-C9EF-4A96-8B2D-95F9874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0CD423-EDC2-4A0C-871A-CB1827C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01FEE-5A0A-418B-985B-B7E48874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87C22-DFAF-4A8E-B6A7-5408099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5CD47-C46B-46B1-82D3-D1C71B0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D4A62-EA19-4734-97EE-12A185E0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822-E23A-4967-ABE4-C36988EE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24DFB-AC38-4AFF-906A-626FC80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07098-7C0E-4389-A759-3BA2EA07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8E894-E6A0-41F4-A474-A5A6BFDF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727BD-5E64-4FB2-A943-48285C9A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E8A7E-958D-4792-8C4C-4E456034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37F-5C82-4361-ADB6-A02B400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D603-F768-4DDA-B4F4-65E3BDAD73D3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ABE-9468-48F1-9462-A6EC83EED096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61D1-C962-4E6D-BADB-B6A46CD333EC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3A57-9479-4E5C-83AD-EA6293A031BA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7F34-BA3F-42A4-8D96-8586193B3B70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reto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reto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reto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C6E-C7CE-46E0-9B9B-860B9CC289A0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reto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reto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reto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2B7C-1612-443F-98D4-955CBE7F8F23}" type="slidenum">
              <a:rPr b="1" lang="pt-BR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411000"/>
            <a:ext cx="6172200" cy="5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f497d"/>
                </a:solidFill>
                <a:latin typeface="Calibri"/>
              </a:rPr>
              <a:t>TRANSPORTE DE CARGA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Grup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gor Mart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Julio Z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Luciana Estru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halita Perei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572080" y="857160"/>
            <a:ext cx="2700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O MERCADO DE TRANSPORTE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999720"/>
            <a:ext cx="7758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odoviário é o meio de transporte de cargas mais comum no Brasil, representando cerca de 58% do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representa cerca de 60% dos custos logísticos de uma empresa, 3,5% do faturamento e, muitas vezes, o dobro do lucr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ercado de fretes concorrencial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melhoria contínu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vantagens competitiva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redução do custo de frete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Para melhorar a matriz de transportes brasileira, melhorando o escoamento da produção e elevando a vantagem competitiva do país no mercado mundial, deve ser feito grandes investimentos na manutenção das rodovias, restaurar as ferrovias e investir na criação de vias navegáve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m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385776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11271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perador Logístico de capital nacion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transporte de carga representa cerca de 60% do faturame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Frota própria muito pequen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alto índice de terceirizaçã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Trabalho focado em flexibilidade e customização, apoiado em 3 pilares: pessoas, processos e tecnologia de inform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1f497d"/>
                </a:solidFill>
                <a:latin typeface="Calibri"/>
              </a:rPr>
              <a:t>AGV LOGÍSTICA</a:t>
            </a:r>
            <a:endParaRPr b="0" lang="en-US" sz="2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687" t="47854" r="48940" b="32618"/>
          <a:stretch/>
        </p:blipFill>
        <p:spPr>
          <a:xfrm>
            <a:off x="5786280" y="42876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"/>
          <p:cNvPicPr/>
          <p:nvPr/>
        </p:nvPicPr>
        <p:blipFill>
          <a:blip r:embed="rId2"/>
          <a:srcRect l="35743" t="33751" r="22072" b="25937"/>
          <a:stretch/>
        </p:blipFill>
        <p:spPr>
          <a:xfrm>
            <a:off x="642960" y="1571760"/>
            <a:ext cx="47862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FATORES CHAVE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O que os clientes procuram quando escolhem uma transportadora? O que eles acreditam determinar o sucesso no transporte de suas carg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Qualificação bá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inergi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gração dos componentes do serviço logístico (variedade de serviço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fiabilidade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capacitação técnica e gerencial do transportador (determinante de prazos de entrega, integridade da carga, conservação de equipamentos, et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Segmentação de mer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MATRIZ DE IMPACTO X GRAU DE INCERTEZA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64" name="Objeto 2" descr=""/>
          <p:cNvPicPr/>
          <p:nvPr/>
        </p:nvPicPr>
        <p:blipFill>
          <a:blip r:embed="rId1"/>
          <a:srcRect l="0" t="0" r="0" b="-280"/>
          <a:stretch/>
        </p:blipFill>
        <p:spPr>
          <a:xfrm>
            <a:off x="1285920" y="2071800"/>
            <a:ext cx="5762520" cy="3835440"/>
          </a:xfrm>
          <a:prstGeom prst="rect">
            <a:avLst/>
          </a:prstGeom>
          <a:ln w="0">
            <a:noFill/>
          </a:ln>
        </p:spPr>
      </p:pic>
      <p:sp>
        <p:nvSpPr>
          <p:cNvPr id="365" name="CaixaDeTexto 4"/>
          <p:cNvSpPr/>
          <p:nvPr/>
        </p:nvSpPr>
        <p:spPr>
          <a:xfrm>
            <a:off x="2643120" y="235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LIEN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aixaDeTexto 5"/>
          <p:cNvSpPr/>
          <p:nvPr/>
        </p:nvSpPr>
        <p:spPr>
          <a:xfrm>
            <a:off x="2571840" y="4857840"/>
            <a:ext cx="17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6"/>
          <p:cNvSpPr/>
          <p:nvPr/>
        </p:nvSpPr>
        <p:spPr>
          <a:xfrm>
            <a:off x="3000240" y="328608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ixaDeTexto 7"/>
          <p:cNvSpPr/>
          <p:nvPr/>
        </p:nvSpPr>
        <p:spPr>
          <a:xfrm>
            <a:off x="4643280" y="335772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JURÍD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aixaDeTexto 8"/>
          <p:cNvSpPr/>
          <p:nvPr/>
        </p:nvSpPr>
        <p:spPr>
          <a:xfrm>
            <a:off x="6357960" y="24289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CORR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ixaDeTexto 9"/>
          <p:cNvSpPr/>
          <p:nvPr/>
        </p:nvSpPr>
        <p:spPr>
          <a:xfrm>
            <a:off x="4714920" y="235728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ECOCO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aixaDeTexto 10"/>
          <p:cNvSpPr/>
          <p:nvPr/>
        </p:nvSpPr>
        <p:spPr>
          <a:xfrm>
            <a:off x="2643120" y="27147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POL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aixaDeTexto 11"/>
          <p:cNvSpPr/>
          <p:nvPr/>
        </p:nvSpPr>
        <p:spPr>
          <a:xfrm>
            <a:off x="4071960" y="3000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MEAÇAS E OPORTUNIDADES, PONTOS FORTES E FRACOS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rcRect l="24744" t="23632" r="23646" b="11914"/>
          <a:stretch/>
        </p:blipFill>
        <p:spPr>
          <a:xfrm>
            <a:off x="833400" y="1679400"/>
            <a:ext cx="6881760" cy="4832640"/>
          </a:xfrm>
          <a:prstGeom prst="rect">
            <a:avLst/>
          </a:prstGeom>
          <a:ln w="0">
            <a:noFill/>
          </a:ln>
        </p:spPr>
      </p:pic>
      <p:sp>
        <p:nvSpPr>
          <p:cNvPr id="375" name="Retângulo 5"/>
          <p:cNvSpPr/>
          <p:nvPr/>
        </p:nvSpPr>
        <p:spPr>
          <a:xfrm>
            <a:off x="785880" y="1571760"/>
            <a:ext cx="28584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1f497d"/>
                </a:solidFill>
                <a:latin typeface="Calibri"/>
              </a:rPr>
              <a:t>AÇÕES PROPOSTAS 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400" y="1357200"/>
            <a:ext cx="7972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Contratar mão de obra qualific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vestimento em treinamento, buscando o desenvolvimento de certas capacidades e a absorção de novas tecnologi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Incentivos monetá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esenvolver habilidades gerenciais nos gestores das MPE´s parceiras da AG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Dominar tecnologias de rastreamento de cargas (1) e tecnologias de informação (2)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(1) radiofreqüência, rastreamento por satélite, código de barras (2) roteirizadores, SI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Aumentar escopo de serviços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interconexão de habilidades gerenciais e tecnologias (transporte para indústria farmacêut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Manter a hierarquia verticalizada </a:t>
            </a:r>
            <a:r>
              <a:rPr b="1" lang="pt-BR" sz="18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1" lang="pt-BR" sz="1800" spc="-1" strike="noStrike">
                <a:solidFill>
                  <a:srgbClr val="1f497d"/>
                </a:solidFill>
                <a:latin typeface="Calibri"/>
              </a:rPr>
              <a:t> natureza do negócio (beneficia controles e gestão de cus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21:11:57Z</dcterms:created>
  <dc:creator>Thalita</dc:creator>
  <dc:description/>
  <dc:language>en-US</dc:language>
  <cp:lastModifiedBy>agv logistica</cp:lastModifiedBy>
  <dcterms:modified xsi:type="dcterms:W3CDTF">2010-04-08T17:58:17Z</dcterms:modified>
  <cp:revision>34</cp:revision>
  <dc:subject/>
  <dc:title>Slide 1</dc:title>
</cp:coreProperties>
</file>