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581-EE71-41F5-B3AC-820BF589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977-F703-414E-AF30-C9CA3673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9F2-8EBD-49ED-9830-262279AD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AEB-F8A1-4B34-869F-770680CA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1AB9-2231-48A9-A765-A411B40E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8743-3D0E-414D-B39D-2EAC4BA8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3967-2B0B-432C-BC13-DEF15F7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A60A-E441-45F5-BC15-69E07FF6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1719-2059-4689-A5CF-E07CD89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3E08-8BE9-40B8-8F64-B8661D8A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A109-6E88-4167-9AA6-96A07F1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6FD-FD2F-46C3-B174-54A36273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93BC-D878-4659-9543-D10ED58A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233A-F4F3-4F6C-A6F1-B33DEBF8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C5DA-4FA1-40B6-AA53-C8EB7A4E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F3A3-99DE-49C1-85BB-65783FE3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75A5-58F1-4D68-BF57-03C2F0C9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CADA9-9BAD-46CC-81D0-8A6A9CC0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68937-599B-46A5-AE5A-1F889C05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3AF4B-FDDC-47AC-89CE-7BC064D7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89706-89A6-41D6-AA97-19B6555A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E4A37-76EB-44F3-8F21-CA8F5283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C77-A13F-4A8B-A21D-C895D67B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EE2A0-9087-41AA-86CA-30EF8BC4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3BBBD-64BB-4B56-99A6-977001E9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07B3A-71A0-4F39-9531-C8D3EEB0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3C55D-D057-43BD-A67E-DC520FB7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CD0C7-2E87-4715-AB66-275C49B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7CFF5-4705-4F23-B0C8-2208CC39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09474-A01B-4E8B-85AF-B5E5FFFC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8095D-8FCD-4DBE-A3DF-D85511B9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E6EC-46D6-4989-BFBA-6E5AF9E8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57A0-F682-46DC-8582-BD1B81F5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552-4049-4E84-9757-59820BF3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EB07-2E78-4BEF-834C-B7AE42BF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957A-7B0F-4CFF-854F-5573454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1C059-AD01-4B9D-ACAA-9C75021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58C6-5658-405C-9BBC-69F46C5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1C22F-CE20-44B3-B9A1-8C415857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7CF3-5216-4D95-B3D0-85FA5AA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42CD-E59A-4854-B54A-8369FFD1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DDA0-D0B4-4D11-852E-4284DBAA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2686-A824-43A6-9CCC-0457A02D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B3F10-C808-4A4A-8DD2-9A218A7E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B30-2318-4C5C-88A5-A6682F64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FA8CD-EAA1-4B1D-A1CD-00A3E02A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3DBA5-3747-4890-BA41-BE88C0B2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C816E-85C0-472A-A081-AC0C830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C0754-A3FA-4CF3-965C-7DC44945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1054C-F12D-4A3F-86EE-FDDB0428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EF92B-49FA-461A-B7BB-DF02E2AE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DC61A-9C85-4FDD-9581-62AA977D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1686B-D3FE-42C7-8087-6D096E98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38B00-22F1-4314-AFE5-4AD3ABB2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6CAEB-F846-470D-919A-5E8072F8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CF2-3BC7-47E3-8757-0ECBD919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61AFA-4227-4302-A5F8-AD21B3F9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748B6-8DA7-43AC-81B5-4FEE8DC5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FA0B4-FE5B-4808-A0E0-5A1082A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C10EC-B804-459B-A421-2F74CB23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95462-1FA3-4AC2-9F7C-31E57BB0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70A62-5C8E-4DD4-9722-8306D1DE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8036A-6EF7-4ABD-B6A4-A14556E9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CD2AA-3877-49A2-A374-AC773C24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C1626-ABB6-4C72-8C2B-15BF4FB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AF087-D0AC-4826-B3BF-BB65554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41C-0393-48CA-BDBD-52E01A52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A391F-9DFC-4CE3-AE46-3DB8D781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EB919-8BB4-4647-9BF1-6565BC69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535E1-0144-482C-83CE-680F34CF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E94A1-DA2D-4373-BF45-0340E137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A32B1-37F4-49C0-99B0-5BD3401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BFF3C-6690-43CD-803B-9270BBA6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CD571-8DDF-4A50-A9AB-369CD791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1404D-3999-4CBC-86E5-94F1B819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9D2BC-67F9-414A-9C3F-BDA415D9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8CD16-6175-4073-9C69-B4C010F6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F9E-DDF6-4847-A688-7A83CE5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AA7EF-D678-4E8A-8B23-7E46103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975CB-D86E-4CA0-BF8E-8D6B72CD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7FC20-B98E-4607-945A-F076C6D4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E2D1A-F7F7-4F95-83BF-096AF52A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CF440-ACCF-45BD-8CCF-B83BF534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F0B-33EC-495D-B2AB-4892690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7CED-EBC5-4267-9CEC-4D275DCC2590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DDD-1911-4C5C-BBAC-D58EC029C142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ED29-AF62-4A51-9C15-F83DB94EADD7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34DE-AD1D-4213-8D8E-CAD329D600B9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F42E-220D-451F-8250-2D881BB6A557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1066-A6C4-41CB-BF5D-A2B40CFD4FEF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6EA6-B236-44EF-B99F-2332D685D601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411000"/>
            <a:ext cx="6172200" cy="5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</a:rPr>
              <a:t>TRANSPORTE DE CARGA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gor Mar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Julio Z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Luciana Estru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halita Per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572080" y="857160"/>
            <a:ext cx="2700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O MERCADO DE TRANSPORTE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99972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odoviário é o meio de transporte de cargas mais comum no Brasil, representando cerca de 58% do tot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epresenta cerca de 60% dos custos logísticos de uma empresa, 3,5% do faturamento e, muitas vezes, o dobro do lucr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ercado de fretes concorrencial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melhoria contínu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vantagens competitiva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redução do custo de frete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Para melhorar a matriz de transportes brasileira, melhorando o escoamento da produção e elevando a vantagem competitiva do país no mercado mundial, deve ser feito grandes investimentos na manutenção das rodovias, restaurar as ferrovias e investir na criação de vias navegáv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m 3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3857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11271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perador Logístico de capital nacion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de carga representa cerca de 60% do fatur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Frota própria muito pequen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alto índice de terceir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rabalho focado em flexibilidade e customização, apoiado em 3 pilares: pessoas, processos e tecnologia de inform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AGV LOGÍST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786280" y="42876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2"/>
          <a:srcRect l="35743" t="33751" r="22072" b="25937"/>
          <a:stretch/>
        </p:blipFill>
        <p:spPr>
          <a:xfrm>
            <a:off x="642960" y="1571760"/>
            <a:ext cx="4786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FATORES CHAV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que os clientes procuram quando escolhem uma transportadora? O que eles acreditam determinar o sucesso no transporte de suas carg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Qualificação bá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inergi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gração dos componentes do serviço logístico (variedade de serviç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fiabilidade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capacitação técnica e gerencial do transportador (determinante de prazos de entrega, integridade da carga, conservação de equipamentos,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egmentação de 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MATRIZ DE IMPACTO X GRAU DE INCERTEZ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64" name="Objeto 2" descr=""/>
          <p:cNvPicPr/>
          <p:nvPr/>
        </p:nvPicPr>
        <p:blipFill>
          <a:blip r:embed="rId1"/>
          <a:srcRect l="0" t="0" r="0" b="-280"/>
          <a:stretch/>
        </p:blipFill>
        <p:spPr>
          <a:xfrm>
            <a:off x="1285920" y="2071800"/>
            <a:ext cx="5762520" cy="3835440"/>
          </a:xfrm>
          <a:prstGeom prst="rect">
            <a:avLst/>
          </a:prstGeom>
          <a:ln w="0">
            <a:noFill/>
          </a:ln>
        </p:spPr>
      </p:pic>
      <p:sp>
        <p:nvSpPr>
          <p:cNvPr id="365" name="CaixaDeTexto 4"/>
          <p:cNvSpPr/>
          <p:nvPr/>
        </p:nvSpPr>
        <p:spPr>
          <a:xfrm>
            <a:off x="2643120" y="2357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LIEN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aixaDeTexto 5"/>
          <p:cNvSpPr/>
          <p:nvPr/>
        </p:nvSpPr>
        <p:spPr>
          <a:xfrm>
            <a:off x="2571840" y="485784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6"/>
          <p:cNvSpPr/>
          <p:nvPr/>
        </p:nvSpPr>
        <p:spPr>
          <a:xfrm>
            <a:off x="3000240" y="328608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ixaDeTexto 7"/>
          <p:cNvSpPr/>
          <p:nvPr/>
        </p:nvSpPr>
        <p:spPr>
          <a:xfrm>
            <a:off x="4643280" y="335772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JUR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ixaDeTexto 8"/>
          <p:cNvSpPr/>
          <p:nvPr/>
        </p:nvSpPr>
        <p:spPr>
          <a:xfrm>
            <a:off x="6357960" y="24289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ixaDeTexto 9"/>
          <p:cNvSpPr/>
          <p:nvPr/>
        </p:nvSpPr>
        <p:spPr>
          <a:xfrm>
            <a:off x="4714920" y="235728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ECOCO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aixaDeTexto 10"/>
          <p:cNvSpPr/>
          <p:nvPr/>
        </p:nvSpPr>
        <p:spPr>
          <a:xfrm>
            <a:off x="2643120" y="27147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POLÍ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aixaDeTexto 11"/>
          <p:cNvSpPr/>
          <p:nvPr/>
        </p:nvSpPr>
        <p:spPr>
          <a:xfrm>
            <a:off x="4071960" y="3000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MEAÇAS E OPORTUNIDADES, PONTOS FORTES E FRACO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rcRect l="24744" t="23632" r="23646" b="11914"/>
          <a:stretch/>
        </p:blipFill>
        <p:spPr>
          <a:xfrm>
            <a:off x="833400" y="1679400"/>
            <a:ext cx="6881760" cy="4832640"/>
          </a:xfrm>
          <a:prstGeom prst="rect">
            <a:avLst/>
          </a:prstGeom>
          <a:ln w="0">
            <a:noFill/>
          </a:ln>
        </p:spPr>
      </p:pic>
      <p:sp>
        <p:nvSpPr>
          <p:cNvPr id="375" name="Retângulo 5"/>
          <p:cNvSpPr/>
          <p:nvPr/>
        </p:nvSpPr>
        <p:spPr>
          <a:xfrm>
            <a:off x="785880" y="1571760"/>
            <a:ext cx="28584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ÇÕES PROPOSTAS 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357200"/>
            <a:ext cx="7972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tratar mão de obra qualific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vestimento em treinamento, buscando o desenvolvimento de certas capacidades e a absorção de novas tecnolo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centivos monetá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esenvolver habilidades gerenciais nos gestores das MPE´s parceiras da AG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ominar tecnologias de rastreamento de cargas (1) e tecnologias de informação (2)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(1) radiofreqüência, rastreamento por satélite, código de barras (2) roteirizadores, S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Aumentar escopo de serviço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rconexão de habilidades gerenciais e tecnologias (transporte para indústria farmacêut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anter a hierarquia verticaliz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natureza do negócio (beneficia controles e gestão de cust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21:11:57Z</dcterms:created>
  <dc:creator>Thalita</dc:creator>
  <dc:description/>
  <dc:language>en-US</dc:language>
  <cp:lastModifiedBy>agv logistica</cp:lastModifiedBy>
  <dcterms:modified xsi:type="dcterms:W3CDTF">2010-04-08T17:58:17Z</dcterms:modified>
  <cp:revision>34</cp:revision>
  <dc:subject/>
  <dc:title>Slide 1</dc:title>
</cp:coreProperties>
</file>