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98E-620C-40BE-9FE5-A70ACA2B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EE58-CB23-4821-90FF-A9F67F11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325-95F6-420F-817C-75ABBA40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987-2973-4084-9E45-69CD071F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70D8-2555-480A-9CF0-6E262CAD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B5D0-6748-4355-AAAA-10D784B0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E3F3-78AB-4E5A-877E-C89CE16B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F632-AC90-4897-A1B2-7083C5C0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6162-7ACA-431D-BBFE-4350F27B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B605-7DF2-4A3E-823A-F780119B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491B-1B39-4902-880C-E81F2144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568-A6D4-4F54-B078-1F8CD77F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8EF2-7F67-4DC4-81D6-50C90FA4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1E28-F55B-42F7-AE75-72F687E4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2BFC-B220-4BEB-8E1C-E119EBA2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91AF-85B3-4865-A5E7-C787D8DC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5953-5A77-46B1-B952-09409EF7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81B0F-BFF3-4B4C-98A8-DBABDA8C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4AD4A-8B1E-4D4C-87DA-BABC5B80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8F48C-E6E9-4514-AE7D-CB0D9C84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A3148-9C0F-4EAF-92D5-1748564E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4C50E-799B-47F1-8F27-951A9934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A6F-571D-4E5F-9595-FCDF5FF9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C9133-BBBF-4BAE-A489-3A1BA069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4BD92-1E97-465D-95CD-6B63683A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AC0EF-3842-4F35-B3A5-21092481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7B1C8-83BF-428C-ABE8-9817097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C116D-8903-4C2F-AA4C-B801A221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BBF19-50D8-4C2A-A8BD-E92419ED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8081B-96CE-456E-BC5C-24F3A14A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9D7CD-8FAF-4E73-A848-3EA464D2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CE7F2-2285-453F-933B-13DD2D36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80257-A117-4F6A-8ADE-93742D6E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131-BD25-4B35-B669-6B9C0E43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0DD20-3F3E-49FF-9FF9-BF440641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16802-574B-45F2-83DF-CB363A0F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D8864-5830-4954-883F-4FB2825B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B09D-C7C0-48FB-A3F3-471F22E4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0D0B0-00C3-4178-89C3-8F819D01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029AB-DB08-49F0-82E3-29F68464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366C7-BE33-4644-86A2-E4398B54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1EE48-B0EE-4FF0-9CF8-B6991EF2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1163-0C62-46E3-AC22-FA998FB0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84430A-1F8E-4A2E-9CAF-0E00D8BD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208-0533-48FA-B3BC-19286B19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3B8891-D758-4F8C-8CF0-DDCE98A2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0F379-05AB-4373-A50D-87DEB97E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2C546-DC29-44AF-823B-90962744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007C4-0B76-40D3-B3F4-6F1FACC7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B9E16-71A6-47D9-8225-BA2E3199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56FD25-6B31-4D83-B92B-A6AF735D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D360E-76C7-4D51-89E9-9182D0E7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A23EF-71CC-42CC-BD37-E4AB9631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06480-29FE-4408-9DA5-49A27FA5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1AB4C-C248-4CFC-A032-D3AC8909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E66A-C0F2-4568-A023-24344B98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93062D-2B5A-4B34-92F0-E54E0DF7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5E1A0-46A5-4824-8BE1-BED9D876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184CC-6285-48DA-9412-1F27410A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40A35E-AAA5-45A0-B3AE-781462F4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88B5E-A2EE-4EE2-AAAE-32EF1FDC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C40FA5-46AE-4A92-8811-67C64507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BB6349-B863-4117-A3A9-4ADD8995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67F0F2-A461-4591-B504-637275B7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799B5F-9E41-4733-B0F2-6C21CF3C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479A7-4FA5-418C-A69B-07C72376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AAC-23F2-4063-9849-2888CD8B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28508F-D8FD-498D-A6E1-09F35520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349D77-B538-40A2-868E-5A477748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F258B2-D74A-475C-9838-7FBB9247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BD7C0-63C9-446D-A972-E5EB9EEC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EF445C-1529-489F-8B68-10CC9129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08B38-58B0-4A0A-A0DF-C7BEDF87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F4070F-C487-4564-8922-4C9C466D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FD012C-19C4-40B8-AECF-4E98DA54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0724E-3C70-4BB0-B065-3195E9B3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6E50A8-A182-42F5-B3AF-63533570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7F8-87B5-43DF-81B4-7510CF94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A3550-C6C4-4A00-B0F8-8D2CCCB4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E5476C-25E0-45C5-A149-6155F952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D76EBA-50EF-447A-B6CD-1CDF8155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4E1A8-18CA-425C-91B5-DFF9ABD2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04AC5E-608D-4DFA-BC36-F39521CA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0B7-7C0C-4882-8B34-46E7C817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BCB3-20A1-49CB-8AE9-B00966488B1B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7982-72CC-4985-BEAB-BFA78278FFE8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DE7B-1F7E-4958-90C3-ADD17D126580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9FD7-47C5-445D-9250-92630086A6CC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4ED3-392B-4CA0-803B-759B2CCAB0EF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re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210E-01B2-4A63-801F-EB3E29317825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re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re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re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1225-307C-4F80-A9DD-C7EC6586115A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411000"/>
            <a:ext cx="6172200" cy="5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1f497d"/>
                </a:solidFill>
                <a:latin typeface="Calibri"/>
              </a:rPr>
              <a:t>TRANSPORTE DE CARGA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571640"/>
            <a:ext cx="617220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Grup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gor Mart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Julio Z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Luciana Estru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Thalita Perei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rcRect l="35687" t="47854" r="48940" b="32618"/>
          <a:stretch/>
        </p:blipFill>
        <p:spPr>
          <a:xfrm>
            <a:off x="5572080" y="857160"/>
            <a:ext cx="2700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1f497d"/>
                </a:solidFill>
                <a:latin typeface="Calibri"/>
              </a:rPr>
              <a:t>O MERCADO DE TRANSPORTE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999720"/>
            <a:ext cx="7758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rodoviário é o meio de transporte de cargas mais comum no Brasil, representando cerca de 58% do tot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representa cerca de 60% dos custos logísticos de uma empresa, 3,5% do faturamento e, muitas vezes, o dobro do lucr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Mercado de fretes concorrencial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melhoria contínu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vantagens competitivas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redução do custo de frete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Para melhorar a matriz de transportes brasileira, melhorando o escoamento da produção e elevando a vantagem competitiva do país no mercado mundial, deve ser feito grandes investimentos na manutenção das rodovias, restaurar as ferrovias e investir na criação de vias navegáve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Imagem 3" descr=""/>
          <p:cNvPicPr/>
          <p:nvPr/>
        </p:nvPicPr>
        <p:blipFill>
          <a:blip r:embed="rId1"/>
          <a:stretch/>
        </p:blipFill>
        <p:spPr>
          <a:xfrm>
            <a:off x="1500120" y="1714680"/>
            <a:ext cx="38577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11271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perador Logístico de capital nacion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de carga representa cerca de 60% do faturamen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Frota própria muito pequen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alto índice de terceirizaçã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Trabalho focado em flexibilidade e customização, apoiado em 3 pilares: pessoas, processos e tecnologia de informaçã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1f497d"/>
                </a:solidFill>
                <a:latin typeface="Calibri"/>
              </a:rPr>
              <a:t>AGV LOGÍSTIC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rcRect l="35687" t="47854" r="48940" b="32618"/>
          <a:stretch/>
        </p:blipFill>
        <p:spPr>
          <a:xfrm>
            <a:off x="5786280" y="428760"/>
            <a:ext cx="2500560" cy="1785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2"/>
          <a:srcRect l="35743" t="33751" r="22072" b="25937"/>
          <a:stretch/>
        </p:blipFill>
        <p:spPr>
          <a:xfrm>
            <a:off x="642960" y="1571760"/>
            <a:ext cx="47862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FATORES CHAVE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que os clientes procuram quando escolhem uma transportadora? O que eles acreditam determinar o sucesso no transporte de suas carg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Qualificação bá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Sinergi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tegração dos componentes do serviço logístico (variedade de serviç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Confiabilidade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capacitação técnica e gerencial do transportador (determinante de prazos de entrega, integridade da carga, conservação de equipamentos, et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Segmentação de mer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MATRIZ DE IMPACTO X GRAU DE INCERTEZA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64" name="Objeto 2" descr=""/>
          <p:cNvPicPr/>
          <p:nvPr/>
        </p:nvPicPr>
        <p:blipFill>
          <a:blip r:embed="rId1"/>
          <a:srcRect l="0" t="0" r="0" b="-280"/>
          <a:stretch/>
        </p:blipFill>
        <p:spPr>
          <a:xfrm>
            <a:off x="1285920" y="2071800"/>
            <a:ext cx="5762520" cy="3835440"/>
          </a:xfrm>
          <a:prstGeom prst="rect">
            <a:avLst/>
          </a:prstGeom>
          <a:ln w="0">
            <a:noFill/>
          </a:ln>
        </p:spPr>
      </p:pic>
      <p:sp>
        <p:nvSpPr>
          <p:cNvPr id="365" name="CaixaDeTexto 4"/>
          <p:cNvSpPr/>
          <p:nvPr/>
        </p:nvSpPr>
        <p:spPr>
          <a:xfrm>
            <a:off x="2643120" y="2357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LIENT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aixaDeTexto 5"/>
          <p:cNvSpPr/>
          <p:nvPr/>
        </p:nvSpPr>
        <p:spPr>
          <a:xfrm>
            <a:off x="2571840" y="485784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aixaDeTexto 6"/>
          <p:cNvSpPr/>
          <p:nvPr/>
        </p:nvSpPr>
        <p:spPr>
          <a:xfrm>
            <a:off x="3000240" y="3286080"/>
            <a:ext cx="15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TECN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ixaDeTexto 7"/>
          <p:cNvSpPr/>
          <p:nvPr/>
        </p:nvSpPr>
        <p:spPr>
          <a:xfrm>
            <a:off x="4643280" y="335772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JURÍD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aixaDeTexto 8"/>
          <p:cNvSpPr/>
          <p:nvPr/>
        </p:nvSpPr>
        <p:spPr>
          <a:xfrm>
            <a:off x="6357960" y="242892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CORRÊ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ixaDeTexto 9"/>
          <p:cNvSpPr/>
          <p:nvPr/>
        </p:nvSpPr>
        <p:spPr>
          <a:xfrm>
            <a:off x="4714920" y="235728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ECOCO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aixaDeTexto 10"/>
          <p:cNvSpPr/>
          <p:nvPr/>
        </p:nvSpPr>
        <p:spPr>
          <a:xfrm>
            <a:off x="2643120" y="271476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POLÍ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aixaDeTexto 11"/>
          <p:cNvSpPr/>
          <p:nvPr/>
        </p:nvSpPr>
        <p:spPr>
          <a:xfrm>
            <a:off x="4071960" y="300024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FÍS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AMEAÇAS E OPORTUNIDADES, PONTOS FORTES E FRACO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rcRect l="24744" t="23632" r="23646" b="11914"/>
          <a:stretch/>
        </p:blipFill>
        <p:spPr>
          <a:xfrm>
            <a:off x="833400" y="1679400"/>
            <a:ext cx="6881760" cy="4832640"/>
          </a:xfrm>
          <a:prstGeom prst="rect">
            <a:avLst/>
          </a:prstGeom>
          <a:ln w="0">
            <a:noFill/>
          </a:ln>
        </p:spPr>
      </p:pic>
      <p:sp>
        <p:nvSpPr>
          <p:cNvPr id="375" name="Retângulo 5"/>
          <p:cNvSpPr/>
          <p:nvPr/>
        </p:nvSpPr>
        <p:spPr>
          <a:xfrm>
            <a:off x="785880" y="1571760"/>
            <a:ext cx="28584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AÇÕES PROPOSTAS 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400" y="1357200"/>
            <a:ext cx="7972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Contratar mão de obra qualificad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vestimento em treinamento, buscando o desenvolvimento de certas capacidades e a absorção de novas tecnolog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ncentivos monetá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Desenvolver habilidades gerenciais nos gestores das MPE´s parceiras da AG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Dominar tecnologias de rastreamento de cargas (1) e tecnologias de informação (2)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(1) radiofreqüência, rastreamento por satélite, código de barras (2) roteirizadores, SI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Aumentar escopo de serviços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terconexão de habilidades gerenciais e tecnologias (transporte para indústria farmacêutic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Manter a hierarquia verticalizad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natureza do negócio (beneficia controles e gestão de cust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21:11:57Z</dcterms:created>
  <dc:creator>Thalita</dc:creator>
  <dc:description/>
  <dc:language>en-US</dc:language>
  <cp:lastModifiedBy>agv logistica</cp:lastModifiedBy>
  <dcterms:modified xsi:type="dcterms:W3CDTF">2010-04-08T17:58:17Z</dcterms:modified>
  <cp:revision>34</cp:revision>
  <dc:subject/>
  <dc:title>Slide 1</dc:title>
</cp:coreProperties>
</file>