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B3A-1036-4DD9-A2B7-FEDF4E58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038-DBB4-4A50-A796-9F9817E2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6F7-7C9B-4EDB-9E63-3CBA5B94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79D-2C69-4CA7-B018-EDEEDD41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E5FF-793A-4A1E-BE57-224A31A0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B73D-1DD3-45D1-9320-4533299C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61D6-49C1-40B2-B035-3797C2D4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233F-D151-40ED-8F53-95CCB2E9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9F30-B422-4AE8-8DEE-EFDF3E39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0849-BC58-4408-A8E9-B0A5F7D9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7D40-B7BD-46BE-8792-C50AAECD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25EF-37EF-4BF8-9E8C-48E7BE7D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9FD7-7D4F-4FB0-BBBE-A3C3C250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994A-CB41-4D5F-BC78-FA359C51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1DE8-1568-4178-968A-BA3E3B37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AF9C-8264-4349-A48F-70137F3D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2521-5E32-483C-B7BE-6FE13868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652D4-2291-4E0D-BA33-2A2A7FAF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044A2-116C-4807-9626-B5EC0927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B39B9-C73B-4CA7-B0EE-6C786B36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9C9D5-D745-4065-9F93-6FF04230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1D101-56AF-40BE-909A-D15BE59A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351-8814-4EA7-8567-6E222B24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B137D-4712-4AE4-A0E7-970DE48A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7F4B3-38E1-4561-9A44-27918674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075A8-7631-4162-B6C3-ABCB2FAB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22D69-2B64-49FE-9935-75B2ED6E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0E4F6-061C-4623-B085-3176D5C0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8AE31-9E19-457D-BDDF-4430F6BC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92AC3-ACF3-48F6-8D57-2C593B0F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08141-CA79-4458-B295-9F02B2AB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123A6-9BDD-4B27-B828-FC32DF7E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C4CE9-131F-405B-B8E3-BE5176FC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C6B-E1EF-4EB8-81A1-693EA630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979C1-3A3B-4C4B-934E-2BAFB7AF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C44C2-756A-4063-A7A1-ED0B93FE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0604F-0CFF-44DB-8FE8-29879337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C670E-FFB1-4347-A06B-DE63301D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70891-A955-40C6-BC33-B062EE1A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33254-75EE-4D41-BC89-67D40C20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B0DC3-1326-484F-97FD-0EA35A2F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69994-713B-44E2-BA95-591D91CA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449BB-3470-4692-A3AF-8FBBC00E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FCDD3B-C927-4F30-95BF-61563160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AFC1-27B1-4A6A-A76A-A3C5B0CB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0D020-FF30-4FB8-836C-D4E8A12E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2A421-F7D7-4CCC-A51A-79616F41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B721F-DD6C-4EA3-866C-EABB1107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E9E75-590B-49EE-983E-68267D63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5EC78-4110-4A1E-A6D4-18557B79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2C264-F92E-461C-B155-C5B4AE11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3A1BA-5F2E-456A-933A-1524BC6A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D9EB5-7798-4430-BA0A-8FBC4B97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DEC28-280A-4560-89E1-29CBF282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44C14-3CED-41EE-823A-94C3A7CA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262-0FD5-4AFA-991D-D15279BA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B7A1E-710F-4B09-AA12-C200CEA0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C641E-09BC-418C-BC43-9D7E110A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A401B-B6DF-48C9-A2D3-61060333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FC0B9F-87A0-4206-8DDE-DBAE1908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B5ACA-1AA8-431D-811F-04770844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BDFAF-6FE5-4E55-A3AC-E9D4CB1B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DD316-A10B-4ACD-AB9D-E7F9000D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226A8C-87C8-4300-AD3E-5F4CCF58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D0B181-E7C9-4899-A5C2-701C0C37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1507CE-AF04-4947-AD2F-A204540F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EC9-C874-4174-8679-1025AE0D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6E9FC9-43B0-4488-BFCD-12E2A310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3E93E-1255-461D-815E-6BD266E4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884FCB-6802-430A-9989-335E0D21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4C6D20-4131-4CC5-A472-6FB19119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A02537-FEFF-447E-9159-9A03406C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DF6C1-C35D-4967-AA40-79ACB19E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DD0B91-A0D7-4D0A-A045-764273F9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4F8F64-F0AF-48F2-8E42-AC7CAEC9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6366C5-B5B7-44CA-A9DF-CAC0E551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92AF44-D53F-4AAE-B5EF-A8C06771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C0FE-5121-4783-8800-C7CA4139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F2D2C-9E8C-4B75-9FA7-30120709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CA0D45-B9DC-4024-A6C9-85F8FE4F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63C601-52C2-4846-8822-FA47E655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AC8FB0-327D-45C3-8186-BDDE0B16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7A2AD-CF50-4837-8E2F-B10D7B7A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D54-F2CC-46E0-8D42-9E71FF33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802A-9268-4D11-AD3D-47FAD3B3F1BE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9FFC-9C09-43B9-9605-D23F67EF736A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0022-56F0-4186-BADA-C0717EC53DD6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61BD-3DF0-4BCA-A4D6-214A29964D5D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0118-63DA-403C-ABC8-DFBCEE79294E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re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078D-9829-4B6F-AEC2-D6988E36859B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re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re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re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2223-C669-4C62-8D7D-9000283CABED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411000"/>
            <a:ext cx="6172200" cy="5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1f497d"/>
                </a:solidFill>
                <a:latin typeface="Calibri"/>
              </a:rPr>
              <a:t>TRANSPORTE DE CARGA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571640"/>
            <a:ext cx="617220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Grup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gor Mart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Julio Z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Luciana Estru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Thalita Perei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rcRect l="35687" t="47854" r="48940" b="32618"/>
          <a:stretch/>
        </p:blipFill>
        <p:spPr>
          <a:xfrm>
            <a:off x="5572080" y="857160"/>
            <a:ext cx="2700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1f497d"/>
                </a:solidFill>
                <a:latin typeface="Calibri"/>
              </a:rPr>
              <a:t>O MERCADO DE TRANSPORTE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999720"/>
            <a:ext cx="7758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rodoviário é o meio de transporte de cargas mais comum no Brasil, representando cerca de 58% do tot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representa cerca de 60% dos custos logísticos de uma empresa, 3,5% do faturamento e, muitas vezes, o dobro do lucr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Mercado de fretes concorrencial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melhoria contínu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vantagens competitivas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redução do custo de frete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Para melhorar a matriz de transportes brasileira, melhorando o escoamento da produção e elevando a vantagem competitiva do país no mercado mundial, deve ser feito grandes investimentos na manutenção das rodovias, restaurar as ferrovias e investir na criação de vias navegáve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Imagem 3" descr=""/>
          <p:cNvPicPr/>
          <p:nvPr/>
        </p:nvPicPr>
        <p:blipFill>
          <a:blip r:embed="rId1"/>
          <a:stretch/>
        </p:blipFill>
        <p:spPr>
          <a:xfrm>
            <a:off x="1500120" y="1714680"/>
            <a:ext cx="38577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11271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perador Logístico de capital nacion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de carga representa cerca de 60% do faturamen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Frota própria muito pequen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alto índice de terceirizaçã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Trabalho focado em flexibilidade e customização, apoiado em 3 pilares: pessoas, processos e tecnologia de informaçã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1f497d"/>
                </a:solidFill>
                <a:latin typeface="Calibri"/>
              </a:rPr>
              <a:t>AGV LOGÍSTIC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rcRect l="35687" t="47854" r="48940" b="32618"/>
          <a:stretch/>
        </p:blipFill>
        <p:spPr>
          <a:xfrm>
            <a:off x="5786280" y="428760"/>
            <a:ext cx="2500560" cy="1785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2"/>
          <a:srcRect l="35743" t="33751" r="22072" b="25937"/>
          <a:stretch/>
        </p:blipFill>
        <p:spPr>
          <a:xfrm>
            <a:off x="642960" y="1571760"/>
            <a:ext cx="47862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FATORES CHAVE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que os clientes procuram quando escolhem uma transportadora? O que eles acreditam determinar o sucesso no transporte de suas carg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Qualificação bá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Sinergi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tegração dos componentes do serviço logístico (variedade de serviç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Confiabilidade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capacitação técnica e gerencial do transportador (determinante de prazos de entrega, integridade da carga, conservação de equipamentos, et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Segmentação de mer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MATRIZ DE IMPACTO X GRAU DE INCERTEZA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64" name="Objeto 2" descr=""/>
          <p:cNvPicPr/>
          <p:nvPr/>
        </p:nvPicPr>
        <p:blipFill>
          <a:blip r:embed="rId1"/>
          <a:srcRect l="0" t="0" r="0" b="-280"/>
          <a:stretch/>
        </p:blipFill>
        <p:spPr>
          <a:xfrm>
            <a:off x="1285920" y="2071800"/>
            <a:ext cx="5762520" cy="3835440"/>
          </a:xfrm>
          <a:prstGeom prst="rect">
            <a:avLst/>
          </a:prstGeom>
          <a:ln w="0">
            <a:noFill/>
          </a:ln>
        </p:spPr>
      </p:pic>
      <p:sp>
        <p:nvSpPr>
          <p:cNvPr id="365" name="CaixaDeTexto 4"/>
          <p:cNvSpPr/>
          <p:nvPr/>
        </p:nvSpPr>
        <p:spPr>
          <a:xfrm>
            <a:off x="2643120" y="2357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LIENT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aixaDeTexto 5"/>
          <p:cNvSpPr/>
          <p:nvPr/>
        </p:nvSpPr>
        <p:spPr>
          <a:xfrm>
            <a:off x="2571840" y="485784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aixaDeTexto 6"/>
          <p:cNvSpPr/>
          <p:nvPr/>
        </p:nvSpPr>
        <p:spPr>
          <a:xfrm>
            <a:off x="3000240" y="3286080"/>
            <a:ext cx="15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TECN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ixaDeTexto 7"/>
          <p:cNvSpPr/>
          <p:nvPr/>
        </p:nvSpPr>
        <p:spPr>
          <a:xfrm>
            <a:off x="4643280" y="335772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JURÍD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aixaDeTexto 8"/>
          <p:cNvSpPr/>
          <p:nvPr/>
        </p:nvSpPr>
        <p:spPr>
          <a:xfrm>
            <a:off x="6357960" y="242892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CORRÊ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ixaDeTexto 9"/>
          <p:cNvSpPr/>
          <p:nvPr/>
        </p:nvSpPr>
        <p:spPr>
          <a:xfrm>
            <a:off x="4714920" y="235728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ECOCO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aixaDeTexto 10"/>
          <p:cNvSpPr/>
          <p:nvPr/>
        </p:nvSpPr>
        <p:spPr>
          <a:xfrm>
            <a:off x="2643120" y="271476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POLÍ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aixaDeTexto 11"/>
          <p:cNvSpPr/>
          <p:nvPr/>
        </p:nvSpPr>
        <p:spPr>
          <a:xfrm>
            <a:off x="4071960" y="300024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FÍS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AMEAÇAS E OPORTUNIDADES, PONTOS FORTES E FRACO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rcRect l="24744" t="23632" r="23646" b="11914"/>
          <a:stretch/>
        </p:blipFill>
        <p:spPr>
          <a:xfrm>
            <a:off x="833400" y="1679400"/>
            <a:ext cx="6881760" cy="4832640"/>
          </a:xfrm>
          <a:prstGeom prst="rect">
            <a:avLst/>
          </a:prstGeom>
          <a:ln w="0">
            <a:noFill/>
          </a:ln>
        </p:spPr>
      </p:pic>
      <p:sp>
        <p:nvSpPr>
          <p:cNvPr id="375" name="Retângulo 5"/>
          <p:cNvSpPr/>
          <p:nvPr/>
        </p:nvSpPr>
        <p:spPr>
          <a:xfrm>
            <a:off x="785880" y="1571760"/>
            <a:ext cx="28584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AÇÕES PROPOSTAS 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400" y="1357200"/>
            <a:ext cx="7972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Contratar mão de obra qualificad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vestimento em treinamento, buscando o desenvolvimento de certas capacidades e a absorção de novas tecnolog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ncentivos monetá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Desenvolver habilidades gerenciais nos gestores das MPE´s parceiras da AG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Dominar tecnologias de rastreamento de cargas (1) e tecnologias de informação (2)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(1) radiofreqüência, rastreamento por satélite, código de barras (2) roteirizadores, SI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Aumentar escopo de serviços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terconexão de habilidades gerenciais e tecnologias (transporte para indústria farmacêutic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Manter a hierarquia verticalizad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natureza do negócio (beneficia controles e gestão de cust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21:11:57Z</dcterms:created>
  <dc:creator>Thalita</dc:creator>
  <dc:description/>
  <dc:language>en-US</dc:language>
  <cp:lastModifiedBy>agv logistica</cp:lastModifiedBy>
  <dcterms:modified xsi:type="dcterms:W3CDTF">2010-04-08T17:58:17Z</dcterms:modified>
  <cp:revision>34</cp:revision>
  <dc:subject/>
  <dc:title>Slide 1</dc:title>
</cp:coreProperties>
</file>