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FC63-91EB-437F-B549-8AC89646E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8033-8B17-4CC1-BD37-9DFE72360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D50A-1802-4D32-A952-AD025C322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2EB1-BF7D-46DB-B8A9-3BC1D8AAB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90E72-FC0A-4BB8-97C7-5F31F13E1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B9CE1-BBB8-486B-8382-A46FF50DC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D868E-F923-4AAF-9902-373D97E83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AD7A5-73B2-47FA-B272-5C6DC59B4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353A2-5013-49F7-A5C0-76CC13718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E97AA-35B1-42CB-9EA7-B81AED9E9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E0720-EDA8-491A-AB76-2D8C2951B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A918-1D3D-4E01-A043-61497C3C6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7FE39-A4B7-4665-9881-101A2432D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6A148-2577-48E0-8E63-D23D2BEA3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2A1FA-27E6-4A46-BD3B-A51E44098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308E5-C5C3-4D9D-81EC-9E2972D0D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2DB88-963F-4D32-AF73-38C0019DF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777DD3-E52A-4EF6-89F7-E4CC89B14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D0DE24-5A88-415F-90C8-70BE7ECF0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4B041A-9419-436B-869D-475966BB6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522DB8-170B-4D01-9651-1792DE080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B611A1-99F7-48E1-AD8C-7B6BDA697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64D9-24AC-43C2-B74A-070F83366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E62E00-84D5-462D-A02B-09900DB7B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2CA2D6-54A9-44A1-998C-BD86120F9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A8341D-40EC-48B1-A892-AB1E9E07E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27E5F4-2B69-469F-A3F5-A426854FA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9AA0CA-6F6A-4423-82BE-8A06D0F5F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39E04D-C572-416D-8ECC-9A2546B6D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972799-8A3A-43F1-A415-1F0BBB373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3420B-680E-450C-A950-208EC671F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0DBE6-59EF-4DAE-9F6E-427F5EEA9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831DC-D236-4247-B0B1-6FEB84A7B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B639-99F8-42A3-ACEB-D23739F4A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A1CA5-6A10-4BC3-8614-5B4BA1D14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7A1B3-3873-49EC-A33F-597501A1A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94AA1-21DF-4D7A-B9F2-0C0AEF67A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EC5242-9611-488D-AF6F-3FB2E7F5F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494D0-A22E-4596-B356-448A19A9A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03CE87-2BA5-4631-B32C-975772C05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C9777-8B58-46E0-90DA-D0B99F7B8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5347B-7596-4022-BAD2-E4F2EC401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C3CE2-DF13-446E-8FAB-2621F04A5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90AA86-4ECE-4CC5-B213-2BE20153F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B208-2489-48DD-9FC3-46625418C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1FFF58-75DB-42F4-AD22-D86663660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BD74DC-A890-4445-A672-E94EE8888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75A3B3-B65C-416E-839D-B2D8CC231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64DEDB-D2F3-43A5-8842-82E1AAA24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40B7DF-D240-4576-81AE-E460E872C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28C1BA-3D81-4F0E-B9F8-EF9E1C2C5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3FC366-F6C9-4281-AFA6-C3E5AABFC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E4EE83-73B8-41EE-B8D5-41DD366C6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759D60-D5B1-4F33-992D-DB6690E6C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339FFB-9F9C-439B-B98F-8776B7372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EA3B-035F-4B15-B799-ECF49D94E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63DD43-F99F-4002-8816-6B0A8526C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EAD81C-704A-43AF-9DEC-0A33AD6E7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208C3D-ED8B-4A03-B9B7-A414E0768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548950-2D5E-4BC1-B213-9D1CA310B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2777CE-279E-4229-9C8F-F3F68D238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75ED0A-C36F-4DDE-9228-B24AC25E2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26F4CE-AE43-4AD9-AB5B-40F384560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28D6CE-3B6C-41C3-B02E-340F268A9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E41365-62F9-4E9A-AA9A-0FE938B8A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252190-659F-4362-B159-58B643E83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7693-1272-4920-A7BD-AC9981021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5F030B-FFC7-4C69-9907-3551A5391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05E8DB-C4B8-4F94-ADBE-BA70A7F43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84D22F-C6C6-4442-8A11-1244707CD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8F5B95-61B4-46FC-BEA4-B16D285DC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4DB4D8-56AF-4D0C-BE38-C0FCE0D8E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3AE9D6-94F6-4D00-9493-46A8615C2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604B7A-61CC-4C7B-9F61-6DD85E5D9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B4AFA8-14F6-4CAE-8D42-4D7C86C28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916B85-CD56-4EEA-AD01-7A849BFAB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B9F9BD-BD10-4477-A418-56C3ADD25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17DE-51A7-4963-9E67-53B8FE341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2A580F-1AF6-43BA-AB6B-B8ADA6053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B4DEF6-DD5C-449E-8005-3274ED2FA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1C95C5-2996-4653-918C-8D02B9D6D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EB1DCF-3EE9-4012-992E-8C04C5774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B0D79B-AA7C-452B-9C87-B970E05DE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9DBB-757F-408B-84A3-98609466A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Conector reto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Conector reto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Conector reto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tângu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Conector reto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E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BBA42-868B-48B8-9302-B1F9D040925B}" type="slidenum">
              <a:rPr b="1" lang="pt-BR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tângulo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tângulo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tângulo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tângulo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ector reto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Conector reto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ector reto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Conector reto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Conector reto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Conector reto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tângulo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Elipse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Elipse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Elipse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Elipse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Elipse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FA7D3-BBA9-4F76-B7D9-484B52A1BB4C}" type="slidenum">
              <a:rPr b="1" lang="pt-BR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Conector reto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Conector reto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onector reto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tângu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Conector reto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E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1EE75-D1DE-4566-8349-7A18D5715C1E}" type="slidenum">
              <a:rPr b="1" lang="pt-BR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tângulo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tângulo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tângulo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tângulo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Conector reto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Conector reto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Conector reto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Conector reto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Conector reto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tângulo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lipse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Elipse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Elipse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Elipse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Elipse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Conector reto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eece1"/>
                </a:solidFill>
                <a:latin typeface="Calibri"/>
              </a:rPr>
              <a:t>Click to edit the title text format</a:t>
            </a:r>
            <a:endParaRPr b="0" lang="en-US" sz="3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eeece1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eeece1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6D644-476D-4A4B-BACE-D357D7A9CE6B}" type="slidenum">
              <a:rPr b="1" lang="pt-BR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Conector reto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Conector reto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Conector reto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tângu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Conector reto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E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F673A-A597-4C2C-80D5-D5CFBF24A26B}" type="slidenum">
              <a:rPr b="1" lang="pt-BR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Conector reto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Conector reto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Conector reto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Conector reto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tângulo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Conector reto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Elipse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C2712-4D29-4F14-9280-A60AC670CD48}" type="slidenum">
              <a:rPr b="1" lang="pt-BR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Conector reto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Elipse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Conector reto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tângulo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Conector reto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Conector reto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Conector reto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8F36E-45BA-4EDD-B750-075DAC6F845E}" type="slidenum">
              <a:rPr b="1" lang="pt-BR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411000"/>
            <a:ext cx="6172200" cy="5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1f497d"/>
                </a:solidFill>
                <a:latin typeface="Calibri"/>
              </a:rPr>
              <a:t>TRANSPORTE DE CARGAS</a:t>
            </a: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4571640"/>
            <a:ext cx="6172200" cy="180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Grupo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Igor Marti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Julio Zar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Luciana Estru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Thalita Perei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3" name="Picture 2" descr=""/>
          <p:cNvPicPr/>
          <p:nvPr/>
        </p:nvPicPr>
        <p:blipFill>
          <a:blip r:embed="rId1"/>
          <a:srcRect l="35687" t="47854" r="48940" b="32618"/>
          <a:stretch/>
        </p:blipFill>
        <p:spPr>
          <a:xfrm>
            <a:off x="5572080" y="857160"/>
            <a:ext cx="270036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1f497d"/>
                </a:solidFill>
                <a:latin typeface="Calibri"/>
              </a:rPr>
              <a:t>O MERCADO DE TRANSPORTE</a:t>
            </a:r>
            <a:endParaRPr b="0" lang="en-US" sz="27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7200" y="999720"/>
            <a:ext cx="7758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O transporte rodoviário é o meio de transporte de cargas mais comum no Brasil, representando cerca de 58% do total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O transporte representa cerca de 60% dos custos logísticos de uma empresa, 3,5% do faturamento e, muitas vezes, o dobro do lucro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Mercado de fretes concorrencial </a:t>
            </a:r>
            <a:r>
              <a:rPr b="1" lang="pt-BR" sz="1800" spc="-1" strike="noStrike">
                <a:solidFill>
                  <a:srgbClr val="1f497d"/>
                </a:solidFill>
                <a:latin typeface="Wingdings"/>
                <a:ea typeface="Wingdings"/>
              </a:rPr>
              <a:t></a:t>
            </a: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 melhoria contínua </a:t>
            </a:r>
            <a:r>
              <a:rPr b="1" lang="pt-BR" sz="1800" spc="-1" strike="noStrike">
                <a:solidFill>
                  <a:srgbClr val="1f497d"/>
                </a:solidFill>
                <a:latin typeface="Wingdings"/>
                <a:ea typeface="Wingdings"/>
              </a:rPr>
              <a:t></a:t>
            </a: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 vantagens competitivas </a:t>
            </a:r>
            <a:r>
              <a:rPr b="1" lang="pt-BR" sz="1800" spc="-1" strike="noStrike">
                <a:solidFill>
                  <a:srgbClr val="1f497d"/>
                </a:solidFill>
                <a:latin typeface="Wingdings"/>
                <a:ea typeface="Wingdings"/>
              </a:rPr>
              <a:t></a:t>
            </a: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 redução do custo de frete 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Para melhorar a matriz de transportes brasileira, melhorando o escoamento da produção e elevando a vantagem competitiva do país no mercado mundial, deve ser feito grandes investimentos na manutenção das rodovias, restaurar as ferrovias e investir na criação de vias navegávei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6" name="Imagem 3" descr=""/>
          <p:cNvPicPr/>
          <p:nvPr/>
        </p:nvPicPr>
        <p:blipFill>
          <a:blip r:embed="rId1"/>
          <a:stretch/>
        </p:blipFill>
        <p:spPr>
          <a:xfrm>
            <a:off x="1500120" y="1714680"/>
            <a:ext cx="3857760" cy="18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456840" y="112716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Operador Logístico de capital nacional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O transporte de carga representa cerca de 60% do faturamento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Frota própria muito pequena </a:t>
            </a:r>
            <a:r>
              <a:rPr b="1" lang="pt-BR" sz="1800" spc="-1" strike="noStrike">
                <a:solidFill>
                  <a:srgbClr val="1f497d"/>
                </a:solidFill>
                <a:latin typeface="Wingdings"/>
                <a:ea typeface="Wingdings"/>
              </a:rPr>
              <a:t></a:t>
            </a: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 alto índice de terceirização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Trabalho focado em flexibilidade e customização, apoiado em 3 pilares: pessoas, processos e tecnologia de informaçã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1f497d"/>
                </a:solidFill>
                <a:latin typeface="Calibri"/>
              </a:rPr>
              <a:t>AGV LOGÍSTICA</a:t>
            </a:r>
            <a:endParaRPr b="0" lang="en-US" sz="27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359" name="Picture 2" descr=""/>
          <p:cNvPicPr/>
          <p:nvPr/>
        </p:nvPicPr>
        <p:blipFill>
          <a:blip r:embed="rId1"/>
          <a:srcRect l="35687" t="47854" r="48940" b="32618"/>
          <a:stretch/>
        </p:blipFill>
        <p:spPr>
          <a:xfrm>
            <a:off x="5786280" y="428760"/>
            <a:ext cx="2500560" cy="178596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2" descr=""/>
          <p:cNvPicPr/>
          <p:nvPr/>
        </p:nvPicPr>
        <p:blipFill>
          <a:blip r:embed="rId2"/>
          <a:srcRect l="35743" t="33751" r="22072" b="25937"/>
          <a:stretch/>
        </p:blipFill>
        <p:spPr>
          <a:xfrm>
            <a:off x="642960" y="1571760"/>
            <a:ext cx="478620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1f497d"/>
                </a:solidFill>
                <a:latin typeface="Calibri"/>
              </a:rPr>
              <a:t>FATORES CHAVES</a:t>
            </a: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O que os clientes procuram quando escolhem uma transportadora? O que eles acreditam determinar o sucesso no transporte de suas carga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Qualificação bá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Sinergia </a:t>
            </a:r>
            <a:r>
              <a:rPr b="1" lang="pt-BR" sz="1800" spc="-1" strike="noStrike">
                <a:solidFill>
                  <a:srgbClr val="1f497d"/>
                </a:solidFill>
                <a:latin typeface="Wingdings"/>
                <a:ea typeface="Wingdings"/>
              </a:rPr>
              <a:t></a:t>
            </a: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 integração dos componentes do serviço logístico (variedade de serviço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Confiabilidade </a:t>
            </a:r>
            <a:r>
              <a:rPr b="1" lang="pt-BR" sz="1800" spc="-1" strike="noStrike">
                <a:solidFill>
                  <a:srgbClr val="1f497d"/>
                </a:solidFill>
                <a:latin typeface="Wingdings"/>
                <a:ea typeface="Wingdings"/>
              </a:rPr>
              <a:t></a:t>
            </a: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 capacitação técnica e gerencial do transportador (determinante de prazos de entrega, integridade da carga, conservação de equipamentos, etc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Segmentação de merca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1f497d"/>
                </a:solidFill>
                <a:latin typeface="Calibri"/>
              </a:rPr>
              <a:t>MATRIZ DE IMPACTO X GRAU DE INCERTEZA</a:t>
            </a: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364" name="Objeto 2" descr=""/>
          <p:cNvPicPr/>
          <p:nvPr/>
        </p:nvPicPr>
        <p:blipFill>
          <a:blip r:embed="rId1"/>
          <a:srcRect l="0" t="0" r="0" b="-280"/>
          <a:stretch/>
        </p:blipFill>
        <p:spPr>
          <a:xfrm>
            <a:off x="1285920" y="2071800"/>
            <a:ext cx="5762520" cy="3835440"/>
          </a:xfrm>
          <a:prstGeom prst="rect">
            <a:avLst/>
          </a:prstGeom>
          <a:ln w="0">
            <a:noFill/>
          </a:ln>
        </p:spPr>
      </p:pic>
      <p:sp>
        <p:nvSpPr>
          <p:cNvPr id="365" name="CaixaDeTexto 4"/>
          <p:cNvSpPr/>
          <p:nvPr/>
        </p:nvSpPr>
        <p:spPr>
          <a:xfrm>
            <a:off x="2643120" y="2357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CLIENT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CaixaDeTexto 5"/>
          <p:cNvSpPr/>
          <p:nvPr/>
        </p:nvSpPr>
        <p:spPr>
          <a:xfrm>
            <a:off x="2571840" y="4857840"/>
            <a:ext cx="171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AMBIENTE SOC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CaixaDeTexto 6"/>
          <p:cNvSpPr/>
          <p:nvPr/>
        </p:nvSpPr>
        <p:spPr>
          <a:xfrm>
            <a:off x="3000240" y="3286080"/>
            <a:ext cx="157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AMBIENTE TECNOLÓG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CaixaDeTexto 7"/>
          <p:cNvSpPr/>
          <p:nvPr/>
        </p:nvSpPr>
        <p:spPr>
          <a:xfrm>
            <a:off x="4643280" y="3357720"/>
            <a:ext cx="185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AMBIENTE JURÍD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CaixaDeTexto 8"/>
          <p:cNvSpPr/>
          <p:nvPr/>
        </p:nvSpPr>
        <p:spPr>
          <a:xfrm>
            <a:off x="6357960" y="2428920"/>
            <a:ext cx="157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CONCORRÊN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CaixaDeTexto 9"/>
          <p:cNvSpPr/>
          <p:nvPr/>
        </p:nvSpPr>
        <p:spPr>
          <a:xfrm>
            <a:off x="4714920" y="2357280"/>
            <a:ext cx="1785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AMBIENTE ECOCOM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CaixaDeTexto 10"/>
          <p:cNvSpPr/>
          <p:nvPr/>
        </p:nvSpPr>
        <p:spPr>
          <a:xfrm>
            <a:off x="2643120" y="2714760"/>
            <a:ext cx="1000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AMBIENTE POLÍ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CaixaDeTexto 11"/>
          <p:cNvSpPr/>
          <p:nvPr/>
        </p:nvSpPr>
        <p:spPr>
          <a:xfrm>
            <a:off x="4071960" y="3000240"/>
            <a:ext cx="178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AMBIENTE FÍS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77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1f497d"/>
                </a:solidFill>
                <a:latin typeface="Calibri"/>
              </a:rPr>
              <a:t>AMEAÇAS E OPORTUNIDADES, PONTOS FORTES E FRACOS</a:t>
            </a: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374" name="Picture 3" descr=""/>
          <p:cNvPicPr/>
          <p:nvPr/>
        </p:nvPicPr>
        <p:blipFill>
          <a:blip r:embed="rId1"/>
          <a:srcRect l="24744" t="23632" r="23646" b="11914"/>
          <a:stretch/>
        </p:blipFill>
        <p:spPr>
          <a:xfrm>
            <a:off x="833400" y="1679400"/>
            <a:ext cx="6881760" cy="4832640"/>
          </a:xfrm>
          <a:prstGeom prst="rect">
            <a:avLst/>
          </a:prstGeom>
          <a:ln w="0">
            <a:noFill/>
          </a:ln>
        </p:spPr>
      </p:pic>
      <p:sp>
        <p:nvSpPr>
          <p:cNvPr id="375" name="Retângulo 5"/>
          <p:cNvSpPr/>
          <p:nvPr/>
        </p:nvSpPr>
        <p:spPr>
          <a:xfrm>
            <a:off x="785880" y="1571760"/>
            <a:ext cx="285840" cy="214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28400" y="142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1f497d"/>
                </a:solidFill>
                <a:latin typeface="Calibri"/>
              </a:rPr>
              <a:t>AÇÕES PROPOSTAS </a:t>
            </a: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28400" y="1357200"/>
            <a:ext cx="79722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Contratar mão de obra qualificada </a:t>
            </a:r>
            <a:r>
              <a:rPr b="1" lang="pt-BR" sz="1800" spc="-1" strike="noStrike">
                <a:solidFill>
                  <a:srgbClr val="1f497d"/>
                </a:solidFill>
                <a:latin typeface="Wingdings"/>
                <a:ea typeface="Wingdings"/>
              </a:rPr>
              <a:t></a:t>
            </a: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 investimento em treinamento, buscando o desenvolvimento de certas capacidades e a absorção de novas tecnologi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Incentivos monetári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Desenvolver habilidades gerenciais nos gestores das MPE´s parceiras da AG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Dominar tecnologias de rastreamento de cargas (1) e tecnologias de informação (2) </a:t>
            </a:r>
            <a:r>
              <a:rPr b="1" lang="pt-BR" sz="1800" spc="-1" strike="noStrike">
                <a:solidFill>
                  <a:srgbClr val="1f497d"/>
                </a:solidFill>
                <a:latin typeface="Wingdings"/>
                <a:ea typeface="Wingdings"/>
              </a:rPr>
              <a:t></a:t>
            </a: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 (1) radiofreqüência, rastreamento por satélite, código de barras (2) roteirizadores, SI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Aumentar escopo de serviços </a:t>
            </a:r>
            <a:r>
              <a:rPr b="1" lang="pt-BR" sz="1800" spc="-1" strike="noStrike">
                <a:solidFill>
                  <a:srgbClr val="1f497d"/>
                </a:solidFill>
                <a:latin typeface="Wingdings"/>
                <a:ea typeface="Wingdings"/>
              </a:rPr>
              <a:t></a:t>
            </a: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 interconexão de habilidades gerenciais e tecnologias (transporte para indústria farmacêutic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Manter a hierarquia verticalizada </a:t>
            </a:r>
            <a:r>
              <a:rPr b="1" lang="pt-BR" sz="1800" spc="-1" strike="noStrike">
                <a:solidFill>
                  <a:srgbClr val="1f497d"/>
                </a:solidFill>
                <a:latin typeface="Wingdings"/>
                <a:ea typeface="Wingdings"/>
              </a:rPr>
              <a:t></a:t>
            </a: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 natureza do negócio (beneficia controles e gestão de custo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4T21:11:57Z</dcterms:created>
  <dc:creator>Thalita</dc:creator>
  <dc:description/>
  <dc:language>en-US</dc:language>
  <cp:lastModifiedBy>agv logistica</cp:lastModifiedBy>
  <dcterms:modified xsi:type="dcterms:W3CDTF">2010-04-08T17:58:17Z</dcterms:modified>
  <cp:revision>34</cp:revision>
  <dc:subject/>
  <dc:title>Slide 1</dc:title>
</cp:coreProperties>
</file>