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3ED3-D01C-4696-88EF-B5CFF2A94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330A-3DCD-4671-A6F0-375DBE38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84AB-B327-43F8-BCE1-D51C29C7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BD84-6476-40EB-A323-AAD6B1113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F940-0D1C-4575-BD8E-91B44D82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1FD2-FC64-4E52-89B3-A6791DD0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0827-50E3-4D3E-B3C1-C891D022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3EBC-F76A-4D1C-B719-5D548AA5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ACC8-2207-490F-AC71-FF51E049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A206-BB57-49D4-AB45-D3C5A213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0093-524E-4CD4-A4EE-06261F06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FA4E-DB18-4F6D-BD0E-0D6C4254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CB35-EF22-4301-9127-555F177D2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19280" y="5578560"/>
            <a:ext cx="1893960" cy="1312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9999"/>
                </a:solidFill>
                <a:latin typeface="Arial"/>
              </a:rPr>
              <a:t>Setor</a:t>
            </a:r>
            <a:r>
              <a:rPr b="0" lang="pt-BR" sz="4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pt-BR" sz="4400" spc="-1" strike="noStrike">
                <a:solidFill>
                  <a:srgbClr val="009999"/>
                </a:solidFill>
                <a:latin typeface="Arial"/>
              </a:rPr>
              <a:t>Alimentí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58920" y="177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99"/>
                </a:solidFill>
                <a:latin typeface="Arial"/>
              </a:rPr>
              <a:t>Segmento de Laticín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99"/>
                </a:solidFill>
                <a:latin typeface="Arial"/>
              </a:rPr>
              <a:t>Alibra Ingredientes Lt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57960" y="5578560"/>
            <a:ext cx="1908360" cy="1279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503520" y="5589720"/>
            <a:ext cx="1882800" cy="1279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364000" y="5587920"/>
            <a:ext cx="1905120" cy="1281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0" y="5611680"/>
            <a:ext cx="1692360" cy="1268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227640" y="3645000"/>
            <a:ext cx="3311640" cy="21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Grup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Débora L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Fabiana Delafiori Ol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Fabiana E. Tedesc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Martha R. 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Roberta Travas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Indústria Alimentícia: Linha do T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299736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ício da Indústria Alimentícia no Brasil: final do século XIX, representando 20% da produção industrial do paí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quenas indústrias pulverizadas no paí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edominância de capital privado nacio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700280"/>
            <a:ext cx="7775640" cy="0"/>
          </a:xfrm>
          <a:prstGeom prst="line">
            <a:avLst/>
          </a:prstGeom>
          <a:ln w="7632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1722600"/>
            <a:ext cx="0" cy="14256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3720" y="1938240"/>
            <a:ext cx="10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Final Século X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1751040"/>
            <a:ext cx="0" cy="1429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4720" y="191628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Década de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2946240"/>
            <a:ext cx="29876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presas do setor tornam-se maiores e mais concentr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ício da participação de Capital estrang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taque para a fabricação de farinha, açúcar e cerve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3920" y="1700280"/>
            <a:ext cx="468360" cy="0"/>
          </a:xfrm>
          <a:prstGeom prst="line">
            <a:avLst/>
          </a:prstGeom>
          <a:ln w="7632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78560" y="1751040"/>
            <a:ext cx="0" cy="1429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04000" y="1916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2924280"/>
            <a:ext cx="2987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unção de grandes empresas do se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or taxa de crescimento são as bebidas a base de laticínios e bebidas funcion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rescimento de 8,9% nas vendas do último 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885080" y="260280"/>
            <a:ext cx="10098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Empresa Alibra e seu setor de atu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duz e comercializa derivados lácteos em pó e misturas alimentícias em p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ábricas nas cidades de Campinas (SP) e Marechal Cândido Rondon (P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duto focado no trabalho: Soro de Le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oro de leite é um subproduto do processo de fabricação de queijos, que contém elevado teor de cálcio e proteínas com alto valor nutricio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aplicações do soro do leite na indústria alimentícia são variadas: fabricação de bolos, bebidas lácteas, sorvetes entre ou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proteínas do soro do leite podem ser concentradas e isoladas, sendo usadas em suplementos alimentares (melhoramento do rendimento esporti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100944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5724360" y="2060640"/>
            <a:ext cx="3095640" cy="2975760"/>
            <a:chOff x="5724360" y="2060640"/>
            <a:chExt cx="3095640" cy="2975760"/>
          </a:xfrm>
        </p:grpSpPr>
        <p:sp>
          <p:nvSpPr>
            <p:cNvPr id="66" name=""/>
            <p:cNvSpPr/>
            <p:nvPr/>
          </p:nvSpPr>
          <p:spPr>
            <a:xfrm>
              <a:off x="5724360" y="2060640"/>
              <a:ext cx="2376720" cy="2736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867280" y="2060640"/>
              <a:ext cx="2952720" cy="29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A - Cli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B - Logíst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C- Cus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D - Mercado exter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E - Hábitos do consumid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F- Econom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G - Poder de barganh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H - Preocupação  Ambien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I - Qualida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J - Concorrê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K - Inov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L - Ambiente Polít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 rot="16200000">
            <a:off x="130680" y="328500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Impa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00680" y="501336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Grau de Incert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989000"/>
            <a:ext cx="223200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32000" y="1989000"/>
            <a:ext cx="2232000" cy="14414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3430440"/>
            <a:ext cx="2232000" cy="14414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32000" y="3430440"/>
            <a:ext cx="223200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27640" y="2347920"/>
            <a:ext cx="43164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70480" y="237024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17520" y="2181240"/>
            <a:ext cx="43200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60720" y="220356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2036880"/>
            <a:ext cx="43200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53080" y="205884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62600" y="1965240"/>
            <a:ext cx="43164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05440" y="198756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46240" y="2781360"/>
            <a:ext cx="43164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89080" y="2803680"/>
            <a:ext cx="2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2540160"/>
            <a:ext cx="401760" cy="433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52720" y="25621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3880" y="2252520"/>
            <a:ext cx="43164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37080" y="227484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46240" y="3548160"/>
            <a:ext cx="43164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89080" y="357012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6240" y="3981600"/>
            <a:ext cx="431640" cy="433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9080" y="4003560"/>
            <a:ext cx="2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46240" y="2828880"/>
            <a:ext cx="43200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88720" y="2851200"/>
            <a:ext cx="2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09880" y="3692520"/>
            <a:ext cx="43164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52720" y="371484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06600" y="2540160"/>
            <a:ext cx="432000" cy="433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49440" y="25621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5080" y="198900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 Narrow"/>
              </a:rPr>
              <a:t>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60720" y="494028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 Narrow"/>
              </a:rPr>
              <a:t>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98560" y="4869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 Narrow"/>
              </a:rPr>
              <a:t>Bai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2160" y="45813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 Narrow"/>
              </a:rPr>
              <a:t>Bai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2602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Matriz Grau de Incerteza x Grau de Impa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100944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Análise SW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272360" cy="4238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956720" y="189000"/>
            <a:ext cx="100944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Matriz Importância x Desempen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667640" y="260280"/>
            <a:ext cx="1009800" cy="479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Users\Debora\Desktop\Documents\Meus arquivos recebidos\import desemp(3).jpg"/>
          <p:cNvPicPr/>
          <p:nvPr/>
        </p:nvPicPr>
        <p:blipFill>
          <a:blip r:embed="rId2"/>
          <a:stretch/>
        </p:blipFill>
        <p:spPr>
          <a:xfrm>
            <a:off x="539640" y="1700280"/>
            <a:ext cx="748836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7920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Estratég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1011240" cy="478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68360" y="1341360"/>
            <a:ext cx="8280360" cy="49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cnolo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dquirir tecnologia para a produção de Concentrado e Isolado Protéico do Soro de le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esso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pacitação das equipes técnicas e Comercial para a fabricação do novo produ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est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orizontalizar estrutura organizacional da empresa, parceria com empresas que utilizam a mesma matéria-p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4:36:40Z</dcterms:created>
  <dc:creator>IST</dc:creator>
  <dc:description/>
  <dc:language>en-US</dc:language>
  <cp:lastModifiedBy>debora.lapa</cp:lastModifiedBy>
  <dcterms:modified xsi:type="dcterms:W3CDTF">2010-04-06T16:58:43Z</dcterms:modified>
  <cp:revision>17</cp:revision>
  <dc:subject/>
  <dc:title>Setor Alimentício</dc:title>
</cp:coreProperties>
</file>