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7A7-3085-444C-91D3-672E6EE3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732-1911-42CE-9C81-9CBE5BFA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4F4-766D-4D46-9301-5935DBC9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769-31ED-4542-947D-7462F30D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B94-EF86-433C-B9CA-67328E77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BF5-E9A1-4613-A6D2-EDC96ABB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007-F121-42EB-89AE-4BB23742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289-5F2E-4195-A261-A6AB904F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96A-A4A8-40D2-BA81-57CA6A93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BD9-B52E-4A2C-8C99-85F3A7C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641-375B-45E7-811B-19FA2B7C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C10-C536-429B-AE6E-8F1CFFDB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E45E-4A04-4CF4-9480-183732657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5578560"/>
            <a:ext cx="1893960" cy="131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Setor</a:t>
            </a:r>
            <a:r>
              <a:rPr b="0" lang="pt-BR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Aliment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Segmento de Laticín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Alibra Ingredientes Lt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57960" y="5578560"/>
            <a:ext cx="1908360" cy="127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03520" y="5589720"/>
            <a:ext cx="1882800" cy="127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64000" y="5587920"/>
            <a:ext cx="190512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5611680"/>
            <a:ext cx="1692360" cy="126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227640" y="3645000"/>
            <a:ext cx="331164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bora L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Delafiori Ol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E. Tede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Martha R. 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Roberta Trav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Indústria Alimentícia: Linha do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Indústria Alimentícia no Brasil: final do século XIX, representando 20% da produção industrial do paí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quenas indústrias pulverizadas n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dominância de capital privado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700280"/>
            <a:ext cx="7775640" cy="0"/>
          </a:xfrm>
          <a:prstGeom prst="line">
            <a:avLst/>
          </a:prstGeom>
          <a:ln w="7632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722600"/>
            <a:ext cx="0" cy="1425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3720" y="193824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inal Sécu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19162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cada de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946240"/>
            <a:ext cx="29876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sas do setor tornam-se maiores e mais conc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participação de Capital estrang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taque para a fabricação de farinha, açúcar e cerv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3920" y="1700280"/>
            <a:ext cx="468360" cy="0"/>
          </a:xfrm>
          <a:prstGeom prst="line">
            <a:avLst/>
          </a:prstGeom>
          <a:ln w="7632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7856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9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2924280"/>
            <a:ext cx="298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nção de grandes empresas do se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 taxa de crescimento são as bebidas a base de laticínios e bebidas fun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scimento de 8,9% nas vendas do últim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098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mpresa Alibra e seu setor de a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z e comercializa derivados lácteos em pó e misturas alimentícias em p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ábricas nas cidades de Campinas (SP) e Marechal Cândido Rondon (P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to focado no trabalho: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ro de leite é um subproduto do processo de fabricação de queijos, que contém elevado teor de cálcio e proteínas com alto valor nutri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aplicações do soro do leite na indústria alimentícia são variadas: fabricação de bolos, bebidas lácteas, sorvetes entre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oteínas do soro do leite podem ser concentradas e isoladas, sendo usadas em suplementos alimentares (melhoramento do rendimento espor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724360" y="2060640"/>
            <a:ext cx="3095640" cy="2975760"/>
            <a:chOff x="5724360" y="2060640"/>
            <a:chExt cx="3095640" cy="2975760"/>
          </a:xfrm>
        </p:grpSpPr>
        <p:sp>
          <p:nvSpPr>
            <p:cNvPr id="66" name=""/>
            <p:cNvSpPr/>
            <p:nvPr/>
          </p:nvSpPr>
          <p:spPr>
            <a:xfrm>
              <a:off x="5724360" y="2060640"/>
              <a:ext cx="2376720" cy="27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67280" y="2060640"/>
              <a:ext cx="2952720" cy="29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A - 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B - Logís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C- Cu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D - Mercado ex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E - Hábitos do consum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- Econo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G - Poder de bargan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H - Preocupação 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I - Qual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J - Concor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K -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L - Ambiente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6200000">
            <a:off x="130680" y="32850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0680" y="50133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Grau de Ince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98900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198900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3044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343044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23479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70480" y="23702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7520" y="218124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720" y="2203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036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3080" y="2058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62600" y="196524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1987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6240" y="27813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9080" y="280368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40160"/>
            <a:ext cx="40176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272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3880" y="225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7080" y="22748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6240" y="35481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9080" y="357012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981600"/>
            <a:ext cx="43164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400356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2828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8720" y="28512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9880" y="369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2720" y="3714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06600" y="2540160"/>
            <a:ext cx="43200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944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5080" y="1989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0720" y="494028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160" y="4581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Grau de Incerteza x Grau de Impa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Análise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272360" cy="423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10094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Importância x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67640" y="260280"/>
            <a:ext cx="1009800" cy="47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Debora\Desktop\Documents\Meus arquivos recebidos\import desemp(3).jpg"/>
          <p:cNvPicPr/>
          <p:nvPr/>
        </p:nvPicPr>
        <p:blipFill>
          <a:blip r:embed="rId2"/>
          <a:stretch/>
        </p:blipFill>
        <p:spPr>
          <a:xfrm>
            <a:off x="539640" y="1700280"/>
            <a:ext cx="7488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straté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11240" cy="47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1341360"/>
            <a:ext cx="828036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quirir tecnologia para a produção de Concentrado e Isolado Protéico do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pacitação das equipes técnicas e Comercial para a fabricação do novo produ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s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rizontalizar estrutura organizacional da empresa, parceria com empresas que utilizam a mesma matéria-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36:40Z</dcterms:created>
  <dc:creator>IST</dc:creator>
  <dc:description/>
  <dc:language>en-US</dc:language>
  <cp:lastModifiedBy>debora.lapa</cp:lastModifiedBy>
  <dcterms:modified xsi:type="dcterms:W3CDTF">2010-04-06T16:58:43Z</dcterms:modified>
  <cp:revision>17</cp:revision>
  <dc:subject/>
  <dc:title>Setor Alimentício</dc:title>
</cp:coreProperties>
</file>