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5EF-FEDA-440A-B134-C5D71043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89AD-3151-4A2F-8036-0E9000F4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813-DFDC-4D43-8961-FDD8D926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1E6F-3AB6-4C23-B4CC-F8977943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0FF5-AE4F-4115-A0B2-F6B4A9DE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8EC0-E5A2-4877-A1AD-EB3DF6E2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02A6-5DF6-4286-ADBA-93094101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F31C-CC4E-4350-8922-26D37325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61A-B18E-4AF7-AAD5-94118223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90B-05CC-4D1B-AA3F-D550C939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86B-31E1-46A8-B522-E0C8AEAD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8AF6-90E5-46C5-A91B-3DCD45FA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DAD1-748B-4724-B87A-9BAD7774F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19280" y="5578560"/>
            <a:ext cx="1893960" cy="1312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9999"/>
                </a:solidFill>
                <a:latin typeface="Arial"/>
              </a:rPr>
              <a:t>Setor</a:t>
            </a:r>
            <a:r>
              <a:rPr b="0" lang="pt-BR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pt-BR" sz="4400" spc="-1" strike="noStrike">
                <a:solidFill>
                  <a:srgbClr val="009999"/>
                </a:solidFill>
                <a:latin typeface="Arial"/>
              </a:rPr>
              <a:t>Aliment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Arial"/>
              </a:rPr>
              <a:t>Segmento de Laticín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Arial"/>
              </a:rPr>
              <a:t>Alibra Ingredientes Lt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57960" y="5578560"/>
            <a:ext cx="1908360" cy="127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03520" y="5589720"/>
            <a:ext cx="1882800" cy="1279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364000" y="5587920"/>
            <a:ext cx="1905120" cy="1281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5611680"/>
            <a:ext cx="1692360" cy="126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227640" y="3645000"/>
            <a:ext cx="331164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Grup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Débora L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Fabiana Delafiori Ol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Fabiana E. Tedes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Martha R. 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Roberta Trava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Indústria Alimentícia: Linha do T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ício da Indústria Alimentícia no Brasil: final do século XIX, representando 20% da produção industrial do paí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quenas indústrias pulverizadas no paí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dominância de capital privado na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700280"/>
            <a:ext cx="7775640" cy="0"/>
          </a:xfrm>
          <a:prstGeom prst="line">
            <a:avLst/>
          </a:prstGeom>
          <a:ln w="7632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1722600"/>
            <a:ext cx="0" cy="1425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3720" y="193824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Final Século 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1751040"/>
            <a:ext cx="0" cy="142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191628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Década de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946240"/>
            <a:ext cx="29876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presas do setor tornam-se maiores e mais concent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ício da participação de Capital estrang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taque para a fabricação de farinha, açúcar e cerv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3920" y="1700280"/>
            <a:ext cx="468360" cy="0"/>
          </a:xfrm>
          <a:prstGeom prst="line">
            <a:avLst/>
          </a:prstGeom>
          <a:ln w="7632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78560" y="1751040"/>
            <a:ext cx="0" cy="142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1916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2924280"/>
            <a:ext cx="2987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nção de grandes empresas do se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r taxa de crescimento são as bebidas a base de laticínios e bebidas fun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escimento de 8,9% nas vendas do último 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098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Empresa Alibra e seu setor de atu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z e comercializa derivados lácteos em pó e misturas alimentícias em p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ábricas nas cidades de Campinas (SP) e Marechal Cândido Rondon (P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to focado no trabalho: Soro de L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ro de leite é um subproduto do processo de fabricação de queijos, que contém elevado teor de cálcio e proteínas com alto valor nutri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aplicações do soro do leite na indústria alimentícia são variadas: fabricação de bolos, bebidas lácteas, sorvetes entre ou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oteínas do soro do leite podem ser concentradas e isoladas, sendo usadas em suplementos alimentares (melhoramento do rendimento espor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0094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5724360" y="2060640"/>
            <a:ext cx="3095640" cy="2975760"/>
            <a:chOff x="5724360" y="2060640"/>
            <a:chExt cx="3095640" cy="2975760"/>
          </a:xfrm>
        </p:grpSpPr>
        <p:sp>
          <p:nvSpPr>
            <p:cNvPr id="66" name=""/>
            <p:cNvSpPr/>
            <p:nvPr/>
          </p:nvSpPr>
          <p:spPr>
            <a:xfrm>
              <a:off x="5724360" y="2060640"/>
              <a:ext cx="2376720" cy="2736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67280" y="2060640"/>
              <a:ext cx="2952720" cy="29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A - Cli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B - Logís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C- Cu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D - Mercado ext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E - Hábitos do consumi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F- Econo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G - Poder de barganh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H - Preocupação  Ambi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I - Qualid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J - Concorrê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K - Inov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L - Ambiente Polí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 rot="16200000">
            <a:off x="130680" y="328500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Imp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00680" y="501336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Grau de Incert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989000"/>
            <a:ext cx="223200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2000" y="1989000"/>
            <a:ext cx="2232000" cy="14414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430440"/>
            <a:ext cx="2232000" cy="14414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3430440"/>
            <a:ext cx="223200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7640" y="234792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70480" y="237024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17520" y="2181240"/>
            <a:ext cx="43200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60720" y="220356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2036880"/>
            <a:ext cx="43200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3080" y="205884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62600" y="196524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198756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46240" y="278136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9080" y="280368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540160"/>
            <a:ext cx="401760" cy="433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2720" y="2562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3880" y="225252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7080" y="227484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6240" y="354816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9080" y="357012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6240" y="3981600"/>
            <a:ext cx="431640" cy="433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9080" y="400356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46240" y="2828880"/>
            <a:ext cx="43200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8720" y="285120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09880" y="369252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2720" y="371484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06600" y="2540160"/>
            <a:ext cx="432000" cy="433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9440" y="2562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5080" y="19890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60720" y="494028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98560" y="486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Ba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160" y="4581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Ba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2602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Matriz Grau de Incerteza x Grau de Impa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10094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Análise SW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272360" cy="4238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56720" y="189000"/>
            <a:ext cx="100944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Matriz Importância x Desempen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67640" y="260280"/>
            <a:ext cx="1009800" cy="479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Debora\Desktop\Documents\Meus arquivos recebidos\import desemp(3).jpg"/>
          <p:cNvPicPr/>
          <p:nvPr/>
        </p:nvPicPr>
        <p:blipFill>
          <a:blip r:embed="rId2"/>
          <a:stretch/>
        </p:blipFill>
        <p:spPr>
          <a:xfrm>
            <a:off x="539640" y="1700280"/>
            <a:ext cx="74883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920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Estratég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011240" cy="47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1341360"/>
            <a:ext cx="828036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quirir tecnologia para a produção de Concentrado e Isolado Protéico do Soro de l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sso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pacitação das equipes técnicas e Comercial para a fabricação do novo produ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st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orizontalizar estrutura organizacional da empresa, parceria com empresas que utilizam a mesma matéria-p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4:36:40Z</dcterms:created>
  <dc:creator>IST</dc:creator>
  <dc:description/>
  <dc:language>en-US</dc:language>
  <cp:lastModifiedBy>debora.lapa</cp:lastModifiedBy>
  <dcterms:modified xsi:type="dcterms:W3CDTF">2010-04-06T16:58:43Z</dcterms:modified>
  <cp:revision>17</cp:revision>
  <dc:subject/>
  <dc:title>Setor Alimentício</dc:title>
</cp:coreProperties>
</file>