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DAB-79E4-4AF8-9E01-B4938B7E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8059-F8F7-43E6-9B0D-628B14F5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6F1-F16F-480D-8AA5-5E789318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187-3A58-46AB-8272-6E0F7DBA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57A-A6FD-47F9-A6E6-7A041C72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B02-A06F-4BE2-9B48-89B24EE0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9A9-E657-48B4-BCE7-EA18B268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BC5-E90F-4400-9746-967F40F6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ACA-C26B-4D37-B927-6BE41A25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8EB-CCDF-4324-A6E0-481B93A0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363-078C-4298-B568-EBD4D9E7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1C6-51FC-4797-9E37-DC99FB2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5A27-B6BE-4C20-A345-B572D9317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19280" y="5578560"/>
            <a:ext cx="1893960" cy="1312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Setor</a:t>
            </a:r>
            <a:r>
              <a:rPr b="0" lang="pt-BR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4400" spc="-1" strike="noStrike">
                <a:solidFill>
                  <a:srgbClr val="009999"/>
                </a:solidFill>
                <a:latin typeface="Arial"/>
              </a:rPr>
              <a:t>Aliment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Segmento de Laticín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Alibra Ingredientes Lt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57960" y="5578560"/>
            <a:ext cx="1908360" cy="127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03520" y="5589720"/>
            <a:ext cx="1882800" cy="127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64000" y="5587920"/>
            <a:ext cx="190512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5611680"/>
            <a:ext cx="1692360" cy="126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27640" y="3645000"/>
            <a:ext cx="331164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bora L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Delafiori Ol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abiana E. Tede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Martha R. 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Roberta Travas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Indústria Alimentícia: Linha do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Indústria Alimentícia no Brasil: final do século XIX, representando 20% da produção industrial do paí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quenas indústrias pulverizadas n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dominância de capital privado na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700280"/>
            <a:ext cx="7775640" cy="0"/>
          </a:xfrm>
          <a:prstGeom prst="line">
            <a:avLst/>
          </a:prstGeom>
          <a:ln w="7632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1722600"/>
            <a:ext cx="0" cy="1425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3720" y="193824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Final Século X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19162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Década de 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46240"/>
            <a:ext cx="29876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presas do setor tornam-se maiores e mais conc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ício da participação de Capital estrang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taque para a fabricação de farinha, açúcar e cerv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3920" y="1700280"/>
            <a:ext cx="468360" cy="0"/>
          </a:xfrm>
          <a:prstGeom prst="line">
            <a:avLst/>
          </a:prstGeom>
          <a:ln w="7632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78560" y="1751040"/>
            <a:ext cx="0" cy="1429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19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99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2924280"/>
            <a:ext cx="298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unção de grandes empresas do se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 taxa de crescimento são as bebidas a base de laticínios e bebidas fun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escimento de 8,9% nas vendas do últim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10098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mpresa Alibra e seu setor de atu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z e comercializa derivados lácteos em pó e misturas alimentícias em p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ábricas nas cidades de Campinas (SP) e Marechal Cândido Rondon (P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to focado no trabalho: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oro de leite é um subproduto do processo de fabricação de queijos, que contém elevado teor de cálcio e proteínas com alto valor nutri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aplicações do soro do leite na indústria alimentícia são variadas: fabricação de bolos, bebidas lácteas, sorvetes entr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proteínas do soro do leite podem ser concentradas e isoladas, sendo usadas em suplementos alimentares (melhoramento do rendimento espor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724360" y="2060640"/>
            <a:ext cx="3095640" cy="2975760"/>
            <a:chOff x="5724360" y="2060640"/>
            <a:chExt cx="3095640" cy="2975760"/>
          </a:xfrm>
        </p:grpSpPr>
        <p:sp>
          <p:nvSpPr>
            <p:cNvPr id="66" name=""/>
            <p:cNvSpPr/>
            <p:nvPr/>
          </p:nvSpPr>
          <p:spPr>
            <a:xfrm>
              <a:off x="5724360" y="206064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67280" y="206064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 rot="16200000">
            <a:off x="130680" y="328500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00680" y="501336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98900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0" y="198900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430440"/>
            <a:ext cx="2232000" cy="1441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3430440"/>
            <a:ext cx="223200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23479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70480" y="23702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7520" y="218124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60720" y="2203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036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3080" y="2058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62600" y="196524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198756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46240" y="27813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080" y="280368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40160"/>
            <a:ext cx="40176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272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3880" y="225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7080" y="22748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6240" y="354816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9080" y="357012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981600"/>
            <a:ext cx="43164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9080" y="400356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2828880"/>
            <a:ext cx="43200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88720" y="285120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9880" y="3692520"/>
            <a:ext cx="431640" cy="433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2720" y="371484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06600" y="2540160"/>
            <a:ext cx="432000" cy="4330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9440" y="2562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5080" y="19890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0720" y="494028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160" y="4581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602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Grau de Incerteza x Grau de Imp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9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Análise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272360" cy="4238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6720" y="189000"/>
            <a:ext cx="1009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Matriz Importância x Desempen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00980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Debora\Desktop\Documents\Meus arquivos recebidos\import desemp(3).jpg"/>
          <p:cNvPicPr/>
          <p:nvPr/>
        </p:nvPicPr>
        <p:blipFill>
          <a:blip r:embed="rId2"/>
          <a:stretch/>
        </p:blipFill>
        <p:spPr>
          <a:xfrm>
            <a:off x="539640" y="1700280"/>
            <a:ext cx="7488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Estraté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11240" cy="478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1341360"/>
            <a:ext cx="828036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quirir tecnologia para a produção de Concentrado e Isolado Protéico do Soro de le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tação das equipes técnicas e Comercial para a fabricação do novo produ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s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rizontalizar estrutura organizacional da empresa, parceria com empresas que utilizam a mesma matéria-p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4:36:40Z</dcterms:created>
  <dc:creator>IST</dc:creator>
  <dc:description/>
  <dc:language>en-US</dc:language>
  <cp:lastModifiedBy>debora.lapa</cp:lastModifiedBy>
  <dcterms:modified xsi:type="dcterms:W3CDTF">2010-04-06T16:58:43Z</dcterms:modified>
  <cp:revision>17</cp:revision>
  <dc:subject/>
  <dc:title>Setor Alimentício</dc:title>
</cp:coreProperties>
</file>