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18FC-9D20-4302-823F-12D610B3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7FDB-CAA7-4D98-BEEB-A173E30C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DC1A-A186-4FE6-BF2F-28E59F90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7E37-E0A5-48BC-B0F8-137A3ADD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055B-4453-4751-B5C7-E4D4D4EC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889D-64FF-4AF8-9A4E-99A4169F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3B0-69DE-43BA-97BB-4EBEE357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BECC-77F3-4C63-90FA-48C50D69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1EE3-110F-4DCB-A060-F6B9B297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45E-0EC5-4C74-AD9E-85ECCCF9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61B6-69B8-4F10-9340-07700C9F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537-B5D7-4D99-8ACD-7F9DC5AE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4ABF-CFE5-4E8A-85AC-4C13633E0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88e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a88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981080" y="1600200"/>
            <a:ext cx="38124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4800600"/>
            <a:ext cx="38088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2286000"/>
            <a:ext cx="38124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1676520"/>
            <a:ext cx="381240" cy="30456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2895480"/>
            <a:ext cx="38124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2438280"/>
            <a:ext cx="38124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971800"/>
            <a:ext cx="38124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34320" y="1676520"/>
            <a:ext cx="380880" cy="30456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9:15:39Z</dcterms:created>
  <dc:creator>602782885</dc:creator>
  <dc:description/>
  <dc:language>en-US</dc:language>
  <cp:lastModifiedBy>602782885</cp:lastModifiedBy>
  <dcterms:modified xsi:type="dcterms:W3CDTF">2010-03-03T14:30:24Z</dcterms:modified>
  <cp:revision>2</cp:revision>
  <dc:subject/>
  <dc:title>Slide 1</dc:title>
</cp:coreProperties>
</file>