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825-2494-436E-B8A8-75F963DE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37E-984C-4585-B68A-EBECDDC8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0DB-C119-4201-80C3-03E14008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B6A-D3B6-4638-AE31-DE4F5DF6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59F-8A37-4851-9A1A-83F257EE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DB1-8A68-468C-98DD-2DF92FDE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4E3-651B-4817-BF86-8552FAE3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68C-26E0-4A0A-81B4-728601F8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624-DA96-4C1F-8536-D888B9B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77D-E7E4-49CA-AECF-247151C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941-2A19-4ADC-A5AA-D7B75F31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EB0-9323-4767-BD5A-75143C4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0CAD-C58B-45CA-9FA3-1A2C63C0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88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81080" y="16002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800600"/>
            <a:ext cx="38088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22860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676520"/>
            <a:ext cx="38124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28954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43828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971800"/>
            <a:ext cx="381240" cy="30492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1676520"/>
            <a:ext cx="380880" cy="304560"/>
          </a:xfrm>
          <a:prstGeom prst="ellipse">
            <a:avLst/>
          </a:prstGeom>
          <a:solidFill>
            <a:srgbClr val="bbe0e3"/>
          </a:solidFill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9:15:39Z</dcterms:created>
  <dc:creator>602782885</dc:creator>
  <dc:description/>
  <dc:language>en-US</dc:language>
  <cp:lastModifiedBy>602782885</cp:lastModifiedBy>
  <dcterms:modified xsi:type="dcterms:W3CDTF">2010-03-03T14:30:24Z</dcterms:modified>
  <cp:revision>2</cp:revision>
  <dc:subject/>
  <dc:title>Slide 1</dc:title>
</cp:coreProperties>
</file>