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ACC-74B0-4904-9CB6-EBDBDE3A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6F8-43C8-49FC-BAC4-E14B474E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482-D07E-4045-9235-9D05E6C7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419-45B6-43A4-8E77-7F4FE6F4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E86-45A5-4828-840A-90C99351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24D-9FF9-46B9-92DA-BF3A8A1C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082-DAF7-4BF6-BEA3-AC02B3AF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017-3263-471D-B0D1-76F80A89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E4E-DAE9-4702-952B-325B6A0B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D4B-FD65-4A27-87E1-B1175301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AEF-422D-427D-9F6B-B6C18E4B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C42-F411-4FEF-95F4-F6A6052F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42F7-0F0A-45D4-A006-C999C1C4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88e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a88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981080" y="160020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4800600"/>
            <a:ext cx="38088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228600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676520"/>
            <a:ext cx="381240" cy="30456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289548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43828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97180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1676520"/>
            <a:ext cx="380880" cy="30456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15:39Z</dcterms:created>
  <dc:creator>602782885</dc:creator>
  <dc:description/>
  <dc:language>en-US</dc:language>
  <cp:lastModifiedBy>602782885</cp:lastModifiedBy>
  <dcterms:modified xsi:type="dcterms:W3CDTF">2010-03-03T14:30:24Z</dcterms:modified>
  <cp:revision>2</cp:revision>
  <dc:subject/>
  <dc:title>Slide 1</dc:title>
</cp:coreProperties>
</file>