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30E-CD41-4207-8B39-C3E9B5CA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E47E-E4C2-42A7-B2DA-BCCC11D2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8F1-37A2-4F30-A863-F4A76B24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9AD-811D-4FC2-BD4B-E8726A44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1A4-AFCA-4F8E-8BB6-4B4182D1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7DE-C974-4290-88E9-C562428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31A-AC31-42D3-8008-20E0C849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1C7-0C81-4D53-AECD-77CB2ACA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05E-FB8E-4F69-911F-02DA267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E47-B859-4ECE-99A5-9E37C1A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820-067D-4099-9482-4B8782B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1DC-6D43-474B-823C-99F4598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82DE-4086-4895-8BE8-DC28BF0D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81080" y="16002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800600"/>
            <a:ext cx="38088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2860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676520"/>
            <a:ext cx="38124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8954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4382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1676520"/>
            <a:ext cx="38088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15:39Z</dcterms:created>
  <dc:creator>602782885</dc:creator>
  <dc:description/>
  <dc:language>en-US</dc:language>
  <cp:lastModifiedBy>602782885</cp:lastModifiedBy>
  <dcterms:modified xsi:type="dcterms:W3CDTF">2010-03-03T14:30:24Z</dcterms:modified>
  <cp:revision>2</cp:revision>
  <dc:subject/>
  <dc:title>Slide 1</dc:title>
</cp:coreProperties>
</file>