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80D-A1E4-4E09-B066-15D39B9C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BFB-2607-4FE1-9A76-FE291C4B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355-C8C2-49B3-A25E-358C2D24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8C2-2AB8-40AC-A69E-66F3391D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377-77A4-498E-BED3-93A1DDA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690-4A0B-4661-8EC1-FAE13D4C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001-9479-47ED-8DEA-29726C0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484-4CBB-4726-B766-D0C0B7F3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E2ED-57EE-4444-97EB-6718C669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EE0-4043-400E-9394-A9C1706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B59-11D1-4CB2-A7C5-FAC7E35B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4A8-BD53-4EC1-863F-15D45E92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7CB6-FBA3-4533-9078-B08C204B4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3640" y="71280"/>
            <a:ext cx="58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Biore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e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versão bioquímica dos açúcares pela fermentação ou por processos termoquímicos (gasificação da biomassa) para extrai-los da matéria-prima, provocando a sua ruptura nos componentes principais dos hidratos de carbono criando assim novos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lguns produto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doçantes artifici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letric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mbustíve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balag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ilme fotográf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asta de 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lás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êxteis e tecidos sint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643280" y="5572080"/>
            <a:ext cx="432756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51640" y="7128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67464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839880"/>
            <a:ext cx="3816360" cy="180324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7464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00720" y="2643120"/>
            <a:ext cx="3816360" cy="1785960"/>
          </a:xfrm>
          <a:prstGeom prst="rect">
            <a:avLst/>
          </a:prstGeom>
          <a:solidFill>
            <a:srgbClr val="4f81bd"/>
          </a:solidFill>
          <a:ln w="25560">
            <a:solidFill>
              <a:srgbClr val="d9d9d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73120" y="5084640"/>
            <a:ext cx="3017880" cy="1717920"/>
            <a:chOff x="573120" y="5084640"/>
            <a:chExt cx="3017880" cy="1717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73120" y="5084640"/>
              <a:ext cx="3017880" cy="17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42960" y="5140440"/>
              <a:ext cx="2857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Rectangle 13"/>
          <p:cNvGrpSpPr/>
          <p:nvPr/>
        </p:nvGrpSpPr>
        <p:grpSpPr>
          <a:xfrm>
            <a:off x="4071960" y="5089680"/>
            <a:ext cx="3017880" cy="1719000"/>
            <a:chOff x="4071960" y="5089680"/>
            <a:chExt cx="3017880" cy="1719000"/>
          </a:xfrm>
        </p:grpSpPr>
        <p:pic>
          <p:nvPicPr>
            <p:cNvPr id="95" name="Rectangle 13" descr=""/>
            <p:cNvPicPr/>
            <p:nvPr/>
          </p:nvPicPr>
          <p:blipFill>
            <a:blip r:embed="rId2"/>
            <a:stretch/>
          </p:blipFill>
          <p:spPr>
            <a:xfrm>
              <a:off x="4071960" y="5089680"/>
              <a:ext cx="301788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143240" y="5145120"/>
              <a:ext cx="28576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9"/>
          <p:cNvGrpSpPr/>
          <p:nvPr/>
        </p:nvGrpSpPr>
        <p:grpSpPr>
          <a:xfrm>
            <a:off x="7596360" y="1023840"/>
            <a:ext cx="841320" cy="841320"/>
            <a:chOff x="7596360" y="1023840"/>
            <a:chExt cx="841320" cy="841320"/>
          </a:xfrm>
        </p:grpSpPr>
        <p:pic>
          <p:nvPicPr>
            <p:cNvPr id="98" name="Oval 9" descr=""/>
            <p:cNvPicPr/>
            <p:nvPr/>
          </p:nvPicPr>
          <p:blipFill>
            <a:blip r:embed="rId3"/>
            <a:stretch/>
          </p:blipFill>
          <p:spPr>
            <a:xfrm>
              <a:off x="7596360" y="102384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70724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16"/>
          <p:cNvGrpSpPr/>
          <p:nvPr/>
        </p:nvGrpSpPr>
        <p:grpSpPr>
          <a:xfrm>
            <a:off x="6267600" y="1023840"/>
            <a:ext cx="919080" cy="841320"/>
            <a:chOff x="6267600" y="1023840"/>
            <a:chExt cx="919080" cy="841320"/>
          </a:xfrm>
        </p:grpSpPr>
        <p:pic>
          <p:nvPicPr>
            <p:cNvPr id="101" name="Oval 16" descr=""/>
            <p:cNvPicPr/>
            <p:nvPr/>
          </p:nvPicPr>
          <p:blipFill>
            <a:blip r:embed="rId4"/>
            <a:stretch/>
          </p:blipFill>
          <p:spPr>
            <a:xfrm>
              <a:off x="6267600" y="1023840"/>
              <a:ext cx="9190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421320" y="11350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17"/>
          <p:cNvGrpSpPr/>
          <p:nvPr/>
        </p:nvGrpSpPr>
        <p:grpSpPr>
          <a:xfrm>
            <a:off x="7236000" y="1663560"/>
            <a:ext cx="847440" cy="847800"/>
            <a:chOff x="7236000" y="1663560"/>
            <a:chExt cx="847440" cy="847800"/>
          </a:xfrm>
        </p:grpSpPr>
        <p:pic>
          <p:nvPicPr>
            <p:cNvPr id="104" name="Oval 17" descr=""/>
            <p:cNvPicPr/>
            <p:nvPr/>
          </p:nvPicPr>
          <p:blipFill>
            <a:blip r:embed="rId5"/>
            <a:stretch/>
          </p:blipFill>
          <p:spPr>
            <a:xfrm>
              <a:off x="7236000" y="166356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350120" y="1778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18"/>
          <p:cNvGrpSpPr/>
          <p:nvPr/>
        </p:nvGrpSpPr>
        <p:grpSpPr>
          <a:xfrm>
            <a:off x="5810400" y="1736640"/>
            <a:ext cx="839520" cy="841320"/>
            <a:chOff x="5810400" y="1736640"/>
            <a:chExt cx="839520" cy="841320"/>
          </a:xfrm>
        </p:grpSpPr>
        <p:pic>
          <p:nvPicPr>
            <p:cNvPr id="107" name="Oval 18" descr=""/>
            <p:cNvPicPr/>
            <p:nvPr/>
          </p:nvPicPr>
          <p:blipFill>
            <a:blip r:embed="rId6"/>
            <a:stretch/>
          </p:blipFill>
          <p:spPr>
            <a:xfrm>
              <a:off x="5810400" y="173664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92128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19"/>
          <p:cNvGrpSpPr/>
          <p:nvPr/>
        </p:nvGrpSpPr>
        <p:grpSpPr>
          <a:xfrm>
            <a:off x="4621320" y="1951200"/>
            <a:ext cx="925560" cy="841320"/>
            <a:chOff x="4621320" y="1951200"/>
            <a:chExt cx="925560" cy="841320"/>
          </a:xfrm>
        </p:grpSpPr>
        <p:pic>
          <p:nvPicPr>
            <p:cNvPr id="110" name="Oval 19" descr=""/>
            <p:cNvPicPr/>
            <p:nvPr/>
          </p:nvPicPr>
          <p:blipFill>
            <a:blip r:embed="rId7"/>
            <a:stretch/>
          </p:blipFill>
          <p:spPr>
            <a:xfrm>
              <a:off x="4621320" y="1951200"/>
              <a:ext cx="925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4778280" y="206388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20"/>
          <p:cNvGrpSpPr/>
          <p:nvPr/>
        </p:nvGrpSpPr>
        <p:grpSpPr>
          <a:xfrm>
            <a:off x="3548160" y="1523880"/>
            <a:ext cx="927000" cy="841320"/>
            <a:chOff x="3548160" y="1523880"/>
            <a:chExt cx="927000" cy="841320"/>
          </a:xfrm>
        </p:grpSpPr>
        <p:pic>
          <p:nvPicPr>
            <p:cNvPr id="113" name="Oval 20" descr=""/>
            <p:cNvPicPr/>
            <p:nvPr/>
          </p:nvPicPr>
          <p:blipFill>
            <a:blip r:embed="rId8"/>
            <a:stretch/>
          </p:blipFill>
          <p:spPr>
            <a:xfrm>
              <a:off x="3548160" y="1523880"/>
              <a:ext cx="9270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706920" y="1635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21"/>
          <p:cNvGrpSpPr/>
          <p:nvPr/>
        </p:nvGrpSpPr>
        <p:grpSpPr>
          <a:xfrm>
            <a:off x="2664000" y="1090440"/>
            <a:ext cx="847440" cy="847800"/>
            <a:chOff x="2664000" y="1090440"/>
            <a:chExt cx="847440" cy="847800"/>
          </a:xfrm>
        </p:grpSpPr>
        <p:pic>
          <p:nvPicPr>
            <p:cNvPr id="116" name="Oval 21" descr=""/>
            <p:cNvPicPr/>
            <p:nvPr/>
          </p:nvPicPr>
          <p:blipFill>
            <a:blip r:embed="rId9"/>
            <a:stretch/>
          </p:blipFill>
          <p:spPr>
            <a:xfrm>
              <a:off x="2664000" y="1090440"/>
              <a:ext cx="84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778120" y="120636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22"/>
          <p:cNvGrpSpPr/>
          <p:nvPr/>
        </p:nvGrpSpPr>
        <p:grpSpPr>
          <a:xfrm>
            <a:off x="5522760" y="3024360"/>
            <a:ext cx="841680" cy="841320"/>
            <a:chOff x="5522760" y="3024360"/>
            <a:chExt cx="841680" cy="841320"/>
          </a:xfrm>
        </p:grpSpPr>
        <p:pic>
          <p:nvPicPr>
            <p:cNvPr id="119" name="Oval 22" descr=""/>
            <p:cNvPicPr/>
            <p:nvPr/>
          </p:nvPicPr>
          <p:blipFill>
            <a:blip r:embed="rId10"/>
            <a:stretch/>
          </p:blipFill>
          <p:spPr>
            <a:xfrm>
              <a:off x="5522760" y="3024360"/>
              <a:ext cx="8416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635800" y="313524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23"/>
          <p:cNvGrpSpPr/>
          <p:nvPr/>
        </p:nvGrpSpPr>
        <p:grpSpPr>
          <a:xfrm>
            <a:off x="2309760" y="2809800"/>
            <a:ext cx="841320" cy="841320"/>
            <a:chOff x="2309760" y="2809800"/>
            <a:chExt cx="841320" cy="841320"/>
          </a:xfrm>
        </p:grpSpPr>
        <p:pic>
          <p:nvPicPr>
            <p:cNvPr id="122" name="Oval 23" descr=""/>
            <p:cNvPicPr/>
            <p:nvPr/>
          </p:nvPicPr>
          <p:blipFill>
            <a:blip r:embed="rId11"/>
            <a:stretch/>
          </p:blipFill>
          <p:spPr>
            <a:xfrm>
              <a:off x="2309760" y="280980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421000" y="292104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24"/>
          <p:cNvGrpSpPr/>
          <p:nvPr/>
        </p:nvGrpSpPr>
        <p:grpSpPr>
          <a:xfrm>
            <a:off x="3097080" y="3097080"/>
            <a:ext cx="841680" cy="841680"/>
            <a:chOff x="3097080" y="3097080"/>
            <a:chExt cx="841680" cy="841680"/>
          </a:xfrm>
        </p:grpSpPr>
        <p:pic>
          <p:nvPicPr>
            <p:cNvPr id="125" name="Oval 24" descr=""/>
            <p:cNvPicPr/>
            <p:nvPr/>
          </p:nvPicPr>
          <p:blipFill>
            <a:blip r:embed="rId12"/>
            <a:stretch/>
          </p:blipFill>
          <p:spPr>
            <a:xfrm>
              <a:off x="3097080" y="3097080"/>
              <a:ext cx="8416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206880" y="320688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Oval 25"/>
          <p:cNvGrpSpPr/>
          <p:nvPr/>
        </p:nvGrpSpPr>
        <p:grpSpPr>
          <a:xfrm>
            <a:off x="3524400" y="3736800"/>
            <a:ext cx="839520" cy="841680"/>
            <a:chOff x="3524400" y="3736800"/>
            <a:chExt cx="839520" cy="841680"/>
          </a:xfrm>
        </p:grpSpPr>
        <p:pic>
          <p:nvPicPr>
            <p:cNvPr id="128" name="Oval 25" descr=""/>
            <p:cNvPicPr/>
            <p:nvPr/>
          </p:nvPicPr>
          <p:blipFill>
            <a:blip r:embed="rId13"/>
            <a:stretch/>
          </p:blipFill>
          <p:spPr>
            <a:xfrm>
              <a:off x="3524400" y="3736800"/>
              <a:ext cx="8395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635280" y="3849840"/>
              <a:ext cx="301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Oval 26"/>
          <p:cNvGrpSpPr/>
          <p:nvPr/>
        </p:nvGrpSpPr>
        <p:grpSpPr>
          <a:xfrm>
            <a:off x="1378080" y="3664080"/>
            <a:ext cx="847440" cy="847440"/>
            <a:chOff x="1378080" y="3664080"/>
            <a:chExt cx="847440" cy="847440"/>
          </a:xfrm>
        </p:grpSpPr>
        <p:pic>
          <p:nvPicPr>
            <p:cNvPr id="131" name="Oval 26" descr=""/>
            <p:cNvPicPr/>
            <p:nvPr/>
          </p:nvPicPr>
          <p:blipFill>
            <a:blip r:embed="rId14"/>
            <a:stretch/>
          </p:blipFill>
          <p:spPr>
            <a:xfrm>
              <a:off x="1378080" y="3664080"/>
              <a:ext cx="84744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492200" y="37782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714240" y="4500720"/>
          <a:ext cx="7572600" cy="371160"/>
        </p:xfrm>
        <a:graphic>
          <a:graphicData uri="http://schemas.openxmlformats.org/drawingml/2006/table">
            <a:tbl>
              <a:tblPr/>
              <a:tblGrid>
                <a:gridCol w="2524320"/>
                <a:gridCol w="2523960"/>
                <a:gridCol w="25243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certe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pic>
        <p:nvPicPr>
          <p:cNvPr id="134" name="Table 30" descr=""/>
          <p:cNvPicPr/>
          <p:nvPr/>
        </p:nvPicPr>
        <p:blipFill>
          <a:blip r:embed="rId15"/>
          <a:stretch/>
        </p:blipFill>
        <p:spPr>
          <a:xfrm>
            <a:off x="139680" y="762120"/>
            <a:ext cx="57312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2"/>
          <p:cNvSpPr/>
          <p:nvPr/>
        </p:nvSpPr>
        <p:spPr>
          <a:xfrm>
            <a:off x="348120" y="7128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7464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apacidade para produzir produtos múltip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Liga vários processos que maximizam o aproveitamento da bioma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inimiza a carga pol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roduz ao mesmo tempo: produtos químicos, combustível líquido, gerando calor e electricidade, como ex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Sistema quase auto-suficiente, maximiza os lucros de forma mais segura menos poluente e renová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643280" y="839880"/>
            <a:ext cx="3816360" cy="22795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Por ser composta por hidratos de carbono, a biomassa tem uma adição de um átomo de oxigênio quando comparada aos combustíveis fosseis que são compostos somente por carbono e hidrogénio (hidrocarbonetos). Isto faz com que alguns produtos sejam mais difíceis de consegu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67464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Aquisições por empresas de grande 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udanças de legislação de Com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Concorrentes nacionais e interna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4643280" y="3286080"/>
            <a:ext cx="3816360" cy="23576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  <a:ea typeface="Tahoma"/>
              </a:rPr>
              <a:t>Maior flexibilidade na implantação do processo (podem haver plantações em mais locais no planeta, enquanto que o combustivel fóssil depende de onde ele é encontrad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08880" y="7128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42" name="Oval 3"/>
          <p:cNvGrpSpPr/>
          <p:nvPr/>
        </p:nvGrpSpPr>
        <p:grpSpPr>
          <a:xfrm>
            <a:off x="3882960" y="1238400"/>
            <a:ext cx="841320" cy="839520"/>
            <a:chOff x="3882960" y="1238400"/>
            <a:chExt cx="841320" cy="839520"/>
          </a:xfrm>
        </p:grpSpPr>
        <p:pic>
          <p:nvPicPr>
            <p:cNvPr id="143" name="Oval 3" descr=""/>
            <p:cNvPicPr/>
            <p:nvPr/>
          </p:nvPicPr>
          <p:blipFill>
            <a:blip r:embed="rId3"/>
            <a:stretch/>
          </p:blipFill>
          <p:spPr>
            <a:xfrm>
              <a:off x="3882960" y="1238400"/>
              <a:ext cx="84132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399240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Isosceles Triangle 4"/>
          <p:cNvGrpSpPr/>
          <p:nvPr/>
        </p:nvGrpSpPr>
        <p:grpSpPr>
          <a:xfrm>
            <a:off x="4664160" y="4383000"/>
            <a:ext cx="987480" cy="914400"/>
            <a:chOff x="4664160" y="4383000"/>
            <a:chExt cx="987480" cy="914400"/>
          </a:xfrm>
        </p:grpSpPr>
        <p:pic>
          <p:nvPicPr>
            <p:cNvPr id="146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4664160" y="4383000"/>
              <a:ext cx="9874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57840" y="468000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gular Pentagon 5"/>
          <p:cNvGrpSpPr/>
          <p:nvPr/>
        </p:nvGrpSpPr>
        <p:grpSpPr>
          <a:xfrm>
            <a:off x="5668920" y="1809720"/>
            <a:ext cx="981000" cy="982800"/>
            <a:chOff x="5668920" y="1809720"/>
            <a:chExt cx="981000" cy="982800"/>
          </a:xfrm>
        </p:grpSpPr>
        <p:pic>
          <p:nvPicPr>
            <p:cNvPr id="149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5668920" y="1809720"/>
              <a:ext cx="9810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824440" y="199224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ight Triangle 6"/>
          <p:cNvGrpSpPr/>
          <p:nvPr/>
        </p:nvGrpSpPr>
        <p:grpSpPr>
          <a:xfrm>
            <a:off x="3949560" y="2876400"/>
            <a:ext cx="914400" cy="920880"/>
            <a:chOff x="3949560" y="2876400"/>
            <a:chExt cx="914400" cy="920880"/>
          </a:xfrm>
        </p:grpSpPr>
        <p:pic>
          <p:nvPicPr>
            <p:cNvPr id="152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3949560" y="2876400"/>
              <a:ext cx="91440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041720" y="322092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Diamond 7"/>
          <p:cNvGrpSpPr/>
          <p:nvPr/>
        </p:nvGrpSpPr>
        <p:grpSpPr>
          <a:xfrm>
            <a:off x="2309760" y="4164120"/>
            <a:ext cx="982800" cy="987480"/>
            <a:chOff x="2309760" y="4164120"/>
            <a:chExt cx="982800" cy="987480"/>
          </a:xfrm>
        </p:grpSpPr>
        <p:pic>
          <p:nvPicPr>
            <p:cNvPr id="155" name="Diamond 7" descr=""/>
            <p:cNvPicPr/>
            <p:nvPr/>
          </p:nvPicPr>
          <p:blipFill>
            <a:blip r:embed="rId7"/>
            <a:stretch/>
          </p:blipFill>
          <p:spPr>
            <a:xfrm>
              <a:off x="2309760" y="4164120"/>
              <a:ext cx="9828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500200" y="4357800"/>
              <a:ext cx="2858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cuinm</cp:lastModifiedBy>
  <dcterms:modified xsi:type="dcterms:W3CDTF">2010-03-04T21:38:09Z</dcterms:modified>
  <cp:revision>53</cp:revision>
  <dc:subject/>
  <dc:title>Slide 1</dc:title>
</cp:coreProperties>
</file>