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7BB-C7BC-4A72-A1C0-82E482F4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F20-3176-4F3A-9B14-038D54C7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20D-FDF3-4651-AD9B-BFE28673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872-367C-40AA-B168-E0B123D5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200-BA44-400A-B594-5437F8E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87C-F451-47D0-BAB1-94DBA8E3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999-C6A7-40E9-B707-BE69E63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CA6-0A34-4C93-BDC3-2195BAAF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9F0-8741-47FC-8DC3-26055EBE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C83-8F30-4F39-88ED-9ECE932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728-302E-41F8-A76F-61A7F3EB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A0C-93F9-46F6-9E20-58CF13D7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4C8B-63A9-4D8F-9AAA-2B749589C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38:09Z</dcterms:modified>
  <cp:revision>53</cp:revision>
  <dc:subject/>
  <dc:title>Slide 1</dc:title>
</cp:coreProperties>
</file>