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230-5757-4394-908A-FB0A4CD9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563-85E4-4EC1-BF8C-BBB012DC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8C8-3871-4355-AA03-FC2278AA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EBF-13A6-427E-A401-0FA00C34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FB7-5098-4795-BE97-20882C3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08B-334E-4E70-97CE-69A5ABBB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7D5-CB8F-44C2-B452-3F0295F0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A95-7BFF-44A6-9F2F-CC7DFFEA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C0B-AFD4-4229-8C5D-850E5A6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5E6-8A43-43F2-A78C-49AF8D1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91B-DBD3-4E0E-B989-AA942E97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1F0-2E7D-4468-821D-D214684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C734-C171-42BD-8A1F-8A78398BF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38:09Z</dcterms:modified>
  <cp:revision>53</cp:revision>
  <dc:subject/>
  <dc:title>Slide 1</dc:title>
</cp:coreProperties>
</file>