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C3E-9C7D-4626-A08A-B6BECE8D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F15-07D7-459A-A5B3-1ABCE9B1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4BA-FD13-4759-9D5F-3CD39EA22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A6D-ECB2-4B61-B8BF-E60BB277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0E3-07AD-4566-9771-2DE830F8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CEE-2265-45E7-B06F-04BE85E0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CBC1-843D-4843-B800-F2DA827A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203F-58BC-4F87-9E18-2A4A5B11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C52-4C52-4F56-851D-B88785A1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08F-6E3E-48A5-886F-98665CEF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709-FA22-4F6F-AF1D-AF68BFAC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28B-5262-43C1-B16F-FBE8D043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793C-B67F-4882-9267-D083AECAE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13640" y="7128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Biore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e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versão bioquímica dos açúcares pela fermentação ou por processos termoquímicos (gasificação da biomassa) para extrai-los da matéria-prima, provocando a sua ruptura nos componentes principais dos hidratos de carbono criando assim novos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lguns produt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doçantes artifici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mbustív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bal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ilme fotográ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asta de d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lás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êxteis e tecidos sint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643280" y="5572080"/>
            <a:ext cx="4327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51640" y="7128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7464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0072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464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50072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73120" y="5084640"/>
            <a:ext cx="3017880" cy="1717920"/>
            <a:chOff x="573120" y="5084640"/>
            <a:chExt cx="3017880" cy="1717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73120" y="5084640"/>
              <a:ext cx="3017880" cy="17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42960" y="5140440"/>
              <a:ext cx="2857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Rectangle 13"/>
          <p:cNvGrpSpPr/>
          <p:nvPr/>
        </p:nvGrpSpPr>
        <p:grpSpPr>
          <a:xfrm>
            <a:off x="4071960" y="5089680"/>
            <a:ext cx="3017880" cy="1719000"/>
            <a:chOff x="4071960" y="5089680"/>
            <a:chExt cx="3017880" cy="1719000"/>
          </a:xfrm>
        </p:grpSpPr>
        <p:pic>
          <p:nvPicPr>
            <p:cNvPr id="95" name="Rectangle 13" descr=""/>
            <p:cNvPicPr/>
            <p:nvPr/>
          </p:nvPicPr>
          <p:blipFill>
            <a:blip r:embed="rId2"/>
            <a:stretch/>
          </p:blipFill>
          <p:spPr>
            <a:xfrm>
              <a:off x="4071960" y="5089680"/>
              <a:ext cx="301788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143240" y="5145120"/>
              <a:ext cx="28576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Oval 9"/>
          <p:cNvGrpSpPr/>
          <p:nvPr/>
        </p:nvGrpSpPr>
        <p:grpSpPr>
          <a:xfrm>
            <a:off x="7596360" y="1023840"/>
            <a:ext cx="841320" cy="841320"/>
            <a:chOff x="7596360" y="1023840"/>
            <a:chExt cx="841320" cy="841320"/>
          </a:xfrm>
        </p:grpSpPr>
        <p:pic>
          <p:nvPicPr>
            <p:cNvPr id="98" name="Oval 9" descr=""/>
            <p:cNvPicPr/>
            <p:nvPr/>
          </p:nvPicPr>
          <p:blipFill>
            <a:blip r:embed="rId3"/>
            <a:stretch/>
          </p:blipFill>
          <p:spPr>
            <a:xfrm>
              <a:off x="7596360" y="10238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70724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16"/>
          <p:cNvGrpSpPr/>
          <p:nvPr/>
        </p:nvGrpSpPr>
        <p:grpSpPr>
          <a:xfrm>
            <a:off x="6267600" y="1023840"/>
            <a:ext cx="919080" cy="841320"/>
            <a:chOff x="6267600" y="1023840"/>
            <a:chExt cx="919080" cy="841320"/>
          </a:xfrm>
        </p:grpSpPr>
        <p:pic>
          <p:nvPicPr>
            <p:cNvPr id="101" name="Oval 16" descr=""/>
            <p:cNvPicPr/>
            <p:nvPr/>
          </p:nvPicPr>
          <p:blipFill>
            <a:blip r:embed="rId4"/>
            <a:stretch/>
          </p:blipFill>
          <p:spPr>
            <a:xfrm>
              <a:off x="6267600" y="1023840"/>
              <a:ext cx="919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132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17"/>
          <p:cNvGrpSpPr/>
          <p:nvPr/>
        </p:nvGrpSpPr>
        <p:grpSpPr>
          <a:xfrm>
            <a:off x="7236000" y="1663560"/>
            <a:ext cx="847440" cy="847800"/>
            <a:chOff x="7236000" y="1663560"/>
            <a:chExt cx="847440" cy="847800"/>
          </a:xfrm>
        </p:grpSpPr>
        <p:pic>
          <p:nvPicPr>
            <p:cNvPr id="104" name="Oval 17" descr=""/>
            <p:cNvPicPr/>
            <p:nvPr/>
          </p:nvPicPr>
          <p:blipFill>
            <a:blip r:embed="rId5"/>
            <a:stretch/>
          </p:blipFill>
          <p:spPr>
            <a:xfrm>
              <a:off x="7236000" y="166356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35012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Oval 18"/>
          <p:cNvGrpSpPr/>
          <p:nvPr/>
        </p:nvGrpSpPr>
        <p:grpSpPr>
          <a:xfrm>
            <a:off x="5810400" y="1736640"/>
            <a:ext cx="839520" cy="841320"/>
            <a:chOff x="5810400" y="1736640"/>
            <a:chExt cx="839520" cy="841320"/>
          </a:xfrm>
        </p:grpSpPr>
        <p:pic>
          <p:nvPicPr>
            <p:cNvPr id="107" name="Oval 18" descr=""/>
            <p:cNvPicPr/>
            <p:nvPr/>
          </p:nvPicPr>
          <p:blipFill>
            <a:blip r:embed="rId6"/>
            <a:stretch/>
          </p:blipFill>
          <p:spPr>
            <a:xfrm>
              <a:off x="5810400" y="173664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2128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Oval 19"/>
          <p:cNvGrpSpPr/>
          <p:nvPr/>
        </p:nvGrpSpPr>
        <p:grpSpPr>
          <a:xfrm>
            <a:off x="4621320" y="1951200"/>
            <a:ext cx="925560" cy="841320"/>
            <a:chOff x="4621320" y="1951200"/>
            <a:chExt cx="925560" cy="841320"/>
          </a:xfrm>
        </p:grpSpPr>
        <p:pic>
          <p:nvPicPr>
            <p:cNvPr id="110" name="Oval 19" descr=""/>
            <p:cNvPicPr/>
            <p:nvPr/>
          </p:nvPicPr>
          <p:blipFill>
            <a:blip r:embed="rId7"/>
            <a:stretch/>
          </p:blipFill>
          <p:spPr>
            <a:xfrm>
              <a:off x="4621320" y="1951200"/>
              <a:ext cx="925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78280" y="206388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Oval 20"/>
          <p:cNvGrpSpPr/>
          <p:nvPr/>
        </p:nvGrpSpPr>
        <p:grpSpPr>
          <a:xfrm>
            <a:off x="3548160" y="1523880"/>
            <a:ext cx="927000" cy="841320"/>
            <a:chOff x="3548160" y="1523880"/>
            <a:chExt cx="927000" cy="841320"/>
          </a:xfrm>
        </p:grpSpPr>
        <p:pic>
          <p:nvPicPr>
            <p:cNvPr id="113" name="Oval 20" descr=""/>
            <p:cNvPicPr/>
            <p:nvPr/>
          </p:nvPicPr>
          <p:blipFill>
            <a:blip r:embed="rId8"/>
            <a:stretch/>
          </p:blipFill>
          <p:spPr>
            <a:xfrm>
              <a:off x="3548160" y="1523880"/>
              <a:ext cx="927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706920" y="1635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Oval 21"/>
          <p:cNvGrpSpPr/>
          <p:nvPr/>
        </p:nvGrpSpPr>
        <p:grpSpPr>
          <a:xfrm>
            <a:off x="2664000" y="1090440"/>
            <a:ext cx="847440" cy="847800"/>
            <a:chOff x="2664000" y="1090440"/>
            <a:chExt cx="847440" cy="847800"/>
          </a:xfrm>
        </p:grpSpPr>
        <p:pic>
          <p:nvPicPr>
            <p:cNvPr id="116" name="Oval 21" descr=""/>
            <p:cNvPicPr/>
            <p:nvPr/>
          </p:nvPicPr>
          <p:blipFill>
            <a:blip r:embed="rId9"/>
            <a:stretch/>
          </p:blipFill>
          <p:spPr>
            <a:xfrm>
              <a:off x="2664000" y="109044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78120" y="1206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Oval 22"/>
          <p:cNvGrpSpPr/>
          <p:nvPr/>
        </p:nvGrpSpPr>
        <p:grpSpPr>
          <a:xfrm>
            <a:off x="5522760" y="3024360"/>
            <a:ext cx="841680" cy="841320"/>
            <a:chOff x="5522760" y="3024360"/>
            <a:chExt cx="841680" cy="841320"/>
          </a:xfrm>
        </p:grpSpPr>
        <p:pic>
          <p:nvPicPr>
            <p:cNvPr id="119" name="Oval 22" descr=""/>
            <p:cNvPicPr/>
            <p:nvPr/>
          </p:nvPicPr>
          <p:blipFill>
            <a:blip r:embed="rId10"/>
            <a:stretch/>
          </p:blipFill>
          <p:spPr>
            <a:xfrm>
              <a:off x="5522760" y="3024360"/>
              <a:ext cx="8416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35800" y="313524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Oval 23"/>
          <p:cNvGrpSpPr/>
          <p:nvPr/>
        </p:nvGrpSpPr>
        <p:grpSpPr>
          <a:xfrm>
            <a:off x="2309760" y="2809800"/>
            <a:ext cx="841320" cy="841320"/>
            <a:chOff x="2309760" y="2809800"/>
            <a:chExt cx="841320" cy="841320"/>
          </a:xfrm>
        </p:grpSpPr>
        <p:pic>
          <p:nvPicPr>
            <p:cNvPr id="122" name="Oval 23" descr=""/>
            <p:cNvPicPr/>
            <p:nvPr/>
          </p:nvPicPr>
          <p:blipFill>
            <a:blip r:embed="rId11"/>
            <a:stretch/>
          </p:blipFill>
          <p:spPr>
            <a:xfrm>
              <a:off x="2309760" y="280980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421000" y="2921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Oval 24"/>
          <p:cNvGrpSpPr/>
          <p:nvPr/>
        </p:nvGrpSpPr>
        <p:grpSpPr>
          <a:xfrm>
            <a:off x="3097080" y="3097080"/>
            <a:ext cx="841680" cy="841680"/>
            <a:chOff x="3097080" y="3097080"/>
            <a:chExt cx="841680" cy="841680"/>
          </a:xfrm>
        </p:grpSpPr>
        <p:pic>
          <p:nvPicPr>
            <p:cNvPr id="125" name="Oval 24" descr=""/>
            <p:cNvPicPr/>
            <p:nvPr/>
          </p:nvPicPr>
          <p:blipFill>
            <a:blip r:embed="rId12"/>
            <a:stretch/>
          </p:blipFill>
          <p:spPr>
            <a:xfrm>
              <a:off x="3097080" y="3097080"/>
              <a:ext cx="8416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206880" y="320688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Oval 25"/>
          <p:cNvGrpSpPr/>
          <p:nvPr/>
        </p:nvGrpSpPr>
        <p:grpSpPr>
          <a:xfrm>
            <a:off x="3524400" y="3736800"/>
            <a:ext cx="839520" cy="841680"/>
            <a:chOff x="3524400" y="3736800"/>
            <a:chExt cx="839520" cy="841680"/>
          </a:xfrm>
        </p:grpSpPr>
        <p:pic>
          <p:nvPicPr>
            <p:cNvPr id="128" name="Oval 25" descr=""/>
            <p:cNvPicPr/>
            <p:nvPr/>
          </p:nvPicPr>
          <p:blipFill>
            <a:blip r:embed="rId13"/>
            <a:stretch/>
          </p:blipFill>
          <p:spPr>
            <a:xfrm>
              <a:off x="3524400" y="3736800"/>
              <a:ext cx="8395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635280" y="384984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Oval 26"/>
          <p:cNvGrpSpPr/>
          <p:nvPr/>
        </p:nvGrpSpPr>
        <p:grpSpPr>
          <a:xfrm>
            <a:off x="1378080" y="3664080"/>
            <a:ext cx="847440" cy="847440"/>
            <a:chOff x="1378080" y="3664080"/>
            <a:chExt cx="847440" cy="847440"/>
          </a:xfrm>
        </p:grpSpPr>
        <p:pic>
          <p:nvPicPr>
            <p:cNvPr id="131" name="Oval 26" descr=""/>
            <p:cNvPicPr/>
            <p:nvPr/>
          </p:nvPicPr>
          <p:blipFill>
            <a:blip r:embed="rId14"/>
            <a:stretch/>
          </p:blipFill>
          <p:spPr>
            <a:xfrm>
              <a:off x="1378080" y="3664080"/>
              <a:ext cx="84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492200" y="37782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714240" y="4500720"/>
          <a:ext cx="7572600" cy="37116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ert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pic>
        <p:nvPicPr>
          <p:cNvPr id="134" name="Table 30" descr=""/>
          <p:cNvPicPr/>
          <p:nvPr/>
        </p:nvPicPr>
        <p:blipFill>
          <a:blip r:embed="rId15"/>
          <a:stretch/>
        </p:blipFill>
        <p:spPr>
          <a:xfrm>
            <a:off x="139680" y="762120"/>
            <a:ext cx="57312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48120" y="7128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7464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apacidade para produzir produtos múltip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Liga vários processos que maximizam o aproveitamento da bioma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inimiza a carga pol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roduz ao mesmo tempo: produtos químicos, combustível líquido, gerando calor e electricidade, como ex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Sistema quase auto-suficiente, maximiza os lucros de forma mais segura menos poluente e renová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64328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or ser composta por hidratos de carbono, a biomassa tem uma adição de um átomo de oxigênio quando comparada aos combustíveis fosseis que são compostos somente por carbono e hidrogénio (hidrocarbonetos). Isto faz com que alguns produtos sejam mais difíceis de consegu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7464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Aquisições por empresas de grande 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udanças de legislação de Com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oncorrentes nacionais e interna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64328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aior flexibilidade na implantação do processo (podem haver plantações em mais locais no planeta, enquanto que o combustivel fóssil depende de onde ele é encontrad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42" name="Oval 3"/>
          <p:cNvGrpSpPr/>
          <p:nvPr/>
        </p:nvGrpSpPr>
        <p:grpSpPr>
          <a:xfrm>
            <a:off x="3882960" y="1238400"/>
            <a:ext cx="841320" cy="839520"/>
            <a:chOff x="3882960" y="1238400"/>
            <a:chExt cx="841320" cy="839520"/>
          </a:xfrm>
        </p:grpSpPr>
        <p:pic>
          <p:nvPicPr>
            <p:cNvPr id="143" name="Oval 3" descr=""/>
            <p:cNvPicPr/>
            <p:nvPr/>
          </p:nvPicPr>
          <p:blipFill>
            <a:blip r:embed="rId3"/>
            <a:stretch/>
          </p:blipFill>
          <p:spPr>
            <a:xfrm>
              <a:off x="3882960" y="1238400"/>
              <a:ext cx="8413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99240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Isosceles Triangle 4"/>
          <p:cNvGrpSpPr/>
          <p:nvPr/>
        </p:nvGrpSpPr>
        <p:grpSpPr>
          <a:xfrm>
            <a:off x="4664160" y="4383000"/>
            <a:ext cx="987480" cy="914400"/>
            <a:chOff x="4664160" y="4383000"/>
            <a:chExt cx="987480" cy="914400"/>
          </a:xfrm>
        </p:grpSpPr>
        <p:pic>
          <p:nvPicPr>
            <p:cNvPr id="146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4664160" y="4383000"/>
              <a:ext cx="987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57840" y="468000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egular Pentagon 5"/>
          <p:cNvGrpSpPr/>
          <p:nvPr/>
        </p:nvGrpSpPr>
        <p:grpSpPr>
          <a:xfrm>
            <a:off x="5668920" y="1809720"/>
            <a:ext cx="981000" cy="982800"/>
            <a:chOff x="5668920" y="1809720"/>
            <a:chExt cx="981000" cy="982800"/>
          </a:xfrm>
        </p:grpSpPr>
        <p:pic>
          <p:nvPicPr>
            <p:cNvPr id="149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5668920" y="1809720"/>
              <a:ext cx="9810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824440" y="199224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ight Triangle 6"/>
          <p:cNvGrpSpPr/>
          <p:nvPr/>
        </p:nvGrpSpPr>
        <p:grpSpPr>
          <a:xfrm>
            <a:off x="3949560" y="2876400"/>
            <a:ext cx="914400" cy="920880"/>
            <a:chOff x="3949560" y="2876400"/>
            <a:chExt cx="914400" cy="920880"/>
          </a:xfrm>
        </p:grpSpPr>
        <p:pic>
          <p:nvPicPr>
            <p:cNvPr id="152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3949560" y="2876400"/>
              <a:ext cx="9144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41720" y="322092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Diamond 7"/>
          <p:cNvGrpSpPr/>
          <p:nvPr/>
        </p:nvGrpSpPr>
        <p:grpSpPr>
          <a:xfrm>
            <a:off x="2309760" y="4164120"/>
            <a:ext cx="982800" cy="987480"/>
            <a:chOff x="2309760" y="4164120"/>
            <a:chExt cx="982800" cy="987480"/>
          </a:xfrm>
        </p:grpSpPr>
        <p:pic>
          <p:nvPicPr>
            <p:cNvPr id="155" name="Diamond 7" descr=""/>
            <p:cNvPicPr/>
            <p:nvPr/>
          </p:nvPicPr>
          <p:blipFill>
            <a:blip r:embed="rId7"/>
            <a:stretch/>
          </p:blipFill>
          <p:spPr>
            <a:xfrm>
              <a:off x="2309760" y="4164120"/>
              <a:ext cx="9828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500200" y="4357800"/>
              <a:ext cx="2858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uinm</cp:lastModifiedBy>
  <dcterms:modified xsi:type="dcterms:W3CDTF">2010-03-04T21:46:14Z</dcterms:modified>
  <cp:revision>53</cp:revision>
  <dc:subject/>
  <dc:title>Slide 1</dc:title>
</cp:coreProperties>
</file>