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490-9738-4517-9407-FCC10E86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A9C-5C66-4C33-BB33-94DBD795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E99-AF8C-4BFE-AB99-7BAFDAC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BCF-E92A-42AF-90F0-7EEF8056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006-BADA-4BCD-A2D6-E7FD322F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07A-E273-43CF-9E0A-9285C1B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FE7-B678-41A4-901E-5AFD160F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D5E-9D59-4EF8-99EB-832E334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F10-FE2B-4751-9FED-740E8DA7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9E8-4C1B-46BD-B628-0E08322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04A-ABA5-49F8-942D-E42F9B0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D21-2D8A-441F-A483-888D971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0730-D306-412A-96A8-7699C754D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46:14Z</dcterms:modified>
  <cp:revision>53</cp:revision>
  <dc:subject/>
  <dc:title>Slide 1</dc:title>
</cp:coreProperties>
</file>