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25D-4A08-4C25-B090-D128710F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446-16A9-46ED-B0F0-24A5B96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EBC-4845-4A41-A31F-CDC59AFC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5BB-1E0A-4877-842A-6250FB5C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705-4967-4B7E-AB86-5662E48A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5BB-9AF3-4354-BB11-FBDCBF1A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513-E98A-42A7-8190-6BC4D5B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535-D9F3-4C8F-8535-D00EECF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831-A0B2-40E4-AB3E-4E6B0DE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547-EAB5-49A9-A32B-A92950F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910-9535-47B2-873A-8505C07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72B-CBD3-48AB-A22C-2E230F63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1251-0819-4476-A0EF-58BB93A13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46:14Z</dcterms:modified>
  <cp:revision>53</cp:revision>
  <dc:subject/>
  <dc:title>Slide 1</dc:title>
</cp:coreProperties>
</file>