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03EE-7124-4547-9B05-99E2FB328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6886-19B3-4510-A96F-04E41D31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13D2-CDFC-4711-B171-3A51C7A8E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3049-8628-439C-B88D-6C101E68A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906C-A6BF-4C48-91E2-97384F3A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8337-0E81-4294-BDB1-416EC3F4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8D76-B159-41DA-B220-7EF256EA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048A-13E6-4C97-B9DB-DD27CF58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1CCB-062B-4310-9DEC-0865423E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A75A-6F80-45D1-80AA-1D042593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6771-C54C-4616-8620-47D19295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48E1-CFD6-4255-93F6-84A09548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0A87-FD4C-4B03-B289-3FEE0C0904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-9360" y="-9360"/>
            <a:ext cx="9162720" cy="6876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2"/>
          <p:cNvSpPr/>
          <p:nvPr/>
        </p:nvSpPr>
        <p:spPr>
          <a:xfrm>
            <a:off x="413640" y="71280"/>
            <a:ext cx="58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NME – Commodities – Biorea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6786720" y="4729680"/>
            <a:ext cx="2035080" cy="18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960" rIns="0" tIns="47520" bIns="0" anchor="ctr">
            <a:spAutoFit/>
          </a:bodyPr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Cintia Ar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Wesley Me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Mario Cu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Emilio Torm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Ramom M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http://www.bionauta.com/biorefinery.jpg"/>
          <p:cNvPicPr/>
          <p:nvPr/>
        </p:nvPicPr>
        <p:blipFill>
          <a:blip r:embed="rId2"/>
          <a:stretch/>
        </p:blipFill>
        <p:spPr>
          <a:xfrm>
            <a:off x="7572240" y="1000080"/>
            <a:ext cx="1428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2"/>
          <p:cNvSpPr/>
          <p:nvPr/>
        </p:nvSpPr>
        <p:spPr>
          <a:xfrm>
            <a:off x="308880" y="71280"/>
            <a:ext cx="15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Sum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500040" y="835200"/>
            <a:ext cx="8358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ce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Conversão bioquímica dos açúcares pela fermentação ou por processos termoquímicos (gasificação da biomassa) para extrai-los da matéria-prima, provocando a sua ruptura nos componentes principais dos hidratos de carbono criando assim novos produ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Alguns produto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Ác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Adoçantes artifici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Eletric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Combustíve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C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Embalag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Filme fotográf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Pasta de d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Plást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Têxteis e tecidos sintét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4643280" y="5572080"/>
            <a:ext cx="432756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2"/>
          <p:cNvSpPr/>
          <p:nvPr/>
        </p:nvSpPr>
        <p:spPr>
          <a:xfrm>
            <a:off x="251640" y="71280"/>
            <a:ext cx="515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674640" y="839880"/>
            <a:ext cx="3816360" cy="1803240"/>
          </a:xfrm>
          <a:prstGeom prst="rect">
            <a:avLst/>
          </a:prstGeom>
          <a:solidFill>
            <a:srgbClr val="4f81bd"/>
          </a:solidFill>
          <a:ln w="2556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4500720" y="839880"/>
            <a:ext cx="3816360" cy="1803240"/>
          </a:xfrm>
          <a:prstGeom prst="rect">
            <a:avLst/>
          </a:prstGeom>
          <a:solidFill>
            <a:srgbClr val="4f81bd"/>
          </a:solidFill>
          <a:ln w="2556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674640" y="2643120"/>
            <a:ext cx="3816360" cy="1785960"/>
          </a:xfrm>
          <a:prstGeom prst="rect">
            <a:avLst/>
          </a:prstGeom>
          <a:solidFill>
            <a:srgbClr val="4f81bd"/>
          </a:solidFill>
          <a:ln w="2556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4500720" y="2643120"/>
            <a:ext cx="3816360" cy="1785960"/>
          </a:xfrm>
          <a:prstGeom prst="rect">
            <a:avLst/>
          </a:prstGeom>
          <a:solidFill>
            <a:srgbClr val="4f81bd"/>
          </a:solidFill>
          <a:ln w="2556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ctangle 13"/>
          <p:cNvGrpSpPr/>
          <p:nvPr/>
        </p:nvGrpSpPr>
        <p:grpSpPr>
          <a:xfrm>
            <a:off x="573120" y="5084640"/>
            <a:ext cx="3017880" cy="1717920"/>
            <a:chOff x="573120" y="5084640"/>
            <a:chExt cx="3017880" cy="1717920"/>
          </a:xfrm>
        </p:grpSpPr>
        <p:pic>
          <p:nvPicPr>
            <p:cNvPr id="92" name="Rectangle 13" descr=""/>
            <p:cNvPicPr/>
            <p:nvPr/>
          </p:nvPicPr>
          <p:blipFill>
            <a:blip r:embed="rId1"/>
            <a:stretch/>
          </p:blipFill>
          <p:spPr>
            <a:xfrm>
              <a:off x="573120" y="5084640"/>
              <a:ext cx="3017880" cy="171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642960" y="5140440"/>
              <a:ext cx="28573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1 Cli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2 Logíst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3 Cus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4 Mercado Exter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5 Hábitos do Consumid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6 Econom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Rectangle 13"/>
          <p:cNvGrpSpPr/>
          <p:nvPr/>
        </p:nvGrpSpPr>
        <p:grpSpPr>
          <a:xfrm>
            <a:off x="4071960" y="5089680"/>
            <a:ext cx="3017880" cy="1719000"/>
            <a:chOff x="4071960" y="5089680"/>
            <a:chExt cx="3017880" cy="1719000"/>
          </a:xfrm>
        </p:grpSpPr>
        <p:pic>
          <p:nvPicPr>
            <p:cNvPr id="95" name="Rectangle 13" descr=""/>
            <p:cNvPicPr/>
            <p:nvPr/>
          </p:nvPicPr>
          <p:blipFill>
            <a:blip r:embed="rId2"/>
            <a:stretch/>
          </p:blipFill>
          <p:spPr>
            <a:xfrm>
              <a:off x="4071960" y="5089680"/>
              <a:ext cx="3017880" cy="17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4143240" y="5145120"/>
              <a:ext cx="285768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7 Poder de Barganh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8 Preocupação Ambient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9 Qualida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10 Concorrênc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11 Inovaçã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12 Ambiente Políti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Oval 9"/>
          <p:cNvGrpSpPr/>
          <p:nvPr/>
        </p:nvGrpSpPr>
        <p:grpSpPr>
          <a:xfrm>
            <a:off x="7596360" y="1023840"/>
            <a:ext cx="841320" cy="841320"/>
            <a:chOff x="7596360" y="1023840"/>
            <a:chExt cx="841320" cy="841320"/>
          </a:xfrm>
        </p:grpSpPr>
        <p:pic>
          <p:nvPicPr>
            <p:cNvPr id="98" name="Oval 9" descr=""/>
            <p:cNvPicPr/>
            <p:nvPr/>
          </p:nvPicPr>
          <p:blipFill>
            <a:blip r:embed="rId3"/>
            <a:stretch/>
          </p:blipFill>
          <p:spPr>
            <a:xfrm>
              <a:off x="7596360" y="1023840"/>
              <a:ext cx="8413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7707240" y="11350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Oval 16"/>
          <p:cNvGrpSpPr/>
          <p:nvPr/>
        </p:nvGrpSpPr>
        <p:grpSpPr>
          <a:xfrm>
            <a:off x="6267600" y="1023840"/>
            <a:ext cx="919080" cy="841320"/>
            <a:chOff x="6267600" y="1023840"/>
            <a:chExt cx="919080" cy="841320"/>
          </a:xfrm>
        </p:grpSpPr>
        <p:pic>
          <p:nvPicPr>
            <p:cNvPr id="101" name="Oval 16" descr=""/>
            <p:cNvPicPr/>
            <p:nvPr/>
          </p:nvPicPr>
          <p:blipFill>
            <a:blip r:embed="rId4"/>
            <a:stretch/>
          </p:blipFill>
          <p:spPr>
            <a:xfrm>
              <a:off x="6267600" y="1023840"/>
              <a:ext cx="9190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421320" y="11350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Oval 17"/>
          <p:cNvGrpSpPr/>
          <p:nvPr/>
        </p:nvGrpSpPr>
        <p:grpSpPr>
          <a:xfrm>
            <a:off x="7236000" y="1663560"/>
            <a:ext cx="847440" cy="847800"/>
            <a:chOff x="7236000" y="1663560"/>
            <a:chExt cx="847440" cy="847800"/>
          </a:xfrm>
        </p:grpSpPr>
        <p:pic>
          <p:nvPicPr>
            <p:cNvPr id="104" name="Oval 17" descr=""/>
            <p:cNvPicPr/>
            <p:nvPr/>
          </p:nvPicPr>
          <p:blipFill>
            <a:blip r:embed="rId5"/>
            <a:stretch/>
          </p:blipFill>
          <p:spPr>
            <a:xfrm>
              <a:off x="7236000" y="1663560"/>
              <a:ext cx="8474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7350120" y="177804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Oval 18"/>
          <p:cNvGrpSpPr/>
          <p:nvPr/>
        </p:nvGrpSpPr>
        <p:grpSpPr>
          <a:xfrm>
            <a:off x="5810400" y="1736640"/>
            <a:ext cx="839520" cy="841320"/>
            <a:chOff x="5810400" y="1736640"/>
            <a:chExt cx="839520" cy="841320"/>
          </a:xfrm>
        </p:grpSpPr>
        <p:pic>
          <p:nvPicPr>
            <p:cNvPr id="107" name="Oval 18" descr=""/>
            <p:cNvPicPr/>
            <p:nvPr/>
          </p:nvPicPr>
          <p:blipFill>
            <a:blip r:embed="rId6"/>
            <a:stretch/>
          </p:blipFill>
          <p:spPr>
            <a:xfrm>
              <a:off x="5810400" y="1736640"/>
              <a:ext cx="8395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921280" y="18493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Oval 19"/>
          <p:cNvGrpSpPr/>
          <p:nvPr/>
        </p:nvGrpSpPr>
        <p:grpSpPr>
          <a:xfrm>
            <a:off x="4621320" y="1951200"/>
            <a:ext cx="925560" cy="841320"/>
            <a:chOff x="4621320" y="1951200"/>
            <a:chExt cx="925560" cy="841320"/>
          </a:xfrm>
        </p:grpSpPr>
        <p:pic>
          <p:nvPicPr>
            <p:cNvPr id="110" name="Oval 19" descr=""/>
            <p:cNvPicPr/>
            <p:nvPr/>
          </p:nvPicPr>
          <p:blipFill>
            <a:blip r:embed="rId7"/>
            <a:stretch/>
          </p:blipFill>
          <p:spPr>
            <a:xfrm>
              <a:off x="4621320" y="1951200"/>
              <a:ext cx="9255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4778280" y="2063880"/>
              <a:ext cx="301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Oval 20"/>
          <p:cNvGrpSpPr/>
          <p:nvPr/>
        </p:nvGrpSpPr>
        <p:grpSpPr>
          <a:xfrm>
            <a:off x="3548160" y="1523880"/>
            <a:ext cx="927000" cy="841320"/>
            <a:chOff x="3548160" y="1523880"/>
            <a:chExt cx="927000" cy="841320"/>
          </a:xfrm>
        </p:grpSpPr>
        <p:pic>
          <p:nvPicPr>
            <p:cNvPr id="113" name="Oval 20" descr=""/>
            <p:cNvPicPr/>
            <p:nvPr/>
          </p:nvPicPr>
          <p:blipFill>
            <a:blip r:embed="rId8"/>
            <a:stretch/>
          </p:blipFill>
          <p:spPr>
            <a:xfrm>
              <a:off x="3548160" y="1523880"/>
              <a:ext cx="9270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706920" y="16351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Oval 21"/>
          <p:cNvGrpSpPr/>
          <p:nvPr/>
        </p:nvGrpSpPr>
        <p:grpSpPr>
          <a:xfrm>
            <a:off x="2664000" y="1090440"/>
            <a:ext cx="847440" cy="847800"/>
            <a:chOff x="2664000" y="1090440"/>
            <a:chExt cx="847440" cy="847800"/>
          </a:xfrm>
        </p:grpSpPr>
        <p:pic>
          <p:nvPicPr>
            <p:cNvPr id="116" name="Oval 21" descr=""/>
            <p:cNvPicPr/>
            <p:nvPr/>
          </p:nvPicPr>
          <p:blipFill>
            <a:blip r:embed="rId9"/>
            <a:stretch/>
          </p:blipFill>
          <p:spPr>
            <a:xfrm>
              <a:off x="2664000" y="1090440"/>
              <a:ext cx="8474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778120" y="120636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Oval 22"/>
          <p:cNvGrpSpPr/>
          <p:nvPr/>
        </p:nvGrpSpPr>
        <p:grpSpPr>
          <a:xfrm>
            <a:off x="5522760" y="3024360"/>
            <a:ext cx="841680" cy="841320"/>
            <a:chOff x="5522760" y="3024360"/>
            <a:chExt cx="841680" cy="841320"/>
          </a:xfrm>
        </p:grpSpPr>
        <p:pic>
          <p:nvPicPr>
            <p:cNvPr id="119" name="Oval 22" descr=""/>
            <p:cNvPicPr/>
            <p:nvPr/>
          </p:nvPicPr>
          <p:blipFill>
            <a:blip r:embed="rId10"/>
            <a:stretch/>
          </p:blipFill>
          <p:spPr>
            <a:xfrm>
              <a:off x="5522760" y="3024360"/>
              <a:ext cx="8416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5635800" y="3135240"/>
              <a:ext cx="3013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Oval 23"/>
          <p:cNvGrpSpPr/>
          <p:nvPr/>
        </p:nvGrpSpPr>
        <p:grpSpPr>
          <a:xfrm>
            <a:off x="2309760" y="2809800"/>
            <a:ext cx="841320" cy="841320"/>
            <a:chOff x="2309760" y="2809800"/>
            <a:chExt cx="841320" cy="841320"/>
          </a:xfrm>
        </p:grpSpPr>
        <p:pic>
          <p:nvPicPr>
            <p:cNvPr id="122" name="Oval 23" descr=""/>
            <p:cNvPicPr/>
            <p:nvPr/>
          </p:nvPicPr>
          <p:blipFill>
            <a:blip r:embed="rId11"/>
            <a:stretch/>
          </p:blipFill>
          <p:spPr>
            <a:xfrm>
              <a:off x="2309760" y="2809800"/>
              <a:ext cx="8413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2421000" y="292104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Oval 24"/>
          <p:cNvGrpSpPr/>
          <p:nvPr/>
        </p:nvGrpSpPr>
        <p:grpSpPr>
          <a:xfrm>
            <a:off x="3097080" y="3097080"/>
            <a:ext cx="841680" cy="841680"/>
            <a:chOff x="3097080" y="3097080"/>
            <a:chExt cx="841680" cy="841680"/>
          </a:xfrm>
        </p:grpSpPr>
        <p:pic>
          <p:nvPicPr>
            <p:cNvPr id="125" name="Oval 24" descr=""/>
            <p:cNvPicPr/>
            <p:nvPr/>
          </p:nvPicPr>
          <p:blipFill>
            <a:blip r:embed="rId12"/>
            <a:stretch/>
          </p:blipFill>
          <p:spPr>
            <a:xfrm>
              <a:off x="3097080" y="3097080"/>
              <a:ext cx="84168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206880" y="3206880"/>
              <a:ext cx="301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Oval 25"/>
          <p:cNvGrpSpPr/>
          <p:nvPr/>
        </p:nvGrpSpPr>
        <p:grpSpPr>
          <a:xfrm>
            <a:off x="3524400" y="3736800"/>
            <a:ext cx="839520" cy="841680"/>
            <a:chOff x="3524400" y="3736800"/>
            <a:chExt cx="839520" cy="841680"/>
          </a:xfrm>
        </p:grpSpPr>
        <p:pic>
          <p:nvPicPr>
            <p:cNvPr id="128" name="Oval 25" descr=""/>
            <p:cNvPicPr/>
            <p:nvPr/>
          </p:nvPicPr>
          <p:blipFill>
            <a:blip r:embed="rId13"/>
            <a:stretch/>
          </p:blipFill>
          <p:spPr>
            <a:xfrm>
              <a:off x="3524400" y="3736800"/>
              <a:ext cx="83952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3635280" y="3849840"/>
              <a:ext cx="301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Oval 26"/>
          <p:cNvGrpSpPr/>
          <p:nvPr/>
        </p:nvGrpSpPr>
        <p:grpSpPr>
          <a:xfrm>
            <a:off x="1378080" y="3664080"/>
            <a:ext cx="847440" cy="847440"/>
            <a:chOff x="1378080" y="3664080"/>
            <a:chExt cx="847440" cy="847440"/>
          </a:xfrm>
        </p:grpSpPr>
        <p:pic>
          <p:nvPicPr>
            <p:cNvPr id="131" name="Oval 26" descr=""/>
            <p:cNvPicPr/>
            <p:nvPr/>
          </p:nvPicPr>
          <p:blipFill>
            <a:blip r:embed="rId14"/>
            <a:stretch/>
          </p:blipFill>
          <p:spPr>
            <a:xfrm>
              <a:off x="1378080" y="3664080"/>
              <a:ext cx="8474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1492200" y="377820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3" name=""/>
          <p:cNvGraphicFramePr/>
          <p:nvPr/>
        </p:nvGraphicFramePr>
        <p:xfrm>
          <a:off x="714240" y="4500720"/>
          <a:ext cx="7572600" cy="371160"/>
        </p:xfrm>
        <a:graphic>
          <a:graphicData uri="http://schemas.openxmlformats.org/drawingml/2006/table">
            <a:tbl>
              <a:tblPr/>
              <a:tblGrid>
                <a:gridCol w="2524320"/>
                <a:gridCol w="2523960"/>
                <a:gridCol w="25243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ix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certe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pic>
        <p:nvPicPr>
          <p:cNvPr id="134" name="Table 30" descr=""/>
          <p:cNvPicPr/>
          <p:nvPr/>
        </p:nvPicPr>
        <p:blipFill>
          <a:blip r:embed="rId15"/>
          <a:stretch/>
        </p:blipFill>
        <p:spPr>
          <a:xfrm>
            <a:off x="139680" y="762120"/>
            <a:ext cx="573120" cy="37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2"/>
          <p:cNvSpPr/>
          <p:nvPr/>
        </p:nvSpPr>
        <p:spPr>
          <a:xfrm>
            <a:off x="348120" y="71280"/>
            <a:ext cx="11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SW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674640" y="839880"/>
            <a:ext cx="3816360" cy="227952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Forç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Capacidade para produzir produtos múltip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Liga vários processos que maximizam o aproveitamento da bioma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Minimiza a carga polu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Produz ao mesmo tempo: produtos químicos, combustível líquido, gerando calor e electricidade, como ex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Sistema quase auto-suficiente, maximiza os lucros de forma mais segura menos poluente e renová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4643280" y="839880"/>
            <a:ext cx="3816360" cy="227952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Fraquez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Por ser composta por hidratos de carbono, a biomassa tem uma adição de um átomo de oxigênio quando comparada aos combustíveis fosseis que são compostos somente por carbono e hidrogénio (hidrocarbonetos). Isto faz com que alguns produtos sejam mais difíceis de consegu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674640" y="3286080"/>
            <a:ext cx="3816360" cy="235764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Ameaç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Aquisições por empresas de grande po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Mudanças de legislação de Com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Concorrentes nacionais e internacion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4643280" y="3286080"/>
            <a:ext cx="3816360" cy="235764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Oportun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Forte apelo ecoló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Maior flexibilidade na implantação do processo (podem haver plantações em mais locais no planeta, enquanto que o combustivel fóssil depende de onde ele é encontrado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2"/>
          <p:cNvSpPr/>
          <p:nvPr/>
        </p:nvSpPr>
        <p:spPr>
          <a:xfrm>
            <a:off x="308880" y="71280"/>
            <a:ext cx="15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Sum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nme2.png"/>
          <p:cNvPicPr/>
          <p:nvPr/>
        </p:nvPicPr>
        <p:blipFill>
          <a:blip r:embed="rId2"/>
          <a:stretch/>
        </p:blipFill>
        <p:spPr>
          <a:xfrm>
            <a:off x="0" y="893880"/>
            <a:ext cx="9144000" cy="5821200"/>
          </a:xfrm>
          <a:prstGeom prst="rect">
            <a:avLst/>
          </a:prstGeom>
          <a:ln w="0">
            <a:noFill/>
          </a:ln>
        </p:spPr>
      </p:pic>
      <p:grpSp>
        <p:nvGrpSpPr>
          <p:cNvPr id="142" name="Oval 3"/>
          <p:cNvGrpSpPr/>
          <p:nvPr/>
        </p:nvGrpSpPr>
        <p:grpSpPr>
          <a:xfrm>
            <a:off x="3882960" y="1238400"/>
            <a:ext cx="841320" cy="839520"/>
            <a:chOff x="3882960" y="1238400"/>
            <a:chExt cx="841320" cy="839520"/>
          </a:xfrm>
        </p:grpSpPr>
        <p:pic>
          <p:nvPicPr>
            <p:cNvPr id="143" name="Oval 3" descr=""/>
            <p:cNvPicPr/>
            <p:nvPr/>
          </p:nvPicPr>
          <p:blipFill>
            <a:blip r:embed="rId3"/>
            <a:stretch/>
          </p:blipFill>
          <p:spPr>
            <a:xfrm>
              <a:off x="3882960" y="1238400"/>
              <a:ext cx="84132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3992400" y="13492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Isosceles Triangle 4"/>
          <p:cNvGrpSpPr/>
          <p:nvPr/>
        </p:nvGrpSpPr>
        <p:grpSpPr>
          <a:xfrm>
            <a:off x="4664160" y="4383000"/>
            <a:ext cx="987480" cy="914400"/>
            <a:chOff x="4664160" y="4383000"/>
            <a:chExt cx="987480" cy="914400"/>
          </a:xfrm>
        </p:grpSpPr>
        <p:pic>
          <p:nvPicPr>
            <p:cNvPr id="146" name="Isosceles Triangle 4" descr=""/>
            <p:cNvPicPr/>
            <p:nvPr/>
          </p:nvPicPr>
          <p:blipFill>
            <a:blip r:embed="rId4"/>
            <a:stretch/>
          </p:blipFill>
          <p:spPr>
            <a:xfrm>
              <a:off x="4664160" y="4383000"/>
              <a:ext cx="9874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857840" y="4680000"/>
              <a:ext cx="28584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Regular Pentagon 5"/>
          <p:cNvGrpSpPr/>
          <p:nvPr/>
        </p:nvGrpSpPr>
        <p:grpSpPr>
          <a:xfrm>
            <a:off x="5668920" y="1809720"/>
            <a:ext cx="981000" cy="982800"/>
            <a:chOff x="5668920" y="1809720"/>
            <a:chExt cx="981000" cy="982800"/>
          </a:xfrm>
        </p:grpSpPr>
        <p:pic>
          <p:nvPicPr>
            <p:cNvPr id="149" name="Regular Pentagon 5" descr=""/>
            <p:cNvPicPr/>
            <p:nvPr/>
          </p:nvPicPr>
          <p:blipFill>
            <a:blip r:embed="rId5"/>
            <a:stretch/>
          </p:blipFill>
          <p:spPr>
            <a:xfrm>
              <a:off x="5668920" y="1809720"/>
              <a:ext cx="981000" cy="9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5824440" y="1992240"/>
              <a:ext cx="3524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Right Triangle 6"/>
          <p:cNvGrpSpPr/>
          <p:nvPr/>
        </p:nvGrpSpPr>
        <p:grpSpPr>
          <a:xfrm>
            <a:off x="3949560" y="2876400"/>
            <a:ext cx="914400" cy="920880"/>
            <a:chOff x="3949560" y="2876400"/>
            <a:chExt cx="914400" cy="920880"/>
          </a:xfrm>
        </p:grpSpPr>
        <p:pic>
          <p:nvPicPr>
            <p:cNvPr id="152" name="Right Triangle 6" descr=""/>
            <p:cNvPicPr/>
            <p:nvPr/>
          </p:nvPicPr>
          <p:blipFill>
            <a:blip r:embed="rId6"/>
            <a:stretch/>
          </p:blipFill>
          <p:spPr>
            <a:xfrm>
              <a:off x="3949560" y="2876400"/>
              <a:ext cx="91440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041720" y="3220920"/>
              <a:ext cx="2509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Diamond 7"/>
          <p:cNvGrpSpPr/>
          <p:nvPr/>
        </p:nvGrpSpPr>
        <p:grpSpPr>
          <a:xfrm>
            <a:off x="2309760" y="4164120"/>
            <a:ext cx="982800" cy="987480"/>
            <a:chOff x="2309760" y="4164120"/>
            <a:chExt cx="982800" cy="987480"/>
          </a:xfrm>
        </p:grpSpPr>
        <p:pic>
          <p:nvPicPr>
            <p:cNvPr id="155" name="Diamond 7" descr=""/>
            <p:cNvPicPr/>
            <p:nvPr/>
          </p:nvPicPr>
          <p:blipFill>
            <a:blip r:embed="rId7"/>
            <a:stretch/>
          </p:blipFill>
          <p:spPr>
            <a:xfrm>
              <a:off x="2309760" y="4164120"/>
              <a:ext cx="9828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2500200" y="4357800"/>
              <a:ext cx="2858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1:37:09Z</dcterms:created>
  <dc:creator>cuinm</dc:creator>
  <dc:description/>
  <dc:language>en-US</dc:language>
  <cp:lastModifiedBy>cuinm</cp:lastModifiedBy>
  <dcterms:modified xsi:type="dcterms:W3CDTF">2010-03-04T21:46:14Z</dcterms:modified>
  <cp:revision>53</cp:revision>
  <dc:subject/>
  <dc:title>Slide 1</dc:title>
</cp:coreProperties>
</file>