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F27-E1DD-4A58-BC40-D1D126C0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A8F-2C7B-4A1D-85C3-8688D067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7E3-D0E3-48E0-B9E2-CFA210EA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7BC-CD47-4358-AEDD-DB13F3A8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4B6-5F71-4F87-A1D3-28378FAA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4B4-931A-4485-93E8-AB05FCA6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EAE-7303-4B7A-AD50-DE6CF632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15A-517C-4034-8564-E42C0D34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F33-E0AE-4B25-8D07-540FF70C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DA7-1674-4774-87F8-BE10EEEC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C38-6D2D-4B8C-B59A-5C165077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41C-9153-41A0-9081-3F8E0AD7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17FF-D939-47DB-BF9E-9C078A9B5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6656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13"/>
          <p:cNvGrpSpPr/>
          <p:nvPr/>
        </p:nvGrpSpPr>
        <p:grpSpPr>
          <a:xfrm>
            <a:off x="55440" y="858960"/>
            <a:ext cx="5967360" cy="4620960"/>
            <a:chOff x="55440" y="858960"/>
            <a:chExt cx="5967360" cy="4620960"/>
          </a:xfrm>
        </p:grpSpPr>
        <p:pic>
          <p:nvPicPr>
            <p:cNvPr id="12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928800"/>
              <a:ext cx="5786280" cy="44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onsumidor final dos fios Spandex busca o conforto ao vestir as pecas de roupas produzidas com os mesmos, tanto em roupas para a pratica de esportes como nas roupas para o uso diario. Essa preocupacao com o conforto assim como com a qualidade eh cada vez mais com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idor final exija cada vez mais conforto e tecnologia em suas roupas, o que torna necessária a constante inovação nas formas de uso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s fios Spandex têm como diferencial a elasticidade o que confere maior conforto às roupas produzidas com o mesmo. Atualmente novas tecnologias e formas de uso dos fios surgem para melhorar cada vez mais a tecnologia das roupas visando o maior conforto para o consumidor final que é cada vez mais exig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24" name="Oval 27"/>
          <p:cNvSpPr/>
          <p:nvPr/>
        </p:nvSpPr>
        <p:spPr>
          <a:xfrm>
            <a:off x="7093080" y="1700280"/>
            <a:ext cx="28548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55440" y="858960"/>
            <a:ext cx="5980320" cy="4408200"/>
            <a:chOff x="55440" y="858960"/>
            <a:chExt cx="5980320" cy="4408200"/>
          </a:xfrm>
        </p:grpSpPr>
        <p:pic>
          <p:nvPicPr>
            <p:cNvPr id="12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vendas dos fios Spandex cresceram no ano de 2009 e esse cenário tende a continuar em 2010, pois o consumidor final associa as marcas que usam o fio Spandex a produtos de qualidade, conforto e durabi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o mundial de roupas aumente juntamente com as taxas de crescimento da população, assim como aumenta a exigência de conforto e qualidade dos consumidores finais. Sendo assim, a perspectiva é que as vendas cresçam nos próximos anos e o cenário econômico seja favoráve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conomia global se recuperou e o consumo voltou a crescer no mundo, sendo esse um cenário favorável para as vendas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Oval 27"/>
          <p:cNvSpPr/>
          <p:nvPr/>
        </p:nvSpPr>
        <p:spPr>
          <a:xfrm>
            <a:off x="8172360" y="155736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ectangle 13"/>
          <p:cNvGrpSpPr/>
          <p:nvPr/>
        </p:nvGrpSpPr>
        <p:grpSpPr>
          <a:xfrm>
            <a:off x="55440" y="858960"/>
            <a:ext cx="5980320" cy="4061160"/>
            <a:chOff x="55440" y="858960"/>
            <a:chExt cx="5980320" cy="4061160"/>
          </a:xfrm>
        </p:grpSpPr>
        <p:pic>
          <p:nvPicPr>
            <p:cNvPr id="13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2920" y="928800"/>
              <a:ext cx="5786280" cy="39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poder de barganha das marcas que se utilizam dos fios Spandex é grande pois essas são muito fortes e possuem tradição de muitos anos, tendo alcançado um patamar alto de admiração pel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magem construída pelas marcas deve melhorar ainda mais no futuro com a associação às novas tecnologias cada vez mais modernas de fios, o que ajuda a manter o alto poder de barganha que essas marcas têm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radição e o respeito associados às marcas que se utilizam dos fios Spandex faz com que as mesmas tenham um grande poder de barganha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Oval 27"/>
          <p:cNvSpPr/>
          <p:nvPr/>
        </p:nvSpPr>
        <p:spPr>
          <a:xfrm>
            <a:off x="6443640" y="170028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13"/>
          <p:cNvGrpSpPr/>
          <p:nvPr/>
        </p:nvGrpSpPr>
        <p:grpSpPr>
          <a:xfrm>
            <a:off x="55440" y="858960"/>
            <a:ext cx="5967360" cy="5054400"/>
            <a:chOff x="55440" y="858960"/>
            <a:chExt cx="5967360" cy="5054400"/>
          </a:xfrm>
        </p:grpSpPr>
        <p:pic>
          <p:nvPicPr>
            <p:cNvPr id="13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2920" y="92880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com a preservação do meio ambiente pela empresa produtora dos fios Spandex. A criação de valor sustentável é realizada através da excelência em meio-ambiente, saúde e segurança buscando formas para conservar os recursos, reduzir as emissões e criar utilidade e durabilidade d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Tendo a preocupação ambiental, a empresa ira procurar formas custo-efetivas para reduzir ainda mais as emissões de poluentes no ar e na água, assim como melhorar a eficiência energética e desenvolver tecnologias inovadoras que possam resultar na redução das emissões de carbo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cenário atual, as empresas que não demonstram ter uma preocupação com o meio-ambiente acabam perdendo o respeito de seus consumidores e mais futuramente podem ver seus recursos desaparecerem pelo uso desenfreado e não sustentável dos mesm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2" name="Oval 27"/>
          <p:cNvSpPr/>
          <p:nvPr/>
        </p:nvSpPr>
        <p:spPr>
          <a:xfrm>
            <a:off x="6877080" y="177336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ectangle 13"/>
          <p:cNvGrpSpPr/>
          <p:nvPr/>
        </p:nvGrpSpPr>
        <p:grpSpPr>
          <a:xfrm>
            <a:off x="55440" y="858960"/>
            <a:ext cx="6004080" cy="4408200"/>
            <a:chOff x="55440" y="858960"/>
            <a:chExt cx="6004080" cy="4408200"/>
          </a:xfrm>
        </p:grpSpPr>
        <p:pic>
          <p:nvPicPr>
            <p:cNvPr id="14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reocupação com a qualidade do produto faz parte da filosofia da empresa produtora do fio Spandex. Devido a esta atenção especial dada à qualidade, o fio Spandex se tornou popular e sua imagem passou a ser associada ao alto padrão de qualidad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As exigências de qualidade pelo consumidor final crescem ano após ano, portanto, a empresa devem continuar com a preocupação em produzir um fio de qualidade cada vez ma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 dos grandes diferenciais dos fios Spandex é sua qualidade. Essa preocupação com a qualidade do produto ocorre desde o surgimento do mesmo, sendo um grande diferencial perante seus concorrentes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8" name="Oval 27"/>
          <p:cNvSpPr/>
          <p:nvPr/>
        </p:nvSpPr>
        <p:spPr>
          <a:xfrm>
            <a:off x="680400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13"/>
          <p:cNvGrpSpPr/>
          <p:nvPr/>
        </p:nvGrpSpPr>
        <p:grpSpPr>
          <a:xfrm>
            <a:off x="55440" y="858960"/>
            <a:ext cx="5997600" cy="5553000"/>
            <a:chOff x="55440" y="858960"/>
            <a:chExt cx="5997600" cy="5553000"/>
          </a:xfrm>
        </p:grpSpPr>
        <p:pic>
          <p:nvPicPr>
            <p:cNvPr id="15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97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928800"/>
              <a:ext cx="5786280" cy="54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quanto à concorrência principalmente dos produtos chineses. Esses produtos, muitas vezes com custos menores, não apresentam o mesmo padrão de qualidade e nem a confiabilidade dos fios Spandex, porém, suas vendas têm aumentado o que os torna concorrentes cada vez mais dire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Com o crescimento do consumo mundial e da China, esses concorrentes tendem a ser cada vez mais presentes no mercado. A qualidade de seus produtos tende a melhorar com o aperfeiçoamento tecnológico, e, por isso, deve-se criar maneiras inovadoras de diferenciação dos produtos que utilizam o fio Spandex de forma a não perder mercado para o produto chinê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opulação mundial crescente e o desenvolvimento da China fazem com que concorrentes surjam no mercado têxtil. Com uma demanda cada vez maior, as novas empresas tentam alcançar o padrão de qualidade já adquirido através dos anos pela empresa produtora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54" name="Oval 27"/>
          <p:cNvSpPr/>
          <p:nvPr/>
        </p:nvSpPr>
        <p:spPr>
          <a:xfrm>
            <a:off x="766764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13"/>
          <p:cNvGrpSpPr/>
          <p:nvPr/>
        </p:nvGrpSpPr>
        <p:grpSpPr>
          <a:xfrm>
            <a:off x="55440" y="858960"/>
            <a:ext cx="6004080" cy="5486400"/>
            <a:chOff x="55440" y="858960"/>
            <a:chExt cx="6004080" cy="5486400"/>
          </a:xfrm>
        </p:grpSpPr>
        <p:pic>
          <p:nvPicPr>
            <p:cNvPr id="15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2920" y="928800"/>
              <a:ext cx="5786280" cy="52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Inovação é a palavra central no negócio da empresa que produz fios Spandex. O desenvolvimento dos primeiros fios Spandex anunciou um impulso evolutivo no mercado da moda, sendo que as roupas passaram a proporcionar maior desempenho, modelagem e níveis superiores de conforto para o consumidor. A partir daí, novas tecnologias e novos usos para os fios Spandex foram criados e atualmente são inúmeros os usos e os avanços tecnológicos observ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novação continuará sendo algo de extrema importância no mercado dos fios Spandex, pois é a única maneira de buscar diferenciais que tragam vantagens cada vez mais essenciais ao consumidor final de forma a vencer a concorrência cresc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mercado em que se insere a empresa produtora dos fios Spandex inovação é essencial, pois o cliente final tem apetite por novidades. Criar produtos diferenciados que estimulem o interesse do consumidor é fundamental para se destacar nesse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Oval 27"/>
          <p:cNvSpPr/>
          <p:nvPr/>
        </p:nvSpPr>
        <p:spPr>
          <a:xfrm>
            <a:off x="7308720" y="907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Rectangle 13"/>
          <p:cNvGrpSpPr/>
          <p:nvPr/>
        </p:nvGrpSpPr>
        <p:grpSpPr>
          <a:xfrm>
            <a:off x="55440" y="858960"/>
            <a:ext cx="5967360" cy="4408200"/>
            <a:chOff x="55440" y="858960"/>
            <a:chExt cx="5967360" cy="4408200"/>
          </a:xfrm>
        </p:grpSpPr>
        <p:pic>
          <p:nvPicPr>
            <p:cNvPr id="16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enário político atual é estável e favorável ao crescimento de produção da empresa de Spandex. Não existem incertezas quanto aos caminhos políticos do país o que gera tranqüilidade para os empresári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ão há grandes preocupações quanto ao ambiente político futuro. Tudo indica que a estabilidade alcançada não deve ser alterada com a troca de governantes já que o país segue em crescente desenvolvim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stabilidade política é algo importante para que a empresa possa se desenvolver com êxito no país. Com um cenário político sem grandes incertezas, a empresa consegue planejar suas estratégias sem preocupações com grandes mudanças polít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Oval 27"/>
          <p:cNvSpPr/>
          <p:nvPr/>
        </p:nvSpPr>
        <p:spPr>
          <a:xfrm>
            <a:off x="6372360" y="191628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33480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85840" y="839880"/>
            <a:ext cx="420516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Marca,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Know how,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Base instalada,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Domínio da cad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724280" y="839880"/>
            <a:ext cx="420552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r com custo Brasil vs produção com custo Ásia (burocracia, impost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usto de 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5840" y="3643200"/>
            <a:ext cx="420516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Eco-terrorismo (indústria quí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724280" y="3643200"/>
            <a:ext cx="420552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 (fibra sintética requer menos recursos natur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39096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figura 2"/>
          <p:cNvPicPr/>
          <p:nvPr/>
        </p:nvPicPr>
        <p:blipFill>
          <a:blip r:embed="rId1"/>
          <a:srcRect l="0" t="11037" r="0" b="6208"/>
          <a:stretch/>
        </p:blipFill>
        <p:spPr>
          <a:xfrm>
            <a:off x="71280" y="857160"/>
            <a:ext cx="450072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Rectangle 3"/>
          <p:cNvSpPr/>
          <p:nvPr/>
        </p:nvSpPr>
        <p:spPr>
          <a:xfrm>
            <a:off x="4786200" y="835200"/>
            <a:ext cx="407196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e e otimização do processo quí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rcei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pacotamento, logística, manutenção mecâ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ati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Unidades produtivas obso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lian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idos de LYCRA com Nylon e outras fi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rea de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env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ocessos de trabalho para as áreas fun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34080" y="71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Í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Fatores C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 (Matriz R vs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nálise 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209520" y="712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Desempenho e Importânci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77" name="Oval 3"/>
          <p:cNvGrpSpPr/>
          <p:nvPr/>
        </p:nvGrpSpPr>
        <p:grpSpPr>
          <a:xfrm>
            <a:off x="5810400" y="1596960"/>
            <a:ext cx="839520" cy="841320"/>
            <a:chOff x="5810400" y="1596960"/>
            <a:chExt cx="839520" cy="841320"/>
          </a:xfrm>
        </p:grpSpPr>
        <p:pic>
          <p:nvPicPr>
            <p:cNvPr id="178" name="Oval 3" descr=""/>
            <p:cNvPicPr/>
            <p:nvPr/>
          </p:nvPicPr>
          <p:blipFill>
            <a:blip r:embed="rId3"/>
            <a:stretch/>
          </p:blipFill>
          <p:spPr>
            <a:xfrm>
              <a:off x="5810400" y="159696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921280" y="17064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Isosceles Triangle 4"/>
          <p:cNvGrpSpPr/>
          <p:nvPr/>
        </p:nvGrpSpPr>
        <p:grpSpPr>
          <a:xfrm>
            <a:off x="5668920" y="3597120"/>
            <a:ext cx="981000" cy="914400"/>
            <a:chOff x="5668920" y="3597120"/>
            <a:chExt cx="981000" cy="914400"/>
          </a:xfrm>
        </p:grpSpPr>
        <p:pic>
          <p:nvPicPr>
            <p:cNvPr id="181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5668920" y="3597120"/>
              <a:ext cx="981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857920" y="389412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gular Pentagon 5"/>
          <p:cNvGrpSpPr/>
          <p:nvPr/>
        </p:nvGrpSpPr>
        <p:grpSpPr>
          <a:xfrm>
            <a:off x="3376440" y="1663560"/>
            <a:ext cx="987480" cy="987480"/>
            <a:chOff x="3376440" y="1663560"/>
            <a:chExt cx="987480" cy="987480"/>
          </a:xfrm>
        </p:grpSpPr>
        <p:pic>
          <p:nvPicPr>
            <p:cNvPr id="184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3376440" y="166356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538440" y="184932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ight Triangle 6"/>
          <p:cNvGrpSpPr/>
          <p:nvPr/>
        </p:nvGrpSpPr>
        <p:grpSpPr>
          <a:xfrm>
            <a:off x="4383000" y="1163520"/>
            <a:ext cx="914400" cy="914400"/>
            <a:chOff x="4383000" y="1163520"/>
            <a:chExt cx="914400" cy="914400"/>
          </a:xfrm>
        </p:grpSpPr>
        <p:pic>
          <p:nvPicPr>
            <p:cNvPr id="187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4383000" y="1163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70480" y="150660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Diamond 7"/>
          <p:cNvGrpSpPr/>
          <p:nvPr/>
        </p:nvGrpSpPr>
        <p:grpSpPr>
          <a:xfrm>
            <a:off x="2664000" y="2451240"/>
            <a:ext cx="987120" cy="987120"/>
            <a:chOff x="2664000" y="2451240"/>
            <a:chExt cx="987120" cy="987120"/>
          </a:xfrm>
        </p:grpSpPr>
        <p:pic>
          <p:nvPicPr>
            <p:cNvPr id="190" name="Diamond 7" descr=""/>
            <p:cNvPicPr/>
            <p:nvPr/>
          </p:nvPicPr>
          <p:blipFill>
            <a:blip r:embed="rId7"/>
            <a:stretch/>
          </p:blipFill>
          <p:spPr>
            <a:xfrm>
              <a:off x="2664000" y="2451240"/>
              <a:ext cx="9871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857680" y="26431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iagnóstico periodico do desempenho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log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de Operações de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spec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Busca de novos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esenvolvimento de novas 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Uso de Software para Trans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e Relac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imulo ao desenvolvimento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E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esultados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per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r valor a longo-prazo para seus cl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ervação dos recursos natur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emissõ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ar a utilidade e durabilidade dos seus produ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escimento através de aquisições e da expansão dos seus negócios pelo mu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ustos de transporte e armazenag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o giro de 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apital de giro (estoques), liberando para investimento no cresci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as marge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risco e aumento da governança corporativa e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ximização dos preços de ven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tempo entre pedido e entr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dministrativos da oper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314640" y="712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o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835200"/>
            <a:ext cx="857232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presentação d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enários: contexto atual, cenários atual e futuro, ou seja, a partir do ambiente atual, construir o ambiente futuro do setor e empresa escolh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tores Chave – selecionar e priorizar os principais fatores-chaves pela Matriz Importância versus Desempenho, ou seja, avaliar como as mudanças nos fatores-chaves irão afetar o ambiente da empresa escolh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, Matriz de Impacto x Grau de Incert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nálise SWOT – Ameaças e Oportunidades, Pontos Fortes e Fracos, processos essenciais para construir uma vantagem competitiva no novo ambiente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 - Análise dos 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 – definir uma estratégia para a empresa, propor ações para ajustar Gestão, Tecnologia e Pessoas ao novo Ambiente e descrever os resultados esp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46188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3328920" y="3328920"/>
            <a:ext cx="5743800" cy="345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ome Clothes Love You Back"/>
          <p:cNvPicPr/>
          <p:nvPr/>
        </p:nvPicPr>
        <p:blipFill>
          <a:blip r:embed="rId3"/>
          <a:stretch/>
        </p:blipFill>
        <p:spPr>
          <a:xfrm>
            <a:off x="71280" y="85716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345960" y="7128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467320" y="1000080"/>
            <a:ext cx="3695760" cy="3949920"/>
            <a:chOff x="5467320" y="1000080"/>
            <a:chExt cx="3695760" cy="3949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467320" y="1000080"/>
              <a:ext cx="369576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72080" y="1071720"/>
              <a:ext cx="35006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2320" y="1000080"/>
            <a:ext cx="547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13"/>
          <p:cNvGrpSpPr/>
          <p:nvPr/>
        </p:nvGrpSpPr>
        <p:grpSpPr>
          <a:xfrm>
            <a:off x="55440" y="895320"/>
            <a:ext cx="6010560" cy="4915440"/>
            <a:chOff x="55440" y="895320"/>
            <a:chExt cx="6010560" cy="4915440"/>
          </a:xfrm>
        </p:grpSpPr>
        <p:pic>
          <p:nvPicPr>
            <p:cNvPr id="9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95320"/>
              <a:ext cx="601056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2920" y="96696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mpresa fabricante do fio Spandex conquistou uma cliental fiel, que da valor a qualidade e ao conforto proporcionados pelos tecidos em que o fio eh utilizado. Muitos consumidores estao dispostos a pagar mais pela roupa por ter certeza da qualidade e durabilidade da mesm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inovacoes continuam acontecendo e o valor agregado as roupas com tecidos tecnologicos eh cada vez maior. A empresa em questao trabalha com intuito de inovar e criar tecnologias que beneficiem 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vem sendo utilizado de uma maneira cada vez mais abrangente e sendo explorado em situações que com exigências específicas, cada vez maiores, principalmente no setor esportivo. Isso demanda uma dinâmica no desenvolvimento de novos produtos, e de produtos com características específicas que trazem um grande desafio de pesquisa e desenvolvimento, além de um ciclo de vida mais curto para 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0" name="Oval 27"/>
          <p:cNvSpPr/>
          <p:nvPr/>
        </p:nvSpPr>
        <p:spPr>
          <a:xfrm>
            <a:off x="7346880" y="153504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3"/>
          <p:cNvGrpSpPr/>
          <p:nvPr/>
        </p:nvGrpSpPr>
        <p:grpSpPr>
          <a:xfrm>
            <a:off x="55440" y="858960"/>
            <a:ext cx="5980320" cy="3762360"/>
            <a:chOff x="55440" y="858960"/>
            <a:chExt cx="5980320" cy="3762360"/>
          </a:xfrm>
        </p:grpSpPr>
        <p:pic>
          <p:nvPicPr>
            <p:cNvPr id="10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ornecimento local de Spandex é primariamente pela unidade produtiva local, enquanto que a concorrência importa o fio d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ssibilidade de instalação de unidades produtivas locais pela concorrência, para facilitar a parte logístic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maior concorrência do fio Spandex é do mercado asiático, que tem uma mão-de-obra mais barata. Para produtos com embalagem retornável, há uma grande desvantagem competitiva em relação ao produto local. Outra desvantagem é o tempo para atendimento ao cliente, sem correr o risco de excesso de estoqu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6" name="Oval 27"/>
          <p:cNvSpPr/>
          <p:nvPr/>
        </p:nvSpPr>
        <p:spPr>
          <a:xfrm>
            <a:off x="6585120" y="128124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13"/>
          <p:cNvGrpSpPr/>
          <p:nvPr/>
        </p:nvGrpSpPr>
        <p:grpSpPr>
          <a:xfrm>
            <a:off x="55440" y="858960"/>
            <a:ext cx="5967360" cy="3762360"/>
            <a:chOff x="55440" y="858960"/>
            <a:chExt cx="5967360" cy="3762360"/>
          </a:xfrm>
        </p:grpSpPr>
        <p:pic>
          <p:nvPicPr>
            <p:cNvPr id="10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apresenta uma qualidade e nível de serviços superiores, que suportam um premium price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a eventual iniciativa da concorrência, de reforçara a área de tecnologia, pode provocar uma concorrência mais agressiva na área de produtos mais nobres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r ser um produto commodity, o custo é um item fundamental e, além do local de produção, com seus custos de logísticas e de mão-de-obra associados, pode ter também fatores tributários e de custo de energia que podem ter um alto impac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Oval 27"/>
          <p:cNvSpPr/>
          <p:nvPr/>
        </p:nvSpPr>
        <p:spPr>
          <a:xfrm>
            <a:off x="6394320" y="1123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1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wwm017</cp:lastModifiedBy>
  <dcterms:modified xsi:type="dcterms:W3CDTF">2010-04-15T00:28:54Z</dcterms:modified>
  <cp:revision>69</cp:revision>
  <dc:subject/>
  <dc:title>Slide 1</dc:title>
</cp:coreProperties>
</file>