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F0F-D513-4617-8A25-AEB55ACC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551-E861-441F-ADA3-FCCA662D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38C-F033-42BE-A1EB-BE59A18C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CCA-990B-4C0B-87AB-5B8B7589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BD6-EAA1-4666-B712-DCB24E94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15F-DCF2-46C3-BF8F-602DD76C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2F5-7324-4A1F-A07E-AF4302A4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D64-5227-419A-AC62-D4B38E72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44E-76B6-4F9B-9E84-DF56E1B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8EC-CBD4-46A8-8982-509A875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787-E9DE-442B-BC9B-9F84ACE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496-8C09-4B13-B3D7-8A7676B8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CF2-7F32-431A-9FB2-6649FC170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a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ca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c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i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7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83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84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7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90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93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6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o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co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c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e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42000" y="7128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Gestão - Porter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321000" y="2638440"/>
            <a:ext cx="2430360" cy="174924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000240" y="857160"/>
            <a:ext cx="3000600" cy="1530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ovos Ent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Empresas coreanas se fortalecendo em spa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59000" y="4786200"/>
            <a:ext cx="2683080" cy="1857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Produtos Substit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na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sintéticas de baixo c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143760" y="2495520"/>
            <a:ext cx="2857320" cy="1967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14200" y="2567160"/>
            <a:ext cx="2714760" cy="20761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necedores IN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Desenvolvimento de opções aos fornecedore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intia_arten</cp:lastModifiedBy>
  <dcterms:modified xsi:type="dcterms:W3CDTF">2010-04-08T20:27:03Z</dcterms:modified>
  <cp:revision>65</cp:revision>
  <dc:subject/>
  <dc:title>Slide 1</dc:title>
</cp:coreProperties>
</file>