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16E2-4236-4DBC-8E2A-3D33EC7FA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A614-08AA-477C-9685-DC8C5456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1705-17C4-46C7-AA9A-3BDD7EC34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90D9-8896-4E9D-A608-F21D4A2D2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C537-E2F4-41CA-B0CF-50005E00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7010-F214-4110-8269-E83D8C6F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F56C-5DFD-4D45-97DB-EB0099CB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A862-C2A6-4287-9BFD-5FD85F92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1A68-7506-4468-8401-D3AB8528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460A-DADE-4285-A2C3-E87F36CC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4425-5EFA-4CBA-8802-DCC3B40D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F370-43AE-481D-97DA-BB6E2AAC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43A3-CC1E-4CF3-8FD7-E92B181B34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-9360" y="-9360"/>
            <a:ext cx="9162720" cy="6876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2"/>
          <p:cNvSpPr/>
          <p:nvPr/>
        </p:nvSpPr>
        <p:spPr>
          <a:xfrm>
            <a:off x="466560" y="71280"/>
            <a:ext cx="53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NME – Commodities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6786720" y="4729680"/>
            <a:ext cx="2035080" cy="18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960" rIns="0" tIns="47520" bIns="0" anchor="ctr">
            <a:spAutoFit/>
          </a:bodyPr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Cintia Ar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Wesley Me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Mario Cu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Emilio Torm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Ramom M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http://www.bionauta.com/biorefinery.jpg"/>
          <p:cNvPicPr/>
          <p:nvPr/>
        </p:nvPicPr>
        <p:blipFill>
          <a:blip r:embed="rId2"/>
          <a:stretch/>
        </p:blipFill>
        <p:spPr>
          <a:xfrm>
            <a:off x="7572240" y="1000080"/>
            <a:ext cx="1428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Rectangle 13"/>
          <p:cNvGrpSpPr/>
          <p:nvPr/>
        </p:nvGrpSpPr>
        <p:grpSpPr>
          <a:xfrm>
            <a:off x="55440" y="858960"/>
            <a:ext cx="5967360" cy="3547800"/>
            <a:chOff x="55440" y="858960"/>
            <a:chExt cx="5967360" cy="3547800"/>
          </a:xfrm>
        </p:grpSpPr>
        <p:pic>
          <p:nvPicPr>
            <p:cNvPr id="121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67360" cy="35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42920" y="928800"/>
              <a:ext cx="5786280" cy="33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4 Mercado Exter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fio Spandex é um produto de classe mundial, com uma base de unidades produtivas e de consumo nos cinco continentes, enquanto a concorrência está fixada primariamente na Ásia.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unidade produtiva brasileira já exporta, como parte da teia de unidades produtivas globais, e pode ser uma unidade chave de fornecimento global caso tenha um aumento significativo de escala. 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mercado externo sofreu  uma retração e vem se recuperando, mas menos que o mercado intern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24" name="Oval 27"/>
          <p:cNvSpPr/>
          <p:nvPr/>
        </p:nvSpPr>
        <p:spPr>
          <a:xfrm>
            <a:off x="8234280" y="1133640"/>
            <a:ext cx="28584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Rectangle 13"/>
          <p:cNvGrpSpPr/>
          <p:nvPr/>
        </p:nvGrpSpPr>
        <p:grpSpPr>
          <a:xfrm>
            <a:off x="55440" y="858960"/>
            <a:ext cx="5967360" cy="4620960"/>
            <a:chOff x="55440" y="858960"/>
            <a:chExt cx="5967360" cy="4620960"/>
          </a:xfrm>
        </p:grpSpPr>
        <p:pic>
          <p:nvPicPr>
            <p:cNvPr id="127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67360" cy="46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42920" y="928800"/>
              <a:ext cx="5786280" cy="44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5 Habitos do consumi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consumidor final dos fios Spandex busca o conforto ao vestir as pecas de roupas produzidas com os mesmos, tanto em roupas para a pratica de esportes como nas roupas para o uso diario. Essa preocupacao com o conforto assim como com a qualidade eh cada vez mais comum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tendência é que o consumidor final exija cada vez mais conforto e tecnologia em suas roupas, o que torna necessária a constante inovação nas formas de uso dos fios Spandex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s fios Spandex têm como diferencial a elasticidade o que confere maior conforto às roupas produzidas com o mesmo. Atualmente novas tecnologias e formas de uso dos fios surgem para melhorar cada vez mais a tecnologia das roupas visando o maior conforto para o consumidor final que é cada vez mais exigent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30" name="Oval 27"/>
          <p:cNvSpPr/>
          <p:nvPr/>
        </p:nvSpPr>
        <p:spPr>
          <a:xfrm>
            <a:off x="8234280" y="1133640"/>
            <a:ext cx="28584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Rectangle 13"/>
          <p:cNvGrpSpPr/>
          <p:nvPr/>
        </p:nvGrpSpPr>
        <p:grpSpPr>
          <a:xfrm>
            <a:off x="55440" y="858960"/>
            <a:ext cx="5980320" cy="4408200"/>
            <a:chOff x="55440" y="858960"/>
            <a:chExt cx="5980320" cy="4408200"/>
          </a:xfrm>
        </p:grpSpPr>
        <p:pic>
          <p:nvPicPr>
            <p:cNvPr id="133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80320" cy="44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142920" y="928800"/>
              <a:ext cx="5786280" cy="42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6 Econom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s vendas dos fios Spandex cresceram no ano de 2009 e esse cenário tende a continuar em 2010, pois o consumidor final associa as marcas que usam o fio Spandex a produtos de qualidade, conforto e durabilidad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tendência é que o consumo mundial de roupas aumente juntamente com as taxas de crescimento da população, assim como aumenta a exigência de conforto e qualidade dos consumidores finais. Sendo assim, a perspectiva é que as vendas cresçam nos próximos anos e o cenário econômico seja favoráve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economia global se recuperou e o consumo voltou a crescer no mundo, sendo esse um cenário favorável para as vendas dos fios Spandex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36" name="Oval 27"/>
          <p:cNvSpPr/>
          <p:nvPr/>
        </p:nvSpPr>
        <p:spPr>
          <a:xfrm>
            <a:off x="8234280" y="1133640"/>
            <a:ext cx="28584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Rectangle 13"/>
          <p:cNvGrpSpPr/>
          <p:nvPr/>
        </p:nvGrpSpPr>
        <p:grpSpPr>
          <a:xfrm>
            <a:off x="55440" y="858960"/>
            <a:ext cx="5980320" cy="4061160"/>
            <a:chOff x="55440" y="858960"/>
            <a:chExt cx="5980320" cy="4061160"/>
          </a:xfrm>
        </p:grpSpPr>
        <p:pic>
          <p:nvPicPr>
            <p:cNvPr id="139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80320" cy="37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42920" y="928800"/>
              <a:ext cx="5786280" cy="39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7 Poder de Barganh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poder de barganha das marcas que se utilizam dos fios Spandex é grande pois essas são muito fortes e possuem tradição de muitos anos, tendo alcançado um patamar alto de admiração pelo consumidor fina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imagem construída pelas marcas deve melhorar ainda mais no futuro com a associação às novas tecnologias cada vez mais modernas de fios, o que ajuda a manter o alto poder de barganha que essas marcas têm no mercad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tradição e o respeito associados às marcas que se utilizam dos fios Spandex faz com que as mesmas tenham um grande poder de barganha no mercad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42" name="Oval 27"/>
          <p:cNvSpPr/>
          <p:nvPr/>
        </p:nvSpPr>
        <p:spPr>
          <a:xfrm>
            <a:off x="8234280" y="1133640"/>
            <a:ext cx="28584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Rectangle 13"/>
          <p:cNvGrpSpPr/>
          <p:nvPr/>
        </p:nvGrpSpPr>
        <p:grpSpPr>
          <a:xfrm>
            <a:off x="55440" y="858960"/>
            <a:ext cx="5967360" cy="5054400"/>
            <a:chOff x="55440" y="858960"/>
            <a:chExt cx="5967360" cy="5054400"/>
          </a:xfrm>
        </p:grpSpPr>
        <p:pic>
          <p:nvPicPr>
            <p:cNvPr id="145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67360" cy="50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142920" y="928800"/>
              <a:ext cx="5786280" cy="484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8 Preocupacao Ambien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Existe uma grande preocupação com a preservação do meio ambiente pela empresa produtora dos fios Spandex. A criação de valor sustentável é realizada através da excelência em meio-ambiente, saúde e segurança buscando formas para conservar os recursos, reduzir as emissões e criar utilidade e durabilidade dos produt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 Tendo a preocupação ambiental, a empresa ira procurar formas custo-efetivas para reduzir ainda mais as emissões de poluentes no ar e na água, assim como melhorar a eficiência energética e desenvolver tecnologias inovadoras que possam resultar na redução das emissões de carbon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No cenário atual, as empresas que não demonstram ter uma preocupação com o meio-ambiente acabam perdendo o respeito de seus consumidores e mais futuramente podem ver seus recursos desaparecerem pelo uso desenfreado e não sustentável dos mesm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48" name="Oval 27"/>
          <p:cNvSpPr/>
          <p:nvPr/>
        </p:nvSpPr>
        <p:spPr>
          <a:xfrm>
            <a:off x="8234280" y="1133640"/>
            <a:ext cx="28584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Rectangle 13"/>
          <p:cNvGrpSpPr/>
          <p:nvPr/>
        </p:nvGrpSpPr>
        <p:grpSpPr>
          <a:xfrm>
            <a:off x="55440" y="858960"/>
            <a:ext cx="6004080" cy="4408200"/>
            <a:chOff x="55440" y="858960"/>
            <a:chExt cx="6004080" cy="4408200"/>
          </a:xfrm>
        </p:grpSpPr>
        <p:pic>
          <p:nvPicPr>
            <p:cNvPr id="151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6004080" cy="44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142920" y="928800"/>
              <a:ext cx="5786280" cy="42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9 Qualida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preocupação com a qualidade do produto faz parte da filosofia da empresa produtora do fio Spandex. Devido a esta atenção especial dada à qualidade, o fio Spandex se tornou popular e sua imagem passou a ser associada ao alto padrão de qualidad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 As exigências de qualidade pelo consumidor final crescem ano após ano, portanto, a empresa devem continuar com a preocupação em produzir um fio de qualidade cada vez maior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Um dos grandes diferenciais dos fios Spandex é sua qualidade. Essa preocupação com a qualidade do produto ocorre desde o surgimento do mesmo, sendo um grande diferencial perante seus concorrentes.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54" name="Oval 27"/>
          <p:cNvSpPr/>
          <p:nvPr/>
        </p:nvSpPr>
        <p:spPr>
          <a:xfrm>
            <a:off x="8234280" y="1133640"/>
            <a:ext cx="28584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Rectangle 13"/>
          <p:cNvGrpSpPr/>
          <p:nvPr/>
        </p:nvGrpSpPr>
        <p:grpSpPr>
          <a:xfrm>
            <a:off x="55440" y="858960"/>
            <a:ext cx="5997600" cy="5553000"/>
            <a:chOff x="55440" y="858960"/>
            <a:chExt cx="5997600" cy="5553000"/>
          </a:xfrm>
        </p:grpSpPr>
        <p:pic>
          <p:nvPicPr>
            <p:cNvPr id="157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9760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142920" y="928800"/>
              <a:ext cx="5786280" cy="54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10 Concorrenc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Existe uma grande preocupação quanto à concorrência principalmente dos produtos chineses. Esses produtos, muitas vezes com custos menores, não apresentam o mesmo padrão de qualidade e nem a confiabilidade dos fios Spandex, porém, suas vendas têm aumentado o que os torna concorrentes cada vez mais diret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Com o crescimento do consumo mundial e da China, esses concorrentes tendem a ser cada vez mais presentes no mercado. A qualidade de seus produtos tende a melhorar com o aperfeiçoamento tecnológico, e, por isso, deve-se criar maneiras inovadoras de diferenciação dos produtos que utilizam o fio Spandex de forma a não perder mercado para o produto chinês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população mundial crescente e o desenvolvimento da China fazem com que concorrentes surjam no mercado têxtil. Com uma demanda cada vez maior, as novas empresas tentam alcançar o padrão de qualidade já adquirido através dos anos pela empresa produtora dos fios Spandex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60" name="Oval 27"/>
          <p:cNvSpPr/>
          <p:nvPr/>
        </p:nvSpPr>
        <p:spPr>
          <a:xfrm>
            <a:off x="8234280" y="1133640"/>
            <a:ext cx="28584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Rectangle 13"/>
          <p:cNvGrpSpPr/>
          <p:nvPr/>
        </p:nvGrpSpPr>
        <p:grpSpPr>
          <a:xfrm>
            <a:off x="55440" y="858960"/>
            <a:ext cx="6004080" cy="5486400"/>
            <a:chOff x="55440" y="858960"/>
            <a:chExt cx="6004080" cy="5486400"/>
          </a:xfrm>
        </p:grpSpPr>
        <p:pic>
          <p:nvPicPr>
            <p:cNvPr id="163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600408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142920" y="928800"/>
              <a:ext cx="5786280" cy="52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11 Inovaca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Inovação é a palavra central no negócio da empresa que produz fios Spandex. O desenvolvimento dos primeiros fios Spandex anunciou um impulso evolutivo no mercado da moda, sendo que as roupas passaram a proporcionar maior desempenho, modelagem e níveis superiores de conforto para o consumidor. A partir daí, novas tecnologias e novos usos para os fios Spandex foram criados e atualmente são inúmeros os usos e os avanços tecnológicos observad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inovação continuará sendo algo de extrema importância no mercado dos fios Spandex, pois é a única maneira de buscar diferenciais que tragam vantagens cada vez mais essenciais ao consumidor final de forma a vencer a concorrência crescent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No mercado em que se insere a empresa produtora dos fios Spandex inovação é essencial, pois o cliente final tem apetite por novidades. Criar produtos diferenciados que estimulem o interesse do consumidor é fundamental para se destacar nesse mercad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66" name="Oval 27"/>
          <p:cNvSpPr/>
          <p:nvPr/>
        </p:nvSpPr>
        <p:spPr>
          <a:xfrm>
            <a:off x="8234280" y="1133640"/>
            <a:ext cx="28584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Rectangle 13"/>
          <p:cNvGrpSpPr/>
          <p:nvPr/>
        </p:nvGrpSpPr>
        <p:grpSpPr>
          <a:xfrm>
            <a:off x="55440" y="858960"/>
            <a:ext cx="5967360" cy="4408200"/>
            <a:chOff x="55440" y="858960"/>
            <a:chExt cx="5967360" cy="4408200"/>
          </a:xfrm>
        </p:grpSpPr>
        <p:pic>
          <p:nvPicPr>
            <p:cNvPr id="169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67360" cy="44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142920" y="928800"/>
              <a:ext cx="5786280" cy="42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12 Ambiente Polit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cenário político atual é estável e favorável ao crescimento de produção da empresa de Spandex. Não existem incertezas quanto aos caminhos políticos do país o que gera tranqüilidade para os empresári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Não há grandes preocupações quanto ao ambiente político futuro. Tudo indica que a estabilidade alcançada não deve ser alterada com a troca de governantes já que o país segue em crescente desenvolviment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estabilidade política é algo importante para que a empresa possa se desenvolver com êxito no país. Com um cenário político sem grandes incertezas, a empresa consegue planejar suas estratégias sem preocupações com grandes mudanças política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1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72" name="Oval 27"/>
          <p:cNvSpPr/>
          <p:nvPr/>
        </p:nvSpPr>
        <p:spPr>
          <a:xfrm>
            <a:off x="8234280" y="1133640"/>
            <a:ext cx="28584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2"/>
          <p:cNvSpPr/>
          <p:nvPr/>
        </p:nvSpPr>
        <p:spPr>
          <a:xfrm>
            <a:off x="334800" y="71280"/>
            <a:ext cx="29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SWOT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285840" y="839880"/>
            <a:ext cx="4205160" cy="269388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  <a:ea typeface="Tahoma"/>
              </a:rPr>
              <a:t>Forç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Marca, tempo de respo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Know how,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Base instalada, tecn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Domínio da cade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4724280" y="839880"/>
            <a:ext cx="4205520" cy="269388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  <a:ea typeface="Tahoma"/>
              </a:rPr>
              <a:t>Fraquez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Concorrer com custo Brasil vs produção com custo Ásia (burocracia, impostos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Custo de manuf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285840" y="3643200"/>
            <a:ext cx="4205160" cy="278604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  <a:ea typeface="Tahoma"/>
              </a:rPr>
              <a:t>Ameaç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Concor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Eco-terrorismo (indústria quím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4724280" y="3643200"/>
            <a:ext cx="4205520" cy="278604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  <a:ea typeface="Tahoma"/>
              </a:rPr>
              <a:t>Oportun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Novas aplic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Forte apelo ecológico (fibra sintética requer menos recursos natura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2"/>
          <p:cNvSpPr/>
          <p:nvPr/>
        </p:nvSpPr>
        <p:spPr>
          <a:xfrm>
            <a:off x="461880" y="71280"/>
            <a:ext cx="53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NME – Commodities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3328920" y="3328920"/>
            <a:ext cx="5743800" cy="3457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Some Clothes Love You Back"/>
          <p:cNvPicPr/>
          <p:nvPr/>
        </p:nvPicPr>
        <p:blipFill>
          <a:blip r:embed="rId3"/>
          <a:stretch/>
        </p:blipFill>
        <p:spPr>
          <a:xfrm>
            <a:off x="71280" y="857160"/>
            <a:ext cx="3235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2"/>
          <p:cNvSpPr/>
          <p:nvPr/>
        </p:nvSpPr>
        <p:spPr>
          <a:xfrm>
            <a:off x="390960" y="71280"/>
            <a:ext cx="29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SWOT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figura 2"/>
          <p:cNvPicPr/>
          <p:nvPr/>
        </p:nvPicPr>
        <p:blipFill>
          <a:blip r:embed="rId1"/>
          <a:srcRect l="0" t="11037" r="0" b="6208"/>
          <a:stretch/>
        </p:blipFill>
        <p:spPr>
          <a:xfrm>
            <a:off x="71280" y="857160"/>
            <a:ext cx="4500720" cy="364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0" name="Rectangle 3"/>
          <p:cNvSpPr/>
          <p:nvPr/>
        </p:nvSpPr>
        <p:spPr>
          <a:xfrm>
            <a:off x="4786200" y="835200"/>
            <a:ext cx="407196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Faz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Controle e otimização do processo quím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Terceiriz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Empacotamento, logística, manutenção mecân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Desativ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Unidades produtivas obsole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Alianç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Tecidos de LYCRA com Nylon e outras fib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Área de m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Desenvol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Processos de trabalho para as áreas funcio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2"/>
          <p:cNvSpPr/>
          <p:nvPr/>
        </p:nvSpPr>
        <p:spPr>
          <a:xfrm>
            <a:off x="209520" y="71280"/>
            <a:ext cx="664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Desempenho e Importânci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nme2.png"/>
          <p:cNvPicPr/>
          <p:nvPr/>
        </p:nvPicPr>
        <p:blipFill>
          <a:blip r:embed="rId2"/>
          <a:stretch/>
        </p:blipFill>
        <p:spPr>
          <a:xfrm>
            <a:off x="0" y="893880"/>
            <a:ext cx="9144000" cy="5821200"/>
          </a:xfrm>
          <a:prstGeom prst="rect">
            <a:avLst/>
          </a:prstGeom>
          <a:ln w="0">
            <a:noFill/>
          </a:ln>
        </p:spPr>
      </p:pic>
      <p:grpSp>
        <p:nvGrpSpPr>
          <p:cNvPr id="183" name="Oval 3"/>
          <p:cNvGrpSpPr/>
          <p:nvPr/>
        </p:nvGrpSpPr>
        <p:grpSpPr>
          <a:xfrm>
            <a:off x="5810400" y="1596960"/>
            <a:ext cx="839520" cy="841320"/>
            <a:chOff x="5810400" y="1596960"/>
            <a:chExt cx="839520" cy="841320"/>
          </a:xfrm>
        </p:grpSpPr>
        <p:pic>
          <p:nvPicPr>
            <p:cNvPr id="184" name="Oval 3" descr=""/>
            <p:cNvPicPr/>
            <p:nvPr/>
          </p:nvPicPr>
          <p:blipFill>
            <a:blip r:embed="rId3"/>
            <a:stretch/>
          </p:blipFill>
          <p:spPr>
            <a:xfrm>
              <a:off x="5810400" y="1596960"/>
              <a:ext cx="8395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5921280" y="170640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Isosceles Triangle 4"/>
          <p:cNvGrpSpPr/>
          <p:nvPr/>
        </p:nvGrpSpPr>
        <p:grpSpPr>
          <a:xfrm>
            <a:off x="5668920" y="3597120"/>
            <a:ext cx="981000" cy="914400"/>
            <a:chOff x="5668920" y="3597120"/>
            <a:chExt cx="981000" cy="914400"/>
          </a:xfrm>
        </p:grpSpPr>
        <p:pic>
          <p:nvPicPr>
            <p:cNvPr id="187" name="Isosceles Triangle 4" descr=""/>
            <p:cNvPicPr/>
            <p:nvPr/>
          </p:nvPicPr>
          <p:blipFill>
            <a:blip r:embed="rId4"/>
            <a:stretch/>
          </p:blipFill>
          <p:spPr>
            <a:xfrm>
              <a:off x="5668920" y="3597120"/>
              <a:ext cx="9810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5857920" y="3894120"/>
              <a:ext cx="28584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Regular Pentagon 5"/>
          <p:cNvGrpSpPr/>
          <p:nvPr/>
        </p:nvGrpSpPr>
        <p:grpSpPr>
          <a:xfrm>
            <a:off x="3376440" y="1663560"/>
            <a:ext cx="987480" cy="987480"/>
            <a:chOff x="3376440" y="1663560"/>
            <a:chExt cx="987480" cy="987480"/>
          </a:xfrm>
        </p:grpSpPr>
        <p:pic>
          <p:nvPicPr>
            <p:cNvPr id="190" name="Regular Pentagon 5" descr=""/>
            <p:cNvPicPr/>
            <p:nvPr/>
          </p:nvPicPr>
          <p:blipFill>
            <a:blip r:embed="rId5"/>
            <a:stretch/>
          </p:blipFill>
          <p:spPr>
            <a:xfrm>
              <a:off x="3376440" y="1663560"/>
              <a:ext cx="98748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3538440" y="1849320"/>
              <a:ext cx="3524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Right Triangle 6"/>
          <p:cNvGrpSpPr/>
          <p:nvPr/>
        </p:nvGrpSpPr>
        <p:grpSpPr>
          <a:xfrm>
            <a:off x="4383000" y="1163520"/>
            <a:ext cx="914400" cy="914400"/>
            <a:chOff x="4383000" y="1163520"/>
            <a:chExt cx="914400" cy="914400"/>
          </a:xfrm>
        </p:grpSpPr>
        <p:pic>
          <p:nvPicPr>
            <p:cNvPr id="193" name="Right Triangle 6" descr=""/>
            <p:cNvPicPr/>
            <p:nvPr/>
          </p:nvPicPr>
          <p:blipFill>
            <a:blip r:embed="rId6"/>
            <a:stretch/>
          </p:blipFill>
          <p:spPr>
            <a:xfrm>
              <a:off x="4383000" y="11635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4470480" y="1506600"/>
              <a:ext cx="2509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Diamond 7"/>
          <p:cNvGrpSpPr/>
          <p:nvPr/>
        </p:nvGrpSpPr>
        <p:grpSpPr>
          <a:xfrm>
            <a:off x="2664000" y="2451240"/>
            <a:ext cx="987120" cy="987120"/>
            <a:chOff x="2664000" y="2451240"/>
            <a:chExt cx="987120" cy="987120"/>
          </a:xfrm>
        </p:grpSpPr>
        <p:pic>
          <p:nvPicPr>
            <p:cNvPr id="196" name="Diamond 7" descr=""/>
            <p:cNvPicPr/>
            <p:nvPr/>
          </p:nvPicPr>
          <p:blipFill>
            <a:blip r:embed="rId7"/>
            <a:stretch/>
          </p:blipFill>
          <p:spPr>
            <a:xfrm>
              <a:off x="2664000" y="2451240"/>
              <a:ext cx="987120" cy="9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2857680" y="2643120"/>
              <a:ext cx="2854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2"/>
          <p:cNvSpPr/>
          <p:nvPr/>
        </p:nvSpPr>
        <p:spPr>
          <a:xfrm>
            <a:off x="272880" y="71280"/>
            <a:ext cx="52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Estratégias e Ações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500040" y="835200"/>
            <a:ext cx="8358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stratégias, Ações Propostas e Resultados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Gest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Diagnostico periodico do desempenho d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ficiencia logi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ficiencia de Operacoes de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Aspectos de Cont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Tecnolo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Busca de novos polím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Desenvolvimento de novas aplic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Uso de Software para Transac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2"/>
          <p:cNvSpPr/>
          <p:nvPr/>
        </p:nvSpPr>
        <p:spPr>
          <a:xfrm>
            <a:off x="272880" y="71280"/>
            <a:ext cx="52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Estratégias e Ações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500040" y="835200"/>
            <a:ext cx="8358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stratégias, Ações Propostas e Resultados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Pesso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strução de Relacion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stimulo ao desenvolvimento pess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Influencia de Outros Se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Setor de E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Setor de M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2"/>
          <p:cNvSpPr/>
          <p:nvPr/>
        </p:nvSpPr>
        <p:spPr>
          <a:xfrm>
            <a:off x="342000" y="71280"/>
            <a:ext cx="450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Gestão - Porter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3321000" y="2638440"/>
            <a:ext cx="2430360" cy="1749240"/>
          </a:xfrm>
          <a:prstGeom prst="rect">
            <a:avLst/>
          </a:prstGeom>
          <a:solidFill>
            <a:srgbClr val="a6a6a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  <a:ea typeface="Tahoma"/>
              </a:rPr>
              <a:t>Empre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Ma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3000240" y="857160"/>
            <a:ext cx="3000600" cy="1530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  <a:ea typeface="Tahoma"/>
              </a:rPr>
              <a:t>Novos Entr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Empresas coreanas se fortalecendo em spa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3159000" y="4786200"/>
            <a:ext cx="2683080" cy="185760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  <a:ea typeface="Tahoma"/>
              </a:rPr>
              <a:t>Produtos Substitu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Fibras natur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Fibras sintéticas de baixo cu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6143760" y="2495520"/>
            <a:ext cx="2857320" cy="196704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  <a:ea typeface="Tahoma"/>
              </a:rPr>
              <a:t>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Novas aplicaçõ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"/>
          <p:cNvSpPr/>
          <p:nvPr/>
        </p:nvSpPr>
        <p:spPr>
          <a:xfrm>
            <a:off x="214200" y="2567160"/>
            <a:ext cx="2714760" cy="207612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  <a:ea typeface="Tahoma"/>
              </a:rPr>
              <a:t>Fornece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Fornecedores INVI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Desenvolvimento de opções aos fornecedores exist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2"/>
          <p:cNvSpPr/>
          <p:nvPr/>
        </p:nvSpPr>
        <p:spPr>
          <a:xfrm>
            <a:off x="334080" y="71280"/>
            <a:ext cx="12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Índ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500040" y="835200"/>
            <a:ext cx="8358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Fatores C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Ambiente Externo (Matriz R vs 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Análise SW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Matriz de Importância vs Desempen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stratégias, Ações Propostas e Resultados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Gest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Tecnolo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Pesso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Influência de Outros Se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2"/>
          <p:cNvSpPr/>
          <p:nvPr/>
        </p:nvSpPr>
        <p:spPr>
          <a:xfrm>
            <a:off x="314640" y="7128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Rote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285840" y="835200"/>
            <a:ext cx="8572320" cy="57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Apresentação da empr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Cenários: contexto atual, cenários atual e futuro, ou seja, a partir do ambiente atual, construir o ambiente futuro do setor e empresa escolh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Fatores Chave – selecionar e priorizar os principais fatores-chaves pela Matriz Importância versus Desempenho, ou seja, avaliar como as mudanças nos fatores-chaves irão afetar o ambiente da empresa escolh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Ambiente Externo, Matriz de Impacto x Grau de Incerte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Análise SWOT – Ameaças e Oportunidades, Pontos Fortes e Fracos, processos essenciais para construir uma vantagem competitiva no novo ambiente fut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Matriz de Importância vs Desempenho - Análise dos g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Estratégias, Ações Propostas e Resultados Esperados – definir uma estratégia para a empresa, propor ações para ajustar Gestão, Tecnologia e Pessoas ao novo Ambiente e descrever os resultados esper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Ges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Tecnolog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Pesso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Influência de Outros Se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2"/>
          <p:cNvSpPr/>
          <p:nvPr/>
        </p:nvSpPr>
        <p:spPr>
          <a:xfrm>
            <a:off x="345960" y="71280"/>
            <a:ext cx="70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ctangle 13"/>
          <p:cNvGrpSpPr/>
          <p:nvPr/>
        </p:nvGrpSpPr>
        <p:grpSpPr>
          <a:xfrm>
            <a:off x="5467320" y="1000080"/>
            <a:ext cx="3695760" cy="3949920"/>
            <a:chOff x="5467320" y="1000080"/>
            <a:chExt cx="3695760" cy="3949920"/>
          </a:xfrm>
        </p:grpSpPr>
        <p:pic>
          <p:nvPicPr>
            <p:cNvPr id="92" name="Rectangle 13" descr=""/>
            <p:cNvPicPr/>
            <p:nvPr/>
          </p:nvPicPr>
          <p:blipFill>
            <a:blip r:embed="rId1"/>
            <a:stretch/>
          </p:blipFill>
          <p:spPr>
            <a:xfrm>
              <a:off x="5467320" y="1000080"/>
              <a:ext cx="3695760" cy="394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572080" y="1071720"/>
              <a:ext cx="3500640" cy="37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1 Cli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2 Logíst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3 Cus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4 Mercado Extern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5 Hábitos do Consumid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6 Econom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7 Poder de Barganh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8 Preocupação Ambien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9 Qualida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10 Concorrênc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11 Inovaç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12 Ambiente Polít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22320" y="1000080"/>
            <a:ext cx="5478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Rectangle 13"/>
          <p:cNvGrpSpPr/>
          <p:nvPr/>
        </p:nvGrpSpPr>
        <p:grpSpPr>
          <a:xfrm>
            <a:off x="55440" y="895320"/>
            <a:ext cx="6010560" cy="4915440"/>
            <a:chOff x="55440" y="895320"/>
            <a:chExt cx="6010560" cy="4915440"/>
          </a:xfrm>
        </p:grpSpPr>
        <p:pic>
          <p:nvPicPr>
            <p:cNvPr id="97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95320"/>
              <a:ext cx="6010560" cy="46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42920" y="966960"/>
              <a:ext cx="5786280" cy="484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1 Cli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empresa fabricante do fio Spandex conquistou uma cliental fiel, que da valor a qualidade e ao conforto proporcionados pelos tecidos em que o fio eh utilizado. Muitos consumidores estao dispostos a pagar mais pela roupa por ter certeza da qualidade e durabilidade da mesma.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s inovacoes continuam acontecendo e o valor agregado as roupas com tecidos tecnologicos eh cada vez maior. A empresa em questao trabalha com intuito de inovar e criar tecnologias que beneficiem o consumidor fina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fio Spandex vem sendo utilizado de uma maneira cada vez mais abrangente e sendo explorado em situações que com exigências específicas, cada vez maiores, principalmente no setor esportivo. Isso demanda uma dinâmica no desenvolvimento de novos produtos, e de produtos com características específicas que trazem um grande desafio de pesquisa e desenvolvimento, além de um ciclo de vida mais curto para os produt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00" name="Oval 27"/>
          <p:cNvSpPr/>
          <p:nvPr/>
        </p:nvSpPr>
        <p:spPr>
          <a:xfrm>
            <a:off x="7346880" y="1535040"/>
            <a:ext cx="285840" cy="28584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3"/>
          <p:cNvGrpSpPr/>
          <p:nvPr/>
        </p:nvGrpSpPr>
        <p:grpSpPr>
          <a:xfrm>
            <a:off x="55440" y="858960"/>
            <a:ext cx="5980320" cy="3762360"/>
            <a:chOff x="55440" y="858960"/>
            <a:chExt cx="5980320" cy="3762360"/>
          </a:xfrm>
        </p:grpSpPr>
        <p:pic>
          <p:nvPicPr>
            <p:cNvPr id="103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80320" cy="37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42920" y="928800"/>
              <a:ext cx="5786280" cy="35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2 Logís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fornecimento local de Spandex é primariamente pela unidade produtiva local, enquanto que a concorrência importa o fio da Ásia.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Possibilidade de instalação de unidades produtivas locais pela concorrência, para facilitar a parte logística.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maior concorrência do fio Spandex é do mercado asiático, que tem uma mão-de-obra mais barata. Para produtos com embalagem retornável, há uma grande desvantagem competitiva em relação ao produto local. Outra desvantagem é o tempo para atendimento ao cliente, sem correr o risco de excesso de estoqu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06" name="Oval 27"/>
          <p:cNvSpPr/>
          <p:nvPr/>
        </p:nvSpPr>
        <p:spPr>
          <a:xfrm>
            <a:off x="6585120" y="1281240"/>
            <a:ext cx="28548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Rectangle 13"/>
          <p:cNvGrpSpPr/>
          <p:nvPr/>
        </p:nvGrpSpPr>
        <p:grpSpPr>
          <a:xfrm>
            <a:off x="55440" y="858960"/>
            <a:ext cx="5967360" cy="3762360"/>
            <a:chOff x="55440" y="858960"/>
            <a:chExt cx="5967360" cy="3762360"/>
          </a:xfrm>
        </p:grpSpPr>
        <p:pic>
          <p:nvPicPr>
            <p:cNvPr id="109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67360" cy="37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42920" y="928800"/>
              <a:ext cx="5786280" cy="35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3 Cu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fio Spandex apresenta uma qualidade e nível de serviços superiores, que suportam um premium price.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Uma eventual iniciativa da concorrência, de reforçara a área de tecnologia, pode provocar uma concorrência mais agressiva na área de produtos mais nobres. 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Por ser um produto commodity, o custo é um item fundamental e, além do local de produção, com seus custos de logísticas e de mão-de-obra associados, pode ter também fatores tributários e de custo de energia que podem ter um alto impact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12" name="Oval 27"/>
          <p:cNvSpPr/>
          <p:nvPr/>
        </p:nvSpPr>
        <p:spPr>
          <a:xfrm>
            <a:off x="6394320" y="1123920"/>
            <a:ext cx="285840" cy="28584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Rectangle 13"/>
          <p:cNvGrpSpPr/>
          <p:nvPr/>
        </p:nvGrpSpPr>
        <p:grpSpPr>
          <a:xfrm>
            <a:off x="55440" y="858960"/>
            <a:ext cx="5967360" cy="3547800"/>
            <a:chOff x="55440" y="858960"/>
            <a:chExt cx="5967360" cy="3547800"/>
          </a:xfrm>
        </p:grpSpPr>
        <p:pic>
          <p:nvPicPr>
            <p:cNvPr id="115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67360" cy="35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142920" y="928800"/>
              <a:ext cx="5786280" cy="33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4 Mercado Exter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fio Spandex é um produto de classe mundial, com uma base de unidades produtivas e de consumo nos cinco continentes, enquanto a concorrência está fixada primariamente na Ásia.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unidade produtiva brasileira já exporta, como parte da teia de unidades produtivas globais, e pode ser uma unidade chave de fornecimento global caso tenha um aumento significativo de escala. 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mercado externo sofreu  uma retração e vem se recuperando, mas menos que o mercado intern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18" name="Oval 27"/>
          <p:cNvSpPr/>
          <p:nvPr/>
        </p:nvSpPr>
        <p:spPr>
          <a:xfrm>
            <a:off x="8234280" y="1133640"/>
            <a:ext cx="28584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1:37:09Z</dcterms:created>
  <dc:creator>cuinm</dc:creator>
  <dc:description/>
  <dc:language>en-US</dc:language>
  <cp:lastModifiedBy>cintia_arten</cp:lastModifiedBy>
  <dcterms:modified xsi:type="dcterms:W3CDTF">2010-04-08T20:27:03Z</dcterms:modified>
  <cp:revision>65</cp:revision>
  <dc:subject/>
  <dc:title>Slide 1</dc:title>
</cp:coreProperties>
</file>