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EBF-7F45-4FC0-B89C-EC91EF7B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36D-F01D-4D5A-9819-E1578CD4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3B7-D5B0-411C-BF95-3C4AC75E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9FE-D5F7-4776-A8F7-5009EA16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600-72B1-46A3-9DD0-D2CFA2FC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518-0789-4C59-8D99-3976ACD7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90C-4A15-47DD-B072-4F315751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1F1-60A3-4473-BC03-57F6F1A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599-41D5-453C-9F4B-2310E03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C89-CC91-4483-A1DB-8B2BE7E8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7F4-F555-41E4-A323-6E6745A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10A-9A60-48D0-925D-38BA2C62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6E6E-304E-461B-BBD1-98F8CE0F6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a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ca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c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i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7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83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84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7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90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93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6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o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co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c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e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42000" y="7128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Gestão - Porter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321000" y="2638440"/>
            <a:ext cx="2430360" cy="174924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000240" y="857160"/>
            <a:ext cx="3000600" cy="1530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ovos Ent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Empresas coreanas se fortalecendo em spa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59000" y="4786200"/>
            <a:ext cx="2683080" cy="1857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Produtos Substit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na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sintéticas de baixo c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143760" y="2495520"/>
            <a:ext cx="2857320" cy="1967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14200" y="2567160"/>
            <a:ext cx="2714760" cy="20761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necedores IN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Desenvolvimento de opções aos fornecedore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intia_arten</cp:lastModifiedBy>
  <dcterms:modified xsi:type="dcterms:W3CDTF">2010-04-08T20:27:03Z</dcterms:modified>
  <cp:revision>65</cp:revision>
  <dc:subject/>
  <dc:title>Slide 1</dc:title>
</cp:coreProperties>
</file>