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B21-3C87-4430-8ABD-52D9792D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80E-22CB-4A3B-BE4A-8B1E349B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112-B236-462A-A07A-710E7588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9D9-DDDE-4113-B8ED-729F8F71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7B1-17A6-4CA0-A541-05C98F40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DFE-BEBE-4B29-8C6F-599A08A1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DC2-C595-4670-8B22-2FB5F4C2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DCD-7722-4023-B535-F899B7C4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4BC-CA65-4278-8858-52CA34B1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AB9-08C2-4A91-93FB-5760484B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C4D-E7B0-4A03-95DB-F00B8746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DCF-37AC-41D2-AB39-EEF31B69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C324-711D-49A6-8563-85A2E012A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7093080" y="1700280"/>
            <a:ext cx="28548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172360" y="155736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6443640" y="170028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6877080" y="177336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680400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766764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7308720" y="907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6372360" y="191628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77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78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1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84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87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0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ó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çõ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esultado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pe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r valor a longo-prazo para seus cl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ervação dos recursos natur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emissõ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ar a utilidade e durabilidade dos seus prod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escimento através de aquisições e da expansão dos seus negócios pelo mu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ustos de transporte e armazen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o giro de 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apital de giro (estoques), liberando para investimento no cresc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as marge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risco e aumento da governança corporativa e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ximização dos preços de ven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tempo entre pedido e entr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ministrativos da oper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wwm017</cp:lastModifiedBy>
  <dcterms:modified xsi:type="dcterms:W3CDTF">2010-04-15T00:28:54Z</dcterms:modified>
  <cp:revision>69</cp:revision>
  <dc:subject/>
  <dc:title>Slide 1</dc:title>
</cp:coreProperties>
</file>