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6CF-BFE0-4A2D-AFC1-979AE406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77B-043E-4AC7-A947-AB27F4A2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4F66-301C-4D1E-A60A-4A31C37A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7BE5-38AC-4860-B8F5-3C4EB375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C00-9538-4C57-8FBB-CA0FDB90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ECF-31F1-4E54-BD6F-889DCB95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41D-5BEB-4005-9B8A-4AC38F51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E43-D395-456E-B6FE-2B328814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10C7-3692-4E2A-936F-1CF95CD9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68E-05FE-4689-A4C9-47E872E0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8C6-AE09-4B66-8233-C20B154A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0B0-BC78-4459-ADC9-313B780E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5C2C-636F-464E-9682-DB1E501E0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27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6656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786720" y="4729680"/>
            <a:ext cx="203508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7960" rIns="0" tIns="47520" bIns="0" anchor="ctr">
            <a:spAutoFit/>
          </a:bodyPr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intia 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Wesley M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Mario Cu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Emilio Torm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Ramom M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http://www.bionauta.com/biorefinery.jpg"/>
          <p:cNvPicPr/>
          <p:nvPr/>
        </p:nvPicPr>
        <p:blipFill>
          <a:blip r:embed="rId2"/>
          <a:stretch/>
        </p:blipFill>
        <p:spPr>
          <a:xfrm>
            <a:off x="7572240" y="100008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Rectangle 13"/>
          <p:cNvGrpSpPr/>
          <p:nvPr/>
        </p:nvGrpSpPr>
        <p:grpSpPr>
          <a:xfrm>
            <a:off x="55440" y="858960"/>
            <a:ext cx="5967360" cy="4620960"/>
            <a:chOff x="55440" y="858960"/>
            <a:chExt cx="5967360" cy="4620960"/>
          </a:xfrm>
        </p:grpSpPr>
        <p:pic>
          <p:nvPicPr>
            <p:cNvPr id="12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6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42920" y="928800"/>
              <a:ext cx="5786280" cy="44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onsumidor final dos fios Spandex busca o conforto ao vestir as pecas de roupas produzidas com os mesmos, tanto em roupas para a pratica de esportes como nas roupas para o uso diario. Essa preocupacao com o conforto assim como com a qualidade eh cada vez mais comu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idor final exija cada vez mais conforto e tecnologia em suas roupas, o que torna necessária a constante inovação nas formas de uso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s fios Spandex têm como diferencial a elasticidade o que confere maior conforto às roupas produzidas com o mesmo. Atualmente novas tecnologias e formas de uso dos fios surgem para melhorar cada vez mais a tecnologia das roupas visando o maior conforto para o consumidor final que é cada vez mais exig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24" name="Oval 27"/>
          <p:cNvSpPr/>
          <p:nvPr/>
        </p:nvSpPr>
        <p:spPr>
          <a:xfrm>
            <a:off x="7093080" y="1700280"/>
            <a:ext cx="28548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13"/>
          <p:cNvGrpSpPr/>
          <p:nvPr/>
        </p:nvGrpSpPr>
        <p:grpSpPr>
          <a:xfrm>
            <a:off x="55440" y="858960"/>
            <a:ext cx="5980320" cy="4408200"/>
            <a:chOff x="55440" y="858960"/>
            <a:chExt cx="5980320" cy="4408200"/>
          </a:xfrm>
        </p:grpSpPr>
        <p:pic>
          <p:nvPicPr>
            <p:cNvPr id="12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vendas dos fios Spandex cresceram no ano de 2009 e esse cenário tende a continuar em 2010, pois o consumidor final associa as marcas que usam o fio Spandex a produtos de qualidade, conforto e durabilida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endência é que o consumo mundial de roupas aumente juntamente com as taxas de crescimento da população, assim como aumenta a exigência de conforto e qualidade dos consumidores finais. Sendo assim, a perspectiva é que as vendas cresçam nos próximos anos e o cenário econômico seja favoráve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conomia global se recuperou e o consumo voltou a crescer no mundo, sendo esse um cenário favorável para as vendas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0" name="Oval 27"/>
          <p:cNvSpPr/>
          <p:nvPr/>
        </p:nvSpPr>
        <p:spPr>
          <a:xfrm>
            <a:off x="8172360" y="155736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Rectangle 13"/>
          <p:cNvGrpSpPr/>
          <p:nvPr/>
        </p:nvGrpSpPr>
        <p:grpSpPr>
          <a:xfrm>
            <a:off x="55440" y="858960"/>
            <a:ext cx="5980320" cy="4061160"/>
            <a:chOff x="55440" y="858960"/>
            <a:chExt cx="5980320" cy="4061160"/>
          </a:xfrm>
        </p:grpSpPr>
        <p:pic>
          <p:nvPicPr>
            <p:cNvPr id="13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42920" y="928800"/>
              <a:ext cx="5786280" cy="39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poder de barganha das marcas que se utilizam dos fios Spandex é grande pois essas são muito fortes e possuem tradição de muitos anos, tendo alcançado um patamar alto de admiração pel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magem construída pelas marcas deve melhorar ainda mais no futuro com a associação às novas tecnologias cada vez mais modernas de fios, o que ajuda a manter o alto poder de barganha que essas marcas têm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tradição e o respeito associados às marcas que se utilizam dos fios Spandex faz com que as mesmas tenham um grande poder de barganha no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36" name="Oval 27"/>
          <p:cNvSpPr/>
          <p:nvPr/>
        </p:nvSpPr>
        <p:spPr>
          <a:xfrm>
            <a:off x="6443640" y="170028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Rectangle 13"/>
          <p:cNvGrpSpPr/>
          <p:nvPr/>
        </p:nvGrpSpPr>
        <p:grpSpPr>
          <a:xfrm>
            <a:off x="55440" y="858960"/>
            <a:ext cx="5967360" cy="5054400"/>
            <a:chOff x="55440" y="858960"/>
            <a:chExt cx="5967360" cy="5054400"/>
          </a:xfrm>
        </p:grpSpPr>
        <p:pic>
          <p:nvPicPr>
            <p:cNvPr id="13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50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42920" y="92880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com a preservação do meio ambiente pela empresa produtora dos fios Spandex. A criação de valor sustentável é realizada através da excelência em meio-ambiente, saúde e segurança buscando formas para conservar os recursos, reduzir as emissões e criar utilidade e durabilidade d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Tendo a preocupação ambiental, a empresa ira procurar formas custo-efetivas para reduzir ainda mais as emissões de poluentes no ar e na água, assim como melhorar a eficiência energética e desenvolver tecnologias inovadoras que possam resultar na redução das emissões de carbo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cenário atual, as empresas que não demonstram ter uma preocupação com o meio-ambiente acabam perdendo o respeito de seus consumidores e mais futuramente podem ver seus recursos desaparecerem pelo uso desenfreado e não sustentável dos mesm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2" name="Oval 27"/>
          <p:cNvSpPr/>
          <p:nvPr/>
        </p:nvSpPr>
        <p:spPr>
          <a:xfrm>
            <a:off x="6877080" y="177336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ectangle 13"/>
          <p:cNvGrpSpPr/>
          <p:nvPr/>
        </p:nvGrpSpPr>
        <p:grpSpPr>
          <a:xfrm>
            <a:off x="55440" y="858960"/>
            <a:ext cx="6004080" cy="4408200"/>
            <a:chOff x="55440" y="858960"/>
            <a:chExt cx="6004080" cy="4408200"/>
          </a:xfrm>
        </p:grpSpPr>
        <p:pic>
          <p:nvPicPr>
            <p:cNvPr id="14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reocupação com a qualidade do produto faz parte da filosofia da empresa produtora do fio Spandex. Devido a esta atenção especial dada à qualidade, o fio Spandex se tornou popular e sua imagem passou a ser associada ao alto padrão de qualidad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 As exigências de qualidade pelo consumidor final crescem ano após ano, portanto, a empresa devem continuar com a preocupação em produzir um fio de qualidade cada vez mai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 dos grandes diferenciais dos fios Spandex é sua qualidade. Essa preocupação com a qualidade do produto ocorre desde o surgimento do mesmo, sendo um grande diferencial perante seus concorrentes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48" name="Oval 27"/>
          <p:cNvSpPr/>
          <p:nvPr/>
        </p:nvSpPr>
        <p:spPr>
          <a:xfrm>
            <a:off x="6804000" y="98100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Rectangle 13"/>
          <p:cNvGrpSpPr/>
          <p:nvPr/>
        </p:nvGrpSpPr>
        <p:grpSpPr>
          <a:xfrm>
            <a:off x="55440" y="858960"/>
            <a:ext cx="5997600" cy="5553000"/>
            <a:chOff x="55440" y="858960"/>
            <a:chExt cx="5997600" cy="5553000"/>
          </a:xfrm>
        </p:grpSpPr>
        <p:pic>
          <p:nvPicPr>
            <p:cNvPr id="151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9760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42920" y="928800"/>
              <a:ext cx="5786280" cy="54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Existe uma grande preocupação quanto à concorrência principalmente dos produtos chineses. Esses produtos, muitas vezes com custos menores, não apresentam o mesmo padrão de qualidade e nem a confiabilidade dos fios Spandex, porém, suas vendas têm aumentado o que os torna concorrentes cada vez mais dire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Com o crescimento do consumo mundial e da China, esses concorrentes tendem a ser cada vez mais presentes no mercado. A qualidade de seus produtos tende a melhorar com o aperfeiçoamento tecnológico, e, por isso, deve-se criar maneiras inovadoras de diferenciação dos produtos que utilizam o fio Spandex de forma a não perder mercado para o produto chinês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população mundial crescente e o desenvolvimento da China fazem com que concorrentes surjam no mercado têxtil. Com uma demanda cada vez maior, as novas empresas tentam alcançar o padrão de qualidade já adquirido através dos anos pela empresa produtora dos fios Spandex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54" name="Oval 27"/>
          <p:cNvSpPr/>
          <p:nvPr/>
        </p:nvSpPr>
        <p:spPr>
          <a:xfrm>
            <a:off x="7667640" y="98100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Rectangle 13"/>
          <p:cNvGrpSpPr/>
          <p:nvPr/>
        </p:nvGrpSpPr>
        <p:grpSpPr>
          <a:xfrm>
            <a:off x="55440" y="858960"/>
            <a:ext cx="6004080" cy="5486400"/>
            <a:chOff x="55440" y="858960"/>
            <a:chExt cx="6004080" cy="5486400"/>
          </a:xfrm>
        </p:grpSpPr>
        <p:pic>
          <p:nvPicPr>
            <p:cNvPr id="15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600408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42920" y="928800"/>
              <a:ext cx="5786280" cy="52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Inovação é a palavra central no negócio da empresa que produz fios Spandex. O desenvolvimento dos primeiros fios Spandex anunciou um impulso evolutivo no mercado da moda, sendo que as roupas passaram a proporcionar maior desempenho, modelagem e níveis superiores de conforto para o consumidor. A partir daí, novas tecnologias e novos usos para os fios Spandex foram criados e atualmente são inúmeros os usos e os avanços tecnológicos observad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inovação continuará sendo algo de extrema importância no mercado dos fios Spandex, pois é a única maneira de buscar diferenciais que tragam vantagens cada vez mais essenciais ao consumidor final de forma a vencer a concorrência cresc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o mercado em que se insere a empresa produtora dos fios Spandex inovação é essencial, pois o cliente final tem apetite por novidades. Criar produtos diferenciados que estimulem o interesse do consumidor é fundamental para se destacar nesse merc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Oval 27"/>
          <p:cNvSpPr/>
          <p:nvPr/>
        </p:nvSpPr>
        <p:spPr>
          <a:xfrm>
            <a:off x="7308720" y="90792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Rectangle 13"/>
          <p:cNvGrpSpPr/>
          <p:nvPr/>
        </p:nvGrpSpPr>
        <p:grpSpPr>
          <a:xfrm>
            <a:off x="55440" y="858960"/>
            <a:ext cx="5967360" cy="4408200"/>
            <a:chOff x="55440" y="858960"/>
            <a:chExt cx="5967360" cy="4408200"/>
          </a:xfrm>
        </p:grpSpPr>
        <p:pic>
          <p:nvPicPr>
            <p:cNvPr id="16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44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42920" y="928800"/>
              <a:ext cx="5786280" cy="42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cenário político atual é estável e favorável ao crescimento de produção da empresa de Spandex. Não existem incertezas quanto aos caminhos políticos do país o que gera tranqüilidade para os empresári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Não há grandes preocupações quanto ao ambiente político futuro. Tudo indica que a estabilidade alcançada não deve ser alterada com a troca de governantes já que o país segue em crescente desenvolvimen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stabilidade política é algo importante para que a empresa possa se desenvolver com êxito no país. Com um cenário político sem grandes incertezas, a empresa consegue planejar suas estratégias sem preocupações com grandes mudanças polít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Oval 27"/>
          <p:cNvSpPr/>
          <p:nvPr/>
        </p:nvSpPr>
        <p:spPr>
          <a:xfrm>
            <a:off x="6372360" y="1916280"/>
            <a:ext cx="28548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"/>
          <p:cNvSpPr/>
          <p:nvPr/>
        </p:nvSpPr>
        <p:spPr>
          <a:xfrm>
            <a:off x="33480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85840" y="839880"/>
            <a:ext cx="420516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or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Marca, tempo de res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Know how,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Base instalada, tecn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Domínio da cade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724280" y="839880"/>
            <a:ext cx="4205520" cy="269388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Fraquez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r com custo Brasil vs produção com custo Ásia (burocracia, imposto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usto de manuf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85840" y="3643200"/>
            <a:ext cx="420516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Amea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Concor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Eco-terrorismo (indústria quím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724280" y="3643200"/>
            <a:ext cx="4205520" cy="278604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  <a:ea typeface="Tahoma"/>
              </a:rPr>
              <a:t>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Novas apl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ahoma"/>
              </a:rPr>
              <a:t>Forte apelo ecológico (fibra sintética requer menos recursos natura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390960" y="7128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SWOT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figura 2"/>
          <p:cNvPicPr/>
          <p:nvPr/>
        </p:nvPicPr>
        <p:blipFill>
          <a:blip r:embed="rId1"/>
          <a:srcRect l="0" t="11037" r="0" b="6208"/>
          <a:stretch/>
        </p:blipFill>
        <p:spPr>
          <a:xfrm>
            <a:off x="71280" y="857160"/>
            <a:ext cx="4500720" cy="364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4" name="Rectangle 3"/>
          <p:cNvSpPr/>
          <p:nvPr/>
        </p:nvSpPr>
        <p:spPr>
          <a:xfrm>
            <a:off x="4786200" y="835200"/>
            <a:ext cx="407196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ontrole e otimização do processo quím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rceiriz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mpacotamento, logística, manutenção mecâ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ativ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Unidades produtivas obsol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lianç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idos de LYCRA com Nylon e outras fi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Área de m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Desenvol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rocessos de trabalho para as áreas funcio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334080" y="7128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Ín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Fatores C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 (Matriz R vs 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nálise SW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209520" y="71280"/>
            <a:ext cx="664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Desempenho e Importânci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nme2.png"/>
          <p:cNvPicPr/>
          <p:nvPr/>
        </p:nvPicPr>
        <p:blipFill>
          <a:blip r:embed="rId2"/>
          <a:stretch/>
        </p:blipFill>
        <p:spPr>
          <a:xfrm>
            <a:off x="0" y="893880"/>
            <a:ext cx="9144000" cy="5821200"/>
          </a:xfrm>
          <a:prstGeom prst="rect">
            <a:avLst/>
          </a:prstGeom>
          <a:ln w="0">
            <a:noFill/>
          </a:ln>
        </p:spPr>
      </p:pic>
      <p:grpSp>
        <p:nvGrpSpPr>
          <p:cNvPr id="177" name="Oval 3"/>
          <p:cNvGrpSpPr/>
          <p:nvPr/>
        </p:nvGrpSpPr>
        <p:grpSpPr>
          <a:xfrm>
            <a:off x="5810400" y="1596960"/>
            <a:ext cx="839520" cy="841320"/>
            <a:chOff x="5810400" y="1596960"/>
            <a:chExt cx="839520" cy="841320"/>
          </a:xfrm>
        </p:grpSpPr>
        <p:pic>
          <p:nvPicPr>
            <p:cNvPr id="178" name="Oval 3" descr=""/>
            <p:cNvPicPr/>
            <p:nvPr/>
          </p:nvPicPr>
          <p:blipFill>
            <a:blip r:embed="rId3"/>
            <a:stretch/>
          </p:blipFill>
          <p:spPr>
            <a:xfrm>
              <a:off x="5810400" y="1596960"/>
              <a:ext cx="839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921280" y="170640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Isosceles Triangle 4"/>
          <p:cNvGrpSpPr/>
          <p:nvPr/>
        </p:nvGrpSpPr>
        <p:grpSpPr>
          <a:xfrm>
            <a:off x="5668920" y="3597120"/>
            <a:ext cx="981000" cy="914400"/>
            <a:chOff x="5668920" y="3597120"/>
            <a:chExt cx="981000" cy="914400"/>
          </a:xfrm>
        </p:grpSpPr>
        <p:pic>
          <p:nvPicPr>
            <p:cNvPr id="181" name="Isosceles Triangle 4" descr=""/>
            <p:cNvPicPr/>
            <p:nvPr/>
          </p:nvPicPr>
          <p:blipFill>
            <a:blip r:embed="rId4"/>
            <a:stretch/>
          </p:blipFill>
          <p:spPr>
            <a:xfrm>
              <a:off x="5668920" y="3597120"/>
              <a:ext cx="981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857920" y="3894120"/>
              <a:ext cx="285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Regular Pentagon 5"/>
          <p:cNvGrpSpPr/>
          <p:nvPr/>
        </p:nvGrpSpPr>
        <p:grpSpPr>
          <a:xfrm>
            <a:off x="3376440" y="1663560"/>
            <a:ext cx="987480" cy="987480"/>
            <a:chOff x="3376440" y="1663560"/>
            <a:chExt cx="987480" cy="987480"/>
          </a:xfrm>
        </p:grpSpPr>
        <p:pic>
          <p:nvPicPr>
            <p:cNvPr id="184" name="Regular Pentagon 5" descr=""/>
            <p:cNvPicPr/>
            <p:nvPr/>
          </p:nvPicPr>
          <p:blipFill>
            <a:blip r:embed="rId5"/>
            <a:stretch/>
          </p:blipFill>
          <p:spPr>
            <a:xfrm>
              <a:off x="3376440" y="1663560"/>
              <a:ext cx="9874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3538440" y="1849320"/>
              <a:ext cx="3524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Right Triangle 6"/>
          <p:cNvGrpSpPr/>
          <p:nvPr/>
        </p:nvGrpSpPr>
        <p:grpSpPr>
          <a:xfrm>
            <a:off x="4383000" y="1163520"/>
            <a:ext cx="914400" cy="914400"/>
            <a:chOff x="4383000" y="1163520"/>
            <a:chExt cx="914400" cy="914400"/>
          </a:xfrm>
        </p:grpSpPr>
        <p:pic>
          <p:nvPicPr>
            <p:cNvPr id="187" name="Right Triangle 6" descr=""/>
            <p:cNvPicPr/>
            <p:nvPr/>
          </p:nvPicPr>
          <p:blipFill>
            <a:blip r:embed="rId6"/>
            <a:stretch/>
          </p:blipFill>
          <p:spPr>
            <a:xfrm>
              <a:off x="4383000" y="11635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470480" y="1506600"/>
              <a:ext cx="2509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Diamond 7"/>
          <p:cNvGrpSpPr/>
          <p:nvPr/>
        </p:nvGrpSpPr>
        <p:grpSpPr>
          <a:xfrm>
            <a:off x="2664000" y="2451240"/>
            <a:ext cx="987120" cy="987120"/>
            <a:chOff x="2664000" y="2451240"/>
            <a:chExt cx="987120" cy="987120"/>
          </a:xfrm>
        </p:grpSpPr>
        <p:pic>
          <p:nvPicPr>
            <p:cNvPr id="190" name="Diamond 7" descr=""/>
            <p:cNvPicPr/>
            <p:nvPr/>
          </p:nvPicPr>
          <p:blipFill>
            <a:blip r:embed="rId7"/>
            <a:stretch/>
          </p:blipFill>
          <p:spPr>
            <a:xfrm>
              <a:off x="2664000" y="2451240"/>
              <a:ext cx="98712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857680" y="2643120"/>
              <a:ext cx="2854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iagnóstico periodico do desempenho d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logi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ficiencia de Operações de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Aspectos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Busca de novos polí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Desenvolvimento de novas aplic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Uso de Software para Trans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2"/>
          <p:cNvSpPr/>
          <p:nvPr/>
        </p:nvSpPr>
        <p:spPr>
          <a:xfrm>
            <a:off x="272880" y="71280"/>
            <a:ext cx="52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tratégias e Açõ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500040" y="835200"/>
            <a:ext cx="8358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trução de Relacio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Estimulo ao desenvolvimento pess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64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E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ahoma"/>
              </a:rPr>
              <a:t>Setor de 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Resultados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Esper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riar valor a longo-prazo para seus clien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nservação dos recursos natura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emissõ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ar a utilidade e durabilidade dos seus produ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rescimento através de aquisições e da expansão dos seus negócios pelo mun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custos de transporte e armazenag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o do giro de 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capital de giro (estoques), liberando para investimento no crescim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mento das marge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risco e aumento da governança corporativa e compli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maximização dos preços de vend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redução de tempo entre pedido e entre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dministrativos da operaçã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314640" y="7128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Ro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5840" y="835200"/>
            <a:ext cx="8572320" cy="57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presentação d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Cenários: contexto atual, cenários atual e futuro, ou seja, a partir do ambiente atual, construir o ambiente futuro do setor e empresa escolh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Fatores Chave – selecionar e priorizar os principais fatores-chaves pela Matriz Importância versus Desempenho, ou seja, avaliar como as mudanças nos fatores-chaves irão afetar o ambiente da empresa escolh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mbiente Externo, Matriz de Impacto x Grau de Incert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Análise SWOT – Ameaças e Oportunidades, Pontos Fortes e Fracos, processos essenciais para construir uma vantagem competitiva no novo ambiente fut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Matriz de Importância vs Desempenho - Análise dos g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Estratégias, Ações Propostas e Resultados Esperados – definir uma estratégia para a empresa, propor ações para ajustar Gestão, Tecnologia e Pessoas ao novo Ambiente e descrever os resultados esper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Ges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Tecnolo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3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esso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Influência de Outros Se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461880" y="71280"/>
            <a:ext cx="53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NME – Commodities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3328920" y="3328920"/>
            <a:ext cx="5743800" cy="3457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Some Clothes Love You Back"/>
          <p:cNvPicPr/>
          <p:nvPr/>
        </p:nvPicPr>
        <p:blipFill>
          <a:blip r:embed="rId3"/>
          <a:stretch/>
        </p:blipFill>
        <p:spPr>
          <a:xfrm>
            <a:off x="71280" y="857160"/>
            <a:ext cx="3235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345960" y="71280"/>
            <a:ext cx="70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ectangle 13"/>
          <p:cNvGrpSpPr/>
          <p:nvPr/>
        </p:nvGrpSpPr>
        <p:grpSpPr>
          <a:xfrm>
            <a:off x="5467320" y="1000080"/>
            <a:ext cx="3695760" cy="3949920"/>
            <a:chOff x="5467320" y="1000080"/>
            <a:chExt cx="3695760" cy="3949920"/>
          </a:xfrm>
        </p:grpSpPr>
        <p:pic>
          <p:nvPicPr>
            <p:cNvPr id="92" name="Rectangle 13" descr=""/>
            <p:cNvPicPr/>
            <p:nvPr/>
          </p:nvPicPr>
          <p:blipFill>
            <a:blip r:embed="rId1"/>
            <a:stretch/>
          </p:blipFill>
          <p:spPr>
            <a:xfrm>
              <a:off x="5467320" y="1000080"/>
              <a:ext cx="369576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572080" y="1071720"/>
              <a:ext cx="350064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5 Hábitos do Consumid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6 Econom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7 Poder de Barganh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8 Preocupação Ambi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9 Qualid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0 Concorrê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1 Inov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alibri"/>
                </a:rPr>
                <a:t>12 Ambiente Polí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22320" y="1000080"/>
            <a:ext cx="547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ectangle 13"/>
          <p:cNvGrpSpPr/>
          <p:nvPr/>
        </p:nvGrpSpPr>
        <p:grpSpPr>
          <a:xfrm>
            <a:off x="55440" y="895320"/>
            <a:ext cx="6010560" cy="4915440"/>
            <a:chOff x="55440" y="895320"/>
            <a:chExt cx="6010560" cy="4915440"/>
          </a:xfrm>
        </p:grpSpPr>
        <p:pic>
          <p:nvPicPr>
            <p:cNvPr id="97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95320"/>
              <a:ext cx="601056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42920" y="966960"/>
              <a:ext cx="5786280" cy="484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1 Cli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empresa fabricante do fio Spandex conquistou uma cliental fiel, que da valor a qualidade e ao conforto proporcionados pelos tecidos em que o fio eh utilizado. Muitos consumidores estao dispostos a pagar mais pela roupa por ter certeza da qualidade e durabilidade da mesm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s inovacoes continuam acontecendo e o valor agregado as roupas com tecidos tecnologicos eh cada vez maior. A empresa em questao trabalha com intuito de inovar e criar tecnologias que beneficiem o consumidor fin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vem sendo utilizado de uma maneira cada vez mais abrangente e sendo explorado em situações que com exigências específicas, cada vez maiores, principalmente no setor esportivo. Isso demanda uma dinâmica no desenvolvimento de novos produtos, e de produtos com características específicas que trazem um grande desafio de pesquisa e desenvolvimento, além de um ciclo de vida mais curto para os produt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0" name="Oval 27"/>
          <p:cNvSpPr/>
          <p:nvPr/>
        </p:nvSpPr>
        <p:spPr>
          <a:xfrm>
            <a:off x="7346880" y="153504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3"/>
          <p:cNvGrpSpPr/>
          <p:nvPr/>
        </p:nvGrpSpPr>
        <p:grpSpPr>
          <a:xfrm>
            <a:off x="55440" y="858960"/>
            <a:ext cx="5980320" cy="3762360"/>
            <a:chOff x="55440" y="858960"/>
            <a:chExt cx="5980320" cy="3762360"/>
          </a:xfrm>
        </p:grpSpPr>
        <p:pic>
          <p:nvPicPr>
            <p:cNvPr id="103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8032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2 Logís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ornecimento local de Spandex é primariamente pela unidade produtiva local, enquanto que a concorrência importa o fio d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ssibilidade de instalação de unidades produtivas locais pela concorrência, para facilitar a parte logístic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maior concorrência do fio Spandex é do mercado asiático, que tem uma mão-de-obra mais barata. Para produtos com embalagem retornável, há uma grande desvantagem competitiva em relação ao produto local. Outra desvantagem é o tempo para atendimento ao cliente, sem correr o risco de excesso de estoqu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06" name="Oval 27"/>
          <p:cNvSpPr/>
          <p:nvPr/>
        </p:nvSpPr>
        <p:spPr>
          <a:xfrm>
            <a:off x="6585120" y="1281240"/>
            <a:ext cx="28548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Rectangle 13"/>
          <p:cNvGrpSpPr/>
          <p:nvPr/>
        </p:nvGrpSpPr>
        <p:grpSpPr>
          <a:xfrm>
            <a:off x="55440" y="858960"/>
            <a:ext cx="5967360" cy="3762360"/>
            <a:chOff x="55440" y="858960"/>
            <a:chExt cx="5967360" cy="3762360"/>
          </a:xfrm>
        </p:grpSpPr>
        <p:pic>
          <p:nvPicPr>
            <p:cNvPr id="109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7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42920" y="928800"/>
              <a:ext cx="5786280" cy="35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3 Cu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apresenta uma qualidade e nível de serviços superiores, que suportam um premium price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Uma eventual iniciativa da concorrência, de reforçara a área de tecnologia, pode provocar uma concorrência mais agressiva na área de produtos mais nobres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Por ser um produto commodity, o custo é um item fundamental e, além do local de produção, com seus custos de logísticas e de mão-de-obra associados, pode ter também fatores tributários e de custo de energia que podem ter um alto impact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2" name="Oval 27"/>
          <p:cNvSpPr/>
          <p:nvPr/>
        </p:nvSpPr>
        <p:spPr>
          <a:xfrm>
            <a:off x="6394320" y="1123920"/>
            <a:ext cx="285840" cy="28584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238320" y="71280"/>
            <a:ext cx="69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  <a:ea typeface="Tahoma"/>
              </a:rPr>
              <a:t>Matriz de Impacto e Incerteza – Spa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Rectangle 13"/>
          <p:cNvGrpSpPr/>
          <p:nvPr/>
        </p:nvGrpSpPr>
        <p:grpSpPr>
          <a:xfrm>
            <a:off x="55440" y="858960"/>
            <a:ext cx="5967360" cy="3547800"/>
            <a:chOff x="55440" y="858960"/>
            <a:chExt cx="5967360" cy="3547800"/>
          </a:xfrm>
        </p:grpSpPr>
        <p:pic>
          <p:nvPicPr>
            <p:cNvPr id="115" name="Rectangle 13" descr=""/>
            <p:cNvPicPr/>
            <p:nvPr/>
          </p:nvPicPr>
          <p:blipFill>
            <a:blip r:embed="rId1"/>
            <a:stretch/>
          </p:blipFill>
          <p:spPr>
            <a:xfrm>
              <a:off x="55440" y="858960"/>
              <a:ext cx="596736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42920" y="928800"/>
              <a:ext cx="5786280" cy="33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4 Mercado Ext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Atua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9280" indent="-179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fio Spandex é um produto de classe mundial, com uma base de unidades produtivas e de consumo nos cinco continentes, enquanto a concorrência está fixada primariamente na Ásia.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Futur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A unidade produtiva brasileira já exporta, como parte da teia de unidades produtivas globais, e pode ser uma unidade chave de fornecimento global caso tenha um aumento significativo de escala. </a:t>
              </a:r>
              <a:br>
                <a:rPr sz="1400"/>
              </a:b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Contexto:</a:t>
              </a:r>
              <a:br>
                <a:rPr sz="1400"/>
              </a:br>
              <a:r>
                <a:rPr b="0" lang="pt-BR" sz="1400" spc="-1" strike="noStrike">
                  <a:solidFill>
                    <a:srgbClr val="000000"/>
                  </a:solidFill>
                  <a:latin typeface="Calibri"/>
                </a:rPr>
                <a:t>O mercado externo sofreu  uma retração e vem se recuperando, mas menos que o mercado intern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6000840" y="857160"/>
            <a:ext cx="3071880" cy="1562040"/>
          </a:xfrm>
          <a:prstGeom prst="rect">
            <a:avLst/>
          </a:prstGeom>
          <a:ln w="0">
            <a:noFill/>
          </a:ln>
        </p:spPr>
      </p:pic>
      <p:sp>
        <p:nvSpPr>
          <p:cNvPr id="118" name="Oval 27"/>
          <p:cNvSpPr/>
          <p:nvPr/>
        </p:nvSpPr>
        <p:spPr>
          <a:xfrm>
            <a:off x="8234280" y="1133640"/>
            <a:ext cx="285840" cy="285480"/>
          </a:xfrm>
          <a:prstGeom prst="ellipse">
            <a:avLst/>
          </a:prstGeom>
          <a:solidFill>
            <a:srgbClr val="4f81bd">
              <a:alpha val="30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1:37:09Z</dcterms:created>
  <dc:creator>cuinm</dc:creator>
  <dc:description/>
  <dc:language>en-US</dc:language>
  <cp:lastModifiedBy>wwm017</cp:lastModifiedBy>
  <dcterms:modified xsi:type="dcterms:W3CDTF">2010-04-15T00:28:54Z</dcterms:modified>
  <cp:revision>69</cp:revision>
  <dc:subject/>
  <dc:title>Slide 1</dc:title>
</cp:coreProperties>
</file>